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D114-4B03-4AA6-96DC-172CF5C5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7A83-D02B-4749-8931-D35F960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749C-B9B9-4E27-BA7C-E4973628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0173-633C-4F04-91B6-75D33DA5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CCC2-E1F8-422B-946B-2ED4247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688A-9111-44A9-91CA-12A96CA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29E4-871A-4414-B209-F24CBEA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7FCB-A713-4ACD-8580-725DB28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5D07-5EA4-4623-8E93-678CFDE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714C-870D-410C-BBBE-4F4D67C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FD4A-B2DC-4BE7-B65B-A5C2887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7C4E-A2C3-404A-AE0E-6ED11D1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8472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3B9-9DD6-4AC8-A6ED-46B711CE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4" name="Picture 385" descr=""/>
          <p:cNvPicPr/>
          <p:nvPr/>
        </p:nvPicPr>
        <p:blipFill>
          <a:blip r:embed="rId2"/>
          <a:stretch/>
        </p:blipFill>
        <p:spPr>
          <a:xfrm>
            <a:off x="1403280" y="4428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8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176120"/>
            <a:ext cx="8229600" cy="510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G:\blog_or_not1.jpg"/>
          <p:cNvPicPr/>
          <p:nvPr/>
        </p:nvPicPr>
        <p:blipFill>
          <a:blip r:embed="rId2"/>
          <a:stretch/>
        </p:blipFill>
        <p:spPr>
          <a:xfrm>
            <a:off x="1763640" y="1330200"/>
            <a:ext cx="61531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Algunas sugerencia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Publicar los mejores trabajos de los estudiantes para que se discutan y dejen comentarios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Muestrear trabajos para que los estudiantes ofrezcan retroalimentación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Discutir problemas de la brigada,  personal y otros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Descargar un artículo, llevarlo y después traer el comentario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Diagrama" descr=""/>
          <p:cNvPicPr/>
          <p:nvPr/>
        </p:nvPicPr>
        <p:blipFill>
          <a:blip r:embed="rId1"/>
          <a:stretch/>
        </p:blipFill>
        <p:spPr>
          <a:xfrm>
            <a:off x="347760" y="1262160"/>
            <a:ext cx="8345520" cy="508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5508720" y="65160"/>
            <a:ext cx="3133800" cy="1914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500280"/>
            <a:ext cx="8424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ómo combinar el uso del blog con la clase presencial en la clase de lengua extranjera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158920" y="5013360"/>
            <a:ext cx="698508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5281"/>
                </a:solidFill>
                <a:latin typeface="Arial"/>
              </a:rPr>
              <a:t>DrC Miriam</a:t>
            </a:r>
            <a:r>
              <a:rPr b="1" lang="es-ES" sz="28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1f5281"/>
                </a:solidFill>
                <a:latin typeface="Arial"/>
              </a:rPr>
              <a:t>López Serrano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Objetivo: demostrar el uso del blog como herramienta de comunicación complementaria de la clase de lengua extranjera presencial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91" name="Picture 2" descr="G:\blog_or_not1.jpg"/>
          <p:cNvPicPr/>
          <p:nvPr/>
        </p:nvPicPr>
        <p:blipFill>
          <a:blip r:embed="rId1"/>
          <a:stretch/>
        </p:blipFill>
        <p:spPr>
          <a:xfrm>
            <a:off x="5076720" y="10526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Filosofía de uso 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Problematización, creatividad y utilidad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Complemento de la clase presencia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Posibilidades de mejorar el desempeño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Contenidos significativos y relevantes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De fácil manejo (user-friendly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Respuesta oportuna y consciente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Intercambio e interacción (aprendizaje colaborativo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Reconocimiento a las participaciones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Organizació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1f5281"/>
                </a:solidFill>
                <a:latin typeface="Verdana"/>
              </a:rPr>
              <a:t>Diferentes categorías </a:t>
            </a:r>
            <a:endParaRPr b="0" lang="en-US" sz="36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481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Language skills practice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481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Personal growth ( empowerment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481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Research and work-oriented components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481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Written communication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481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Articles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1f5281"/>
                </a:solidFill>
                <a:latin typeface="Arial"/>
              </a:rPr>
              <a:t>     </a:t>
            </a:r>
            <a:r>
              <a:rPr b="1" i="1" lang="es-ES" sz="4400" spc="-1" strike="noStrike">
                <a:solidFill>
                  <a:srgbClr val="1f5281"/>
                </a:solidFill>
                <a:latin typeface="Arial"/>
              </a:rPr>
              <a:t>Uso</a:t>
            </a:r>
            <a:r>
              <a:rPr b="1" i="1" lang="es-ES" sz="48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1" i="1" lang="es-ES" sz="4400" spc="-1" strike="noStrike">
                <a:solidFill>
                  <a:srgbClr val="1f5281"/>
                </a:solidFill>
                <a:latin typeface="Arial"/>
              </a:rPr>
              <a:t>de hipervínculos</a:t>
            </a:r>
            <a:endParaRPr b="0" lang="en-US" sz="4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pic>
        <p:nvPicPr>
          <p:cNvPr id="9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158840"/>
            <a:ext cx="8242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Dejar la tarea para que sea respondida en el blog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Extender la discusión de la clase al blog y del blog a la clase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Seleccionar los mejores comentarios: argumentos en contra, que  invitan a la reflexión, nuevos puntos de vista,  que presentan preocupaciones, situaciones en la PD, en el TCE, otros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Algunas sugerencia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Algunas sugerencia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Se escucha un podcast a debatir en el aula o en el blog. (trabajo con la comprensión auditiva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Se culmina una actividad del aula (factor tiempo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Se amplía la posibilidad de evaluar a los estudiantes ( aquellos que no asistieron a la clase presencial)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f5281"/>
                </a:solidFill>
                <a:latin typeface="Verdana"/>
              </a:rPr>
              <a:t>Algunas sugerencia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Mejorar la participación y evaluación de la clase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Debatir problemas en la PD: situaciones de manejo del aula, dudas de carácter metodológico, experiencias en cuanto a la realización del TCE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1f5281"/>
                </a:solidFill>
                <a:latin typeface="Arial"/>
              </a:rPr>
              <a:t>Pedir consejos  y ofrecer sugerencias.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7:49Z</dcterms:created>
  <dc:creator>Educación a Distancia</dc:creator>
  <dc:description/>
  <dc:language>en-US</dc:language>
  <cp:lastModifiedBy>Och</cp:lastModifiedBy>
  <dcterms:modified xsi:type="dcterms:W3CDTF">2014-09-12T17:48:27Z</dcterms:modified>
  <cp:revision>140</cp:revision>
  <dc:subject/>
  <dc:title>PowerPoint  Template</dc:title>
</cp:coreProperties>
</file>