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3A2-0A52-4B01-8192-BECF0454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C25-E392-49D3-9D90-73EE820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1A4-6880-4ADA-A053-8AF73560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2A0-430D-44EB-8347-C9C3E55D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91F-B23D-4C0F-95DC-01BC9BD8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5C7-FDB6-4DE5-B194-1D798DB0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1B7-2804-44DC-BA6C-F3F11F9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0ED-213B-4111-BA4D-3D1E593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E0D-CB9D-4607-805B-407D567B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3AB-03C8-4973-93F4-A8F5A18C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BB3-93EB-44F4-A8AF-048A8DC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ADE-DE98-4150-9834-DE6FD49B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8AF-2F61-4036-88E2-416C8F5D642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2270160" y="0"/>
            <a:ext cx="3678120" cy="417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Jennifer 36"/>
          <p:cNvPicPr/>
          <p:nvPr/>
        </p:nvPicPr>
        <p:blipFill>
          <a:blip r:embed="rId2"/>
          <a:stretch/>
        </p:blipFill>
        <p:spPr>
          <a:xfrm rot="842400">
            <a:off x="5435640" y="549360"/>
            <a:ext cx="2857320" cy="32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116000" y="3284640"/>
          <a:ext cx="2243160" cy="29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284640"/>
                    <a:ext cx="22431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ronaldo"/>
          <p:cNvPicPr/>
          <p:nvPr/>
        </p:nvPicPr>
        <p:blipFill>
          <a:blip r:embed="rId5"/>
          <a:stretch/>
        </p:blipFill>
        <p:spPr>
          <a:xfrm rot="20083200">
            <a:off x="498600" y="541440"/>
            <a:ext cx="2382840" cy="295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Anthony"/>
          <p:cNvPicPr/>
          <p:nvPr/>
        </p:nvPicPr>
        <p:blipFill>
          <a:blip r:embed="rId6"/>
          <a:stretch/>
        </p:blipFill>
        <p:spPr>
          <a:xfrm>
            <a:off x="3276720" y="3429000"/>
            <a:ext cx="2663640" cy="28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7"/>
          <a:srcRect l="0" t="0" r="0" b="11813"/>
          <a:stretch/>
        </p:blipFill>
        <p:spPr>
          <a:xfrm rot="948000">
            <a:off x="5651280" y="3357720"/>
            <a:ext cx="3008160" cy="25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95280" y="5805360"/>
            <a:ext cx="7543800" cy="76428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hat do they look like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19280" y="385920"/>
            <a:ext cx="7705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059280" y="404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other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059280" y="1268280"/>
            <a:ext cx="5905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Age : (?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79280" y="436572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he is short./  He’s thi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hey’re strong.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19280" y="385920"/>
            <a:ext cx="77058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peopl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ysical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79640" y="1547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What  do/does … look like?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852720" y="3278160"/>
            <a:ext cx="4464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short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pretty    ug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612720" y="42433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3132000" y="3284640"/>
            <a:ext cx="863640" cy="3168720"/>
          </a:xfrm>
          <a:custGeom>
            <a:avLst/>
            <a:gdLst>
              <a:gd name="textAreaLeft" fmla="*/ 0 w 863640"/>
              <a:gd name="textAreaRight" fmla="*/ 311760 w 863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19280" y="385920"/>
            <a:ext cx="77058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peopl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ysical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979640" y="1547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What  do/does … look like?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52720" y="3278160"/>
            <a:ext cx="4464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short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pretty    ug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2720" y="42433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3132000" y="3284640"/>
            <a:ext cx="863640" cy="3168720"/>
          </a:xfrm>
          <a:custGeom>
            <a:avLst/>
            <a:gdLst>
              <a:gd name="textAreaLeft" fmla="*/ 0 w 863640"/>
              <a:gd name="textAreaRight" fmla="*/ 311760 w 863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50920" y="209160"/>
            <a:ext cx="2939040" cy="1995840"/>
            <a:chOff x="250920" y="209160"/>
            <a:chExt cx="2939040" cy="1995840"/>
          </a:xfrm>
        </p:grpSpPr>
        <p:pic>
          <p:nvPicPr>
            <p:cNvPr id="89" name="Picture 9" descr="j0199371"/>
            <p:cNvPicPr/>
            <p:nvPr/>
          </p:nvPicPr>
          <p:blipFill>
            <a:blip r:embed="rId1"/>
            <a:stretch/>
          </p:blipFill>
          <p:spPr>
            <a:xfrm>
              <a:off x="250920" y="54936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 rot="20385000">
              <a:off x="612360" y="62064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j0297265"/>
          <p:cNvPicPr/>
          <p:nvPr/>
        </p:nvPicPr>
        <p:blipFill>
          <a:blip r:embed="rId1"/>
          <a:stretch/>
        </p:blipFill>
        <p:spPr>
          <a:xfrm>
            <a:off x="277164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468360" y="40464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17280" y="0"/>
            <a:ext cx="8963280" cy="6240600"/>
            <a:chOff x="-17280" y="0"/>
            <a:chExt cx="8963280" cy="624060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rcRect l="0" t="0" r="0" b="4765"/>
            <a:stretch/>
          </p:blipFill>
          <p:spPr>
            <a:xfrm>
              <a:off x="2270160" y="0"/>
              <a:ext cx="3678120" cy="417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Jennifer 36"/>
            <p:cNvPicPr/>
            <p:nvPr/>
          </p:nvPicPr>
          <p:blipFill>
            <a:blip r:embed="rId2"/>
            <a:stretch/>
          </p:blipFill>
          <p:spPr>
            <a:xfrm rot="842400">
              <a:off x="5435640" y="549360"/>
              <a:ext cx="2857320" cy="3235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6" name="Object 5"/>
            <p:cNvGraphicFramePr/>
            <p:nvPr/>
          </p:nvGraphicFramePr>
          <p:xfrm>
            <a:off x="1116000" y="3284640"/>
            <a:ext cx="2243160" cy="29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16000" y="3284640"/>
                      <a:ext cx="2243160" cy="29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6" descr="ronaldo"/>
            <p:cNvPicPr/>
            <p:nvPr/>
          </p:nvPicPr>
          <p:blipFill>
            <a:blip r:embed="rId5"/>
            <a:stretch/>
          </p:blipFill>
          <p:spPr>
            <a:xfrm rot="20083200">
              <a:off x="498600" y="541440"/>
              <a:ext cx="2382840" cy="29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7" descr="MAnthony"/>
            <p:cNvPicPr/>
            <p:nvPr/>
          </p:nvPicPr>
          <p:blipFill>
            <a:blip r:embed="rId6"/>
            <a:stretch/>
          </p:blipFill>
          <p:spPr>
            <a:xfrm>
              <a:off x="3276720" y="3429000"/>
              <a:ext cx="266364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"/>
            <p:cNvPicPr/>
            <p:nvPr/>
          </p:nvPicPr>
          <p:blipFill>
            <a:blip r:embed="rId7"/>
            <a:srcRect l="0" t="0" r="0" b="11813"/>
            <a:stretch/>
          </p:blipFill>
          <p:spPr>
            <a:xfrm rot="948000">
              <a:off x="5651280" y="3357720"/>
              <a:ext cx="300816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9"/>
            <p:cNvSpPr/>
            <p:nvPr/>
          </p:nvSpPr>
          <p:spPr>
            <a:xfrm>
              <a:off x="1258920" y="393372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8317080" y="765000"/>
              <a:ext cx="57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5003640" y="4428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1692360" y="549360"/>
              <a:ext cx="57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5003640" y="330660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8028000" y="501336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5"/>
          <p:cNvSpPr/>
          <p:nvPr/>
        </p:nvSpPr>
        <p:spPr>
          <a:xfrm>
            <a:off x="395280" y="5805360"/>
            <a:ext cx="7543800" cy="76428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hat do they look like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ronaldo"/>
          <p:cNvPicPr/>
          <p:nvPr/>
        </p:nvPicPr>
        <p:blipFill>
          <a:blip r:embed="rId1"/>
          <a:stretch/>
        </p:blipFill>
        <p:spPr>
          <a:xfrm>
            <a:off x="498600" y="333360"/>
            <a:ext cx="18414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250920" y="3500280"/>
            <a:ext cx="5905440" cy="143460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he’s Jennifer Lopez She’s  very pretty.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357280" y="620640"/>
            <a:ext cx="6786720" cy="143460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s name is Ronaldo. He’s strong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Jennifer 36"/>
          <p:cNvPicPr/>
          <p:nvPr/>
        </p:nvPicPr>
        <p:blipFill>
          <a:blip r:embed="rId2"/>
          <a:stretch/>
        </p:blipFill>
        <p:spPr>
          <a:xfrm>
            <a:off x="6178680" y="2421000"/>
            <a:ext cx="2857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250920" y="0"/>
            <a:ext cx="2671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0" t="0" r="0" b="11813"/>
          <a:stretch/>
        </p:blipFill>
        <p:spPr>
          <a:xfrm>
            <a:off x="6732720" y="3357720"/>
            <a:ext cx="2232000" cy="252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3076560" y="549360"/>
            <a:ext cx="5959440" cy="210492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is is Brat Pitt. He is an actor. He is very handsom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00000" y="3097080"/>
            <a:ext cx="532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er name is Jodie Foster. She is thin. She’s got blue eyes and straight long hair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4932360" y="0"/>
            <a:ext cx="4465800" cy="2736720"/>
          </a:xfrm>
          <a:prstGeom prst="cloudCallout">
            <a:avLst>
              <a:gd name="adj1" fmla="val -19143"/>
              <a:gd name="adj2" fmla="val 6490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84360" y="2060640"/>
            <a:ext cx="5327640" cy="2089080"/>
          </a:xfrm>
          <a:prstGeom prst="wedgeEllipseCallout">
            <a:avLst>
              <a:gd name="adj1" fmla="val -37546"/>
              <a:gd name="adj2" fmla="val 9528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mic Sans MS"/>
              </a:rPr>
              <a:t>What does your girlfriend look like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ROSELEIDYS05"/>
          <p:cNvPicPr/>
          <p:nvPr/>
        </p:nvPicPr>
        <p:blipFill>
          <a:blip r:embed="rId1"/>
          <a:stretch/>
        </p:blipFill>
        <p:spPr>
          <a:xfrm>
            <a:off x="6372360" y="404640"/>
            <a:ext cx="1871640" cy="18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16020"/>
          <p:cNvPicPr/>
          <p:nvPr/>
        </p:nvPicPr>
        <p:blipFill>
          <a:blip r:embed="rId2"/>
          <a:stretch/>
        </p:blipFill>
        <p:spPr>
          <a:xfrm>
            <a:off x="250920" y="4437000"/>
            <a:ext cx="1549440" cy="21970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6588000" y="2708280"/>
            <a:ext cx="2232000" cy="1833480"/>
          </a:xfrm>
          <a:prstGeom prst="wedgeEllipseCallout">
            <a:avLst>
              <a:gd name="adj1" fmla="val 47439"/>
              <a:gd name="adj2" fmla="val 7034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j0284961"/>
          <p:cNvPicPr/>
          <p:nvPr/>
        </p:nvPicPr>
        <p:blipFill>
          <a:blip r:embed="rId3"/>
          <a:stretch/>
        </p:blipFill>
        <p:spPr>
          <a:xfrm>
            <a:off x="7842240" y="4876920"/>
            <a:ext cx="1301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324000" y="404640"/>
            <a:ext cx="5256000" cy="2737080"/>
          </a:xfrm>
          <a:prstGeom prst="cloudCallout">
            <a:avLst>
              <a:gd name="adj1" fmla="val 39037"/>
              <a:gd name="adj2" fmla="val 5289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ROSELEIDYS05"/>
          <p:cNvPicPr/>
          <p:nvPr/>
        </p:nvPicPr>
        <p:blipFill>
          <a:blip r:embed="rId1"/>
          <a:stretch/>
        </p:blipFill>
        <p:spPr>
          <a:xfrm>
            <a:off x="6372360" y="144360"/>
            <a:ext cx="237636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"/>
          <p:cNvSpPr/>
          <p:nvPr/>
        </p:nvSpPr>
        <p:spPr>
          <a:xfrm>
            <a:off x="2124000" y="3213000"/>
            <a:ext cx="4824360" cy="1833840"/>
          </a:xfrm>
          <a:prstGeom prst="wedgeEllipseCallout">
            <a:avLst>
              <a:gd name="adj1" fmla="val 69611"/>
              <a:gd name="adj2" fmla="val 760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284961"/>
          <p:cNvPicPr/>
          <p:nvPr/>
        </p:nvPicPr>
        <p:blipFill>
          <a:blip r:embed="rId2"/>
          <a:stretch/>
        </p:blipFill>
        <p:spPr>
          <a:xfrm>
            <a:off x="7842240" y="4876920"/>
            <a:ext cx="130176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900000" y="797040"/>
            <a:ext cx="6336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Her name is Rosie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She is  15 years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old. 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916360" y="3284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She’s young and prett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549360"/>
            <a:ext cx="874872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000000"/>
                </a:solidFill>
                <a:latin typeface="Times New Roman"/>
              </a:rPr>
              <a:t>Suppose you received a letter from a pen friend, who wants to know how you are.  In your reply, </a:t>
            </a:r>
            <a:r>
              <a:rPr b="1" i="1" lang="es-MX" sz="4800" spc="-1" strike="noStrike">
                <a:solidFill>
                  <a:srgbClr val="ffff00"/>
                </a:solidFill>
                <a:latin typeface="Times New Roman"/>
              </a:rPr>
              <a:t>describe yourself</a:t>
            </a:r>
            <a:r>
              <a:rPr b="1" i="1" lang="es-MX" sz="4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5280" y="-27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e the Spanish equivalent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628640"/>
            <a:ext cx="72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5280" y="152244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            shor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young             old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eavy              thin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      ug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rich                poor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rge             small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noisy             quie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-27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e the Spanish equivalent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1628640"/>
            <a:ext cx="72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1522440"/>
            <a:ext cx="914544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      =  alto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young       =  joven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eavy        =  pesado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 = buen tipo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rich          = rico   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rge        = grande, amplio 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noisy         = ruidoso 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-27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e the Spanish equivalent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00000" y="1628640"/>
            <a:ext cx="72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1522440"/>
            <a:ext cx="874872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short  =  bajito, cort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old     =  viej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thin   =  delgad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ugly   =  fe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poor   =  pobre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small  =  pequeñ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quiet  =  silencioso, tranquil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26920" y="620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descriptio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26920" y="1773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____. I’m Dolly. ____ a model. I’m _____,I’m _____ and _____. I have blue eyes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j0297265"/>
          <p:cNvPicPr/>
          <p:nvPr/>
        </p:nvPicPr>
        <p:blipFill>
          <a:blip r:embed="rId1"/>
          <a:stretch/>
        </p:blipFill>
        <p:spPr>
          <a:xfrm>
            <a:off x="3286080" y="3500280"/>
            <a:ext cx="2952720" cy="2476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468360" y="404640"/>
            <a:ext cx="7632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OSSIBLE      ANSWER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826920" y="620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descriptio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26920" y="1773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i!.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I’m Dolly. I’m  a model. I’m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young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. I’m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thin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beautiful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. I have blue eyes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619280" y="385920"/>
            <a:ext cx="7705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59280" y="404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oneself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59280" y="1268280"/>
            <a:ext cx="5905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Age : (?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9640" y="4365720"/>
            <a:ext cx="748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am short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’m thi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1:23:27Z</dcterms:created>
  <dc:creator>MINED</dc:creator>
  <dc:description/>
  <dc:language>en-US</dc:language>
  <cp:lastModifiedBy>Maria de los Angeles</cp:lastModifiedBy>
  <dcterms:modified xsi:type="dcterms:W3CDTF">2013-10-30T09:08:18Z</dcterms:modified>
  <cp:revision>35</cp:revision>
  <dc:subject/>
  <dc:title>Sin título de diapositiva</dc:title>
</cp:coreProperties>
</file>