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2B3-5866-4022-9363-3A67BE6E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FE8-9705-4D53-AB7F-18F0967E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D08-84E0-4B6B-8402-9D7AEBBD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F20-E3EA-4460-B7C3-DFA3F4AE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D64-A6F1-40A3-AABA-FCC29475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B67-84AE-4CA1-985B-6DB9B061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D31-F5CE-4F21-9674-8B122951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C87-76AD-46F0-A00C-0D047F80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D80-E393-4933-B2E1-F6EEA363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8B8-5383-47DB-A80D-1AF45541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A1D-3960-4A43-A941-0E29F387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C11-7565-4773-997F-9C434E36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8002-D146-41FD-9DF3-F6C63EE61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5219640" y="1413000"/>
            <a:ext cx="31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Picture 4" descr="J0182791"/>
          <p:cNvPicPr/>
          <p:nvPr/>
        </p:nvPicPr>
        <p:blipFill>
          <a:blip r:embed="rId1"/>
          <a:stretch/>
        </p:blipFill>
        <p:spPr>
          <a:xfrm>
            <a:off x="6718320" y="0"/>
            <a:ext cx="2425680" cy="2421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J0178790"/>
          <p:cNvPicPr/>
          <p:nvPr/>
        </p:nvPicPr>
        <p:blipFill>
          <a:blip r:embed="rId2"/>
          <a:stretch/>
        </p:blipFill>
        <p:spPr>
          <a:xfrm>
            <a:off x="0" y="3573360"/>
            <a:ext cx="3276720" cy="3284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971640" y="404640"/>
            <a:ext cx="5329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Asking for 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and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780000" y="4149720"/>
            <a:ext cx="51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Giving Advice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68360" y="349200"/>
            <a:ext cx="8496360" cy="79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: My doctor told me that I   ( must- should- may) lose some weigh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: Do you  ( must- have to- should) stop eating ice cream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68360" y="115920"/>
            <a:ext cx="8496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: I ( mustn’t-shouldn’t-may not) eat as much ice cream as I did befor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00040" y="1428840"/>
            <a:ext cx="734544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s-ES_tradnl" sz="8800" spc="-1" strike="noStrike">
                <a:solidFill>
                  <a:srgbClr val="ffff00"/>
                </a:solidFill>
                <a:latin typeface="Times New Roman"/>
              </a:rPr>
              <a:t>POSSIBLE ANSWERS </a:t>
            </a:r>
            <a:endParaRPr b="1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68360" y="349200"/>
            <a:ext cx="8496360" cy="79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: My doctor told me that I   (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must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- should- may) lose some weight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B: Do you  ( must-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have to-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should) stop eating ice cream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68360" y="115920"/>
            <a:ext cx="8496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A: I (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ustn’t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-shouldn’t-may not) eat as much ice cream as I did befor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468360" y="2492280"/>
            <a:ext cx="83534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ust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s only used in the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present tens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Have to /has to 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for the other tenses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987640" y="40464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have to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22320" y="2712960"/>
            <a:ext cx="41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Loud music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43040" y="3503520"/>
            <a:ext cx="418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hearing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 flipV="1" rot="10800000">
            <a:off x="4641480" y="34300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Low music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11040" y="4294080"/>
            <a:ext cx="42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headphones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345920" y="817560"/>
            <a:ext cx="418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00"/>
                </a:solidFill>
                <a:latin typeface="Times New Roman"/>
              </a:rPr>
              <a:t>Vocabulary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7" descr="j0299063"/>
          <p:cNvPicPr/>
          <p:nvPr/>
        </p:nvPicPr>
        <p:blipFill>
          <a:blip r:embed="rId1"/>
          <a:stretch/>
        </p:blipFill>
        <p:spPr>
          <a:xfrm>
            <a:off x="971640" y="549360"/>
            <a:ext cx="1596960" cy="1784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4638600" y="5014800"/>
            <a:ext cx="37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To be deaf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 flipV="1" rot="10800000">
            <a:off x="2771640" y="5660640"/>
            <a:ext cx="648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Whatever you say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68360" y="44280"/>
            <a:ext cx="8280360" cy="67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Complete: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icholas: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____ I stop  listening to ____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octor: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You _____to stop, but you ____ ____listening to loud rock music  in your headphon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00040" y="1428840"/>
            <a:ext cx="734544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9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s-ES_tradnl" sz="8800" spc="-1" strike="noStrike">
                <a:solidFill>
                  <a:srgbClr val="ffff00"/>
                </a:solidFill>
                <a:latin typeface="Times New Roman"/>
              </a:rPr>
              <a:t>POSSIBLE ANSWERS </a:t>
            </a:r>
            <a:endParaRPr b="1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"/>
          <p:cNvSpPr/>
          <p:nvPr/>
        </p:nvSpPr>
        <p:spPr>
          <a:xfrm>
            <a:off x="5219640" y="1413000"/>
            <a:ext cx="31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13" descr="J0182791"/>
          <p:cNvPicPr/>
          <p:nvPr/>
        </p:nvPicPr>
        <p:blipFill>
          <a:blip r:embed="rId1"/>
          <a:stretch/>
        </p:blipFill>
        <p:spPr>
          <a:xfrm>
            <a:off x="6718320" y="0"/>
            <a:ext cx="2425680" cy="242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J0178790"/>
          <p:cNvPicPr/>
          <p:nvPr/>
        </p:nvPicPr>
        <p:blipFill>
          <a:blip r:embed="rId2"/>
          <a:stretch/>
        </p:blipFill>
        <p:spPr>
          <a:xfrm>
            <a:off x="0" y="3860640"/>
            <a:ext cx="3276720" cy="2997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6"/>
          <p:cNvSpPr/>
          <p:nvPr/>
        </p:nvSpPr>
        <p:spPr>
          <a:xfrm>
            <a:off x="900000" y="133200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What should I do, doctor?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18"/>
          <p:cNvSpPr/>
          <p:nvPr/>
        </p:nvSpPr>
        <p:spPr>
          <a:xfrm>
            <a:off x="395280" y="260280"/>
            <a:ext cx="5832360" cy="3529080"/>
          </a:xfrm>
          <a:prstGeom prst="cloudCallout">
            <a:avLst>
              <a:gd name="adj1" fmla="val -16986"/>
              <a:gd name="adj2" fmla="val 38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95280" y="-387360"/>
            <a:ext cx="8748720" cy="67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icholas: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Shoul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I stop  listening to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music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octor: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You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don’t  have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to stop, but you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must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stop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listening to loud rock music  in your  headphon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24000" y="476280"/>
            <a:ext cx="860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0" spc="-1" strike="noStrike">
                <a:solidFill>
                  <a:srgbClr val="ffffff"/>
                </a:solidFill>
                <a:latin typeface="Times New Roman"/>
              </a:rPr>
              <a:t>Practice the conversation  with your  partner</a:t>
            </a:r>
            <a:endParaRPr b="1" i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4" descr="j0285466"/>
          <p:cNvPicPr/>
          <p:nvPr/>
        </p:nvPicPr>
        <p:blipFill>
          <a:blip r:embed="rId1"/>
          <a:stretch/>
        </p:blipFill>
        <p:spPr>
          <a:xfrm>
            <a:off x="5796000" y="4797360"/>
            <a:ext cx="3097080" cy="16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5280" y="512640"/>
            <a:ext cx="87487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Nicholas: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5400" spc="-1" strike="noStrike" u="sng">
                <a:solidFill>
                  <a:srgbClr val="ffffff"/>
                </a:solidFill>
                <a:uFillTx/>
                <a:latin typeface="Times New Roman"/>
              </a:rPr>
              <a:t>Shoul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I stop  listening to </a:t>
            </a:r>
            <a:r>
              <a:rPr b="1" i="1" lang="es-ES_tradnl" sz="5400" spc="-1" strike="noStrike" u="sng">
                <a:solidFill>
                  <a:srgbClr val="ffffff"/>
                </a:solidFill>
                <a:uFillTx/>
                <a:latin typeface="Times New Roman"/>
              </a:rPr>
              <a:t>music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Doctor: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You  </a:t>
            </a:r>
            <a:r>
              <a:rPr b="1" i="1" lang="es-ES_tradnl" sz="5400" spc="-1" strike="noStrike" u="sng">
                <a:solidFill>
                  <a:srgbClr val="ffffff"/>
                </a:solidFill>
                <a:uFillTx/>
                <a:latin typeface="Times New Roman"/>
              </a:rPr>
              <a:t>don’t  have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to stop, but you </a:t>
            </a:r>
            <a:r>
              <a:rPr b="1" i="1" lang="es-ES_tradnl" sz="54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5400" spc="-1" strike="noStrike" u="sng">
                <a:solidFill>
                  <a:srgbClr val="ffffff"/>
                </a:solidFill>
                <a:uFillTx/>
                <a:latin typeface="Times New Roman"/>
              </a:rPr>
              <a:t>stop</a:t>
            </a:r>
            <a:r>
              <a:rPr b="1" i="1" lang="es-ES_tradnl" sz="5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listening to loud rock music  in your headphon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62064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What  advice  will you give  people to lose weight?</a:t>
            </a:r>
            <a:endParaRPr b="1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11280" y="333360"/>
            <a:ext cx="784836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at  fewer potatoes and less rice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at  more  green vegetabl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at less fatty food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376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Exercis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700360" y="476280"/>
            <a:ext cx="57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To give  advic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050920" y="1989000"/>
            <a:ext cx="83534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must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should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987800" y="692280"/>
            <a:ext cx="325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08000" y="2781360"/>
            <a:ext cx="90723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s-MX" sz="6000" spc="-1" strike="noStrike">
                <a:solidFill>
                  <a:srgbClr val="ffff00"/>
                </a:solidFill>
                <a:latin typeface="Times New Roman"/>
              </a:rPr>
              <a:t>Necessity: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MX" sz="6000" spc="-1" strike="noStrike">
                <a:solidFill>
                  <a:srgbClr val="ffffff"/>
                </a:solidFill>
                <a:latin typeface="Times New Roman"/>
              </a:rPr>
              <a:t>Brian has a terrible pain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6000" spc="-1" strike="noStrike">
                <a:solidFill>
                  <a:srgbClr val="ffffff"/>
                </a:solidFill>
                <a:latin typeface="Times New Roman"/>
              </a:rPr>
              <a:t>in his right arm. He </a:t>
            </a:r>
            <a:r>
              <a:rPr b="1" i="1" lang="es-MX" sz="60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0" i="1" lang="es-MX" sz="6000" spc="-1" strike="noStrike">
                <a:solidFill>
                  <a:srgbClr val="ffffff"/>
                </a:solidFill>
                <a:latin typeface="Times New Roman"/>
              </a:rPr>
              <a:t> see a doctor.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5" descr="j0287167"/>
          <p:cNvPicPr/>
          <p:nvPr/>
        </p:nvPicPr>
        <p:blipFill>
          <a:blip r:embed="rId1"/>
          <a:stretch/>
        </p:blipFill>
        <p:spPr>
          <a:xfrm>
            <a:off x="1116000" y="476280"/>
            <a:ext cx="1954080" cy="25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916160" y="692280"/>
            <a:ext cx="325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08000" y="3103560"/>
            <a:ext cx="903600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00"/>
                </a:solidFill>
                <a:latin typeface="Times New Roman"/>
              </a:rPr>
              <a:t>Obligation: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MX" sz="6000" spc="-1" strike="noStrike">
                <a:solidFill>
                  <a:srgbClr val="ffffff"/>
                </a:solidFill>
                <a:latin typeface="Times New Roman"/>
              </a:rPr>
              <a:t>The doctor said: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5400" spc="-1" strike="noStrike">
                <a:solidFill>
                  <a:srgbClr val="ffffff"/>
                </a:solidFill>
                <a:latin typeface="Times New Roman"/>
              </a:rPr>
              <a:t>¨You </a:t>
            </a:r>
            <a:r>
              <a:rPr b="1" i="1" lang="es-MX" sz="5400" spc="-1" strike="noStrike">
                <a:solidFill>
                  <a:srgbClr val="ffff00"/>
                </a:solidFill>
                <a:latin typeface="Times New Roman"/>
              </a:rPr>
              <a:t>must </a:t>
            </a: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stop smoking</a:t>
            </a:r>
            <a:r>
              <a:rPr b="0" i="1" lang="es-MX" sz="5400" spc="-1" strike="noStrike">
                <a:solidFill>
                  <a:srgbClr val="ffffff"/>
                </a:solidFill>
                <a:latin typeface="Times New Roman"/>
              </a:rPr>
              <a:t> .¨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7" descr="j0289289"/>
          <p:cNvPicPr/>
          <p:nvPr/>
        </p:nvPicPr>
        <p:blipFill>
          <a:blip r:embed="rId1"/>
          <a:stretch/>
        </p:blipFill>
        <p:spPr>
          <a:xfrm>
            <a:off x="395280" y="476280"/>
            <a:ext cx="3097080" cy="22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916160" y="765000"/>
            <a:ext cx="325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1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48000"/>
            <a:ext cx="86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You have to lose weight. So, you</a:t>
            </a:r>
            <a:r>
              <a:rPr b="0" i="1" lang="es-MX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MX" sz="5400" spc="-1" strike="noStrike">
                <a:solidFill>
                  <a:srgbClr val="ffff00"/>
                </a:solidFill>
                <a:latin typeface="Times New Roman"/>
              </a:rPr>
              <a:t>should  </a:t>
            </a: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eat  vegetables.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6" descr="j0198031"/>
          <p:cNvPicPr/>
          <p:nvPr/>
        </p:nvPicPr>
        <p:blipFill>
          <a:blip r:embed="rId1"/>
          <a:stretch/>
        </p:blipFill>
        <p:spPr>
          <a:xfrm>
            <a:off x="395280" y="260280"/>
            <a:ext cx="2849400" cy="21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j0297265"/>
          <p:cNvPicPr/>
          <p:nvPr/>
        </p:nvPicPr>
        <p:blipFill>
          <a:blip r:embed="rId1"/>
          <a:stretch/>
        </p:blipFill>
        <p:spPr>
          <a:xfrm>
            <a:off x="2843280" y="2205000"/>
            <a:ext cx="2952720" cy="2476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395280" y="333360"/>
            <a:ext cx="763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_tradnl" sz="117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1" i="1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6:04:22Z</dcterms:created>
  <dc:creator>LTEL</dc:creator>
  <dc:description/>
  <dc:language>en-US</dc:language>
  <cp:lastModifiedBy>Maria de los Angeles</cp:lastModifiedBy>
  <dcterms:modified xsi:type="dcterms:W3CDTF">2013-10-07T08:11:38Z</dcterms:modified>
  <cp:revision>63</cp:revision>
  <dc:subject/>
  <dc:title>Diapositiva 1</dc:title>
</cp:coreProperties>
</file>