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EEF-C9BC-4804-9B82-FD095215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EE4-66B2-49FF-B569-26A2E2F5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1C0-D751-4918-92FE-3911874E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710-D078-4C85-A368-D57ED2C8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BEB-3782-4C15-90E9-3804414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095-94EA-4CF2-92DA-CD4467DA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50B-8EEA-4E0D-9F1D-00DE9263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397-7AE7-426F-912C-CA666B1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324-7ED6-4198-BC73-249C0D5F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D0E-324B-4C1F-A764-0E32DE2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2FB-3AD3-46C8-A501-83240C2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CCE-2A84-411E-A62E-775955E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1AE-0A28-4F09-A4E9-59413BAA5C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Asking for infor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from Mexico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’m no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live at 235 Main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n’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from Mexico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n´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illiam Chen lives at __ __ __ River Str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) He (lives / doesn´t live) in Brookly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is telephone number is 469 __ __ __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is social security number is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044 __ __ __ 86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illiam lives a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69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iver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liv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in Brookly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is telephone number is 469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775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is social security number is 044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359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86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k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Jorge (Ana) Sánch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from Cara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s your telephone number in Havana 838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k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Tú eres Mario (Luisa) Garc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Eres de Colom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Estudias en La Hab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ria live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) 255 M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) 235 M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) 255 Chai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r telephone numb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) 741 89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) 741 86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) 741 68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ria is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) Panama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) New York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) Mexico 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ria lives at 235 Main Str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er telephone number is 741 890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he is from Mexico C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ad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’s your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es / No question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Ma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a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’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no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 live at 235 Chain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I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n’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our telephone number 741 89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isn´t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9:18:57Z</dcterms:created>
  <dc:creator>Sergio Font</dc:creator>
  <dc:description/>
  <dc:language>en-US</dc:language>
  <cp:lastModifiedBy>Eduardo</cp:lastModifiedBy>
  <dcterms:modified xsi:type="dcterms:W3CDTF">2011-03-13T09:55:28Z</dcterms:modified>
  <cp:revision>4</cp:revision>
  <dc:subject/>
  <dc:title>Diapositiva 1</dc:title>
</cp:coreProperties>
</file>