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A5E-AEC8-400D-A265-96AF5A2E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9C1-9539-4C3B-BB94-67C6494F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D35-7DD1-4912-A98C-52180DDD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BC8-ED0B-4BA5-9E3B-2B2B0F42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5CC-87A1-4097-A5C9-C4563ED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035-BBCD-47BC-8328-47312162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A46-3059-457B-94DB-65B7ECFE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17D-F596-45D5-929E-89E995DA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36A-4A59-4E83-9BAE-5FBECD7B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F29-98B0-4B32-A1EE-D58E17A5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44C-EF5D-43C9-BB47-BEAD474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E95-854E-4B29-A9A3-97AC2597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4560-2797-4DEC-A418-F63D963AB0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Asking for infor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r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 from Mexico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I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’m no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he live at 235 Main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n’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he from Mexico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n´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illiam Chen lives at __ __ __ River Str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) He (lives / doesn´t live) in Brookly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is telephone number is 469 __ __ __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is social security number is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044 __ __ __ 86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illiam lives a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69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iver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liv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in Brookly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is telephone number is 469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775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is social security number is 044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359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86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sk your part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Jorge (Ana) Sánche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from Cara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s your telephone number in Havana 838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sk your part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Tú eres Mario (Luisa) Garc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Eres de Colom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Estudias en La Hab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phon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ere are you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aria live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) 255 Main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) 235 Main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) 255 Chain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r telephone numbe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) 741 890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) 741 86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) 741 68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aria is fr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) Panama 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) New York 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) Mexico 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ria lives at 235 Main Stre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er telephone number is 741 890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he is from Mexico C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phon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ere are you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es / No question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r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 Ma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I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’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no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 live at 235 Chain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n’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r telephone number 741 89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n´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9:18:57Z</dcterms:created>
  <dc:creator>Sergio Font</dc:creator>
  <dc:description/>
  <dc:language>en-US</dc:language>
  <cp:lastModifiedBy>Eduardo</cp:lastModifiedBy>
  <dcterms:modified xsi:type="dcterms:W3CDTF">2011-03-13T09:55:28Z</dcterms:modified>
  <cp:revision>4</cp:revision>
  <dc:subject/>
  <dc:title>Diapositiva 1</dc:title>
</cp:coreProperties>
</file>