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062-5625-42EB-A70A-195F6303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1D8-B494-41A4-9FE0-CAB6CB9C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14B-770E-4EC1-97FA-3095672E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8951-A1A1-4C15-9504-D623922B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DED-5AD6-4AEC-B641-8B52E624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F022-B4BD-49DE-9E56-86B81397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DB34-2556-4E78-9A4B-1307270C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4448-CBD8-4B69-8AD1-20D86B0F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05E-31C8-4952-A730-A9168E5F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4C4A-4288-4CB3-B7F2-7EC01482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F5E1-9E6B-4F40-AEAD-A1785282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2016-3B90-45BD-BEE8-A3791F08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01ED-F2F9-4A30-8543-D1EB17856C9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1280" y="549360"/>
            <a:ext cx="7921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Asking for personal inform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What’s Mrs. Peabody’s phone num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2 3 7 __ __ 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s she a housewife?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Yes ___     No 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What does her husband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 He is a journal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 He is a doct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 He is a photograp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rs. Peabody’s phone number is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237 6459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he is not a housewife.  She is a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fashion designe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r. Peabody is a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photographe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nam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hi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nam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he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nam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addres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hi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addres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he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addres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do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ou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doe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he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doe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she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Phone numb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phone numbe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hi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phone numbe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he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phone numbe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Nationa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nationality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hi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nationality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he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nationality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job / occupation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hi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job / occupation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he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job / occupation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s-ES" sz="3600" spc="-1" strike="noStrike">
                <a:solidFill>
                  <a:srgbClr val="cc0000"/>
                </a:solidFill>
                <a:latin typeface="Arial"/>
              </a:rPr>
              <a:t>d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you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s-ES" sz="3600" spc="-1" strike="noStrike">
                <a:solidFill>
                  <a:srgbClr val="cc0000"/>
                </a:solidFill>
                <a:latin typeface="Arial"/>
              </a:rPr>
              <a:t>doe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he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s-ES" sz="3600" spc="-1" strike="noStrike">
                <a:solidFill>
                  <a:srgbClr val="cc0000"/>
                </a:solidFill>
                <a:latin typeface="Arial"/>
              </a:rPr>
              <a:t>doe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she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age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hi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age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he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age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ol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cc0000"/>
                </a:solidFill>
                <a:latin typeface="Arial"/>
              </a:rPr>
              <a:t>are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ol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cc0000"/>
                </a:solidFill>
                <a:latin typeface="Arial"/>
              </a:rPr>
              <a:t>i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h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ol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cc0000"/>
                </a:solidFill>
                <a:latin typeface="Arial"/>
              </a:rPr>
              <a:t>i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sh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Marital Stat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re you marr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re you married or si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hat’s your </a:t>
            </a:r>
            <a:r>
              <a:rPr b="1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address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0000"/>
                </a:solidFill>
                <a:latin typeface="Arial"/>
              </a:rPr>
              <a:t>What’s your </a:t>
            </a:r>
            <a:r>
              <a:rPr b="1" lang="es-ES" sz="4000" spc="-1" strike="noStrike" u="sng">
                <a:solidFill>
                  <a:srgbClr val="cc0000"/>
                </a:solidFill>
                <a:uFillTx/>
                <a:latin typeface="Arial"/>
              </a:rPr>
              <a:t>phone number</a:t>
            </a:r>
            <a:r>
              <a:rPr b="1" lang="es-ES" sz="4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hat’s your </a:t>
            </a:r>
            <a:r>
              <a:rPr b="1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age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0000"/>
                </a:solidFill>
                <a:latin typeface="Arial"/>
              </a:rPr>
              <a:t>What’s your </a:t>
            </a:r>
            <a:r>
              <a:rPr b="1" lang="es-ES" sz="4000" spc="-1" strike="noStrike" u="sng">
                <a:solidFill>
                  <a:srgbClr val="cc0000"/>
                </a:solidFill>
                <a:uFillTx/>
                <a:latin typeface="Arial"/>
              </a:rPr>
              <a:t>occupation</a:t>
            </a:r>
            <a:r>
              <a:rPr b="1" lang="es-ES" sz="4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hat’s your </a:t>
            </a:r>
            <a:r>
              <a:rPr b="1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husband’s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occupation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00:52:13Z</dcterms:created>
  <dc:creator>Sergio Font</dc:creator>
  <dc:description/>
  <dc:language>en-US</dc:language>
  <cp:lastModifiedBy>Maria de los Angeles</cp:lastModifiedBy>
  <dcterms:modified xsi:type="dcterms:W3CDTF">2013-10-07T08:37:48Z</dcterms:modified>
  <cp:revision>6</cp:revision>
  <dc:subject/>
  <dc:title>Diapositiva 1</dc:title>
</cp:coreProperties>
</file>