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.gif" ContentType="image/gif"/>
  <Override PartName="/ppt/media/image11.jpeg" ContentType="image/jpeg"/>
  <Override PartName="/ppt/media/image17.gif" ContentType="image/gif"/>
  <Override PartName="/ppt/media/image15.jpeg" ContentType="image/jpeg"/>
  <Override PartName="/ppt/media/image2.gif" ContentType="image/gif"/>
  <Override PartName="/ppt/media/image3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FD4-7817-4242-B7FF-DB8F98B3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784-8D60-4B35-A64E-F2256B2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570-FD04-45D0-871B-3DFB9573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BB0-DB94-4D58-8D64-F6FDFBDA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9E4-A7AC-4F3B-8C43-B3C2EE1D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40B-2B67-4A75-827C-106365F6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C7E-EDE5-4AB3-A981-2F45704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FE8-2534-42EF-96A1-CBD4EF8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FDB-C4A7-49E3-BDB9-50925C7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F70-991F-40DA-90FB-D28418C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292-1AFB-4FB8-B949-975A96B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512-5048-4BBC-BD50-2438B96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F28-A86A-447F-BEAF-FCD78EAB74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1800" y="-77760"/>
            <a:ext cx="4330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600" spc="-1" strike="noStrike">
                <a:solidFill>
                  <a:srgbClr val="ffff00"/>
                </a:solidFill>
                <a:latin typeface="Times New Roman"/>
              </a:rPr>
              <a:t>Topic 1</a:t>
            </a:r>
            <a:endParaRPr b="1" i="1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364500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Asking for and giving personal information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j0318096"/>
          <p:cNvPicPr/>
          <p:nvPr/>
        </p:nvPicPr>
        <p:blipFill>
          <a:blip r:embed="rId1"/>
          <a:stretch/>
        </p:blipFill>
        <p:spPr>
          <a:xfrm>
            <a:off x="6642000" y="189000"/>
            <a:ext cx="232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79280" y="260280"/>
            <a:ext cx="8675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3. La relación entre Jack y Priscilla es informal . Yes 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4. La relación entre Bob, Jennifer y Eduardo es informal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8"/>
          <p:cNvSpPr/>
          <p:nvPr/>
        </p:nvSpPr>
        <p:spPr>
          <a:xfrm>
            <a:off x="179280" y="260280"/>
            <a:ext cx="867564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personajes se c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onocen. Yes _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duardo, Bob y Jennifer son compañeros de aula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7308720" y="134136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877080" y="458136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79280" y="260280"/>
            <a:ext cx="8675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3. La relación entre Jack  y Priscilla es informal . Yes 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4. La relación entre Bob, Jennifer y Eduardo es informal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51280" y="198900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76720" y="521028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042920" y="206064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5573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expressions does  Mrs. Peabody use to introduce herself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3333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expressions does  Mrs. Peabody use to introduce herself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9640" y="3716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do you do? My name is Priscill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258920" y="170028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187640" y="2098800"/>
            <a:ext cx="388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 !_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1440" y="2184480"/>
            <a:ext cx="26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i !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40360" y="3137040"/>
            <a:ext cx="814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mor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afternoon. 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eve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68360" y="44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elect the greeting expressions they us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719280" y="12682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00"/>
                </a:solidFill>
                <a:latin typeface="Times New Roman"/>
              </a:rPr>
              <a:t>Warming  up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5" descr="j0303458"/>
          <p:cNvPicPr/>
          <p:nvPr/>
        </p:nvPicPr>
        <p:blipFill>
          <a:blip r:embed="rId1"/>
          <a:stretch/>
        </p:blipFill>
        <p:spPr>
          <a:xfrm>
            <a:off x="5508720" y="4005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87640" y="2098800"/>
            <a:ext cx="388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 !_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581440" y="2184480"/>
            <a:ext cx="26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i !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40360" y="3137040"/>
            <a:ext cx="814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mor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afternoon. 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eve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44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elect the greeting expressions they us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92720" y="1268280"/>
            <a:ext cx="410364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very well, than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292720" y="1268280"/>
            <a:ext cx="41036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fine, thanks.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nd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484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5280" y="393552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Priscilla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j0284994"/>
          <p:cNvPicPr/>
          <p:nvPr/>
        </p:nvPicPr>
        <p:blipFill>
          <a:blip r:embed="rId1"/>
          <a:stretch/>
        </p:blipFill>
        <p:spPr>
          <a:xfrm>
            <a:off x="0" y="0"/>
            <a:ext cx="4138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 rot="9996000">
            <a:off x="4853160" y="653760"/>
            <a:ext cx="4356000" cy="3744720"/>
          </a:xfrm>
          <a:prstGeom prst="wedgeEllipseCallout">
            <a:avLst>
              <a:gd name="adj1" fmla="val 82356"/>
              <a:gd name="adj2" fmla="val 3784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170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435640" y="1341360"/>
            <a:ext cx="40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 I’m  Mr. Garc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219640" y="5661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227525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0" y="0"/>
            <a:ext cx="4103640" cy="3141720"/>
          </a:xfrm>
          <a:prstGeom prst="wedgeEllipseCallout">
            <a:avLst>
              <a:gd name="adj1" fmla="val 85009"/>
              <a:gd name="adj2" fmla="val 3959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640" y="83664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’m Mar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-36360" y="551664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Less 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j0284994"/>
          <p:cNvPicPr/>
          <p:nvPr/>
        </p:nvPicPr>
        <p:blipFill>
          <a:blip r:embed="rId1"/>
          <a:stretch/>
        </p:blipFill>
        <p:spPr>
          <a:xfrm>
            <a:off x="179280" y="1413000"/>
            <a:ext cx="4138560" cy="5445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4284720" y="333360"/>
            <a:ext cx="4608360" cy="2808360"/>
          </a:xfrm>
          <a:prstGeom prst="cloudCallout">
            <a:avLst>
              <a:gd name="adj1" fmla="val -62847"/>
              <a:gd name="adj2" fmla="val 26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763280" y="1413000"/>
            <a:ext cx="302436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716360" y="765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is is my secretary Tania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427640" y="47530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95280" y="1484280"/>
            <a:ext cx="496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1773360"/>
            <a:ext cx="251964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403280" y="206064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hen meeting someone ne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3274560" y="3789360"/>
            <a:ext cx="79236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651640" y="3789360"/>
            <a:ext cx="576000" cy="19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7308720" y="3789360"/>
            <a:ext cx="28764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399564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319120" y="546732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294160" y="566100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2845080" y="-34920"/>
            <a:ext cx="23904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on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589800" y="4221000"/>
            <a:ext cx="2238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arital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926160" y="431496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1773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my  friend, Su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4643280" y="1700280"/>
            <a:ext cx="1295640" cy="1873080"/>
          </a:xfrm>
          <a:custGeom>
            <a:avLst/>
            <a:gdLst>
              <a:gd name="textAreaLeft" fmla="*/ 0 w 1295640"/>
              <a:gd name="textAreaRight" fmla="*/ 468000 w 129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227640" y="1547640"/>
            <a:ext cx="291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76360" y="442584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48000" y="47628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348000" y="476280"/>
            <a:ext cx="36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are you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276720" y="4428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 rot="11607000">
            <a:off x="323280" y="2923920"/>
            <a:ext cx="4073400" cy="3357360"/>
          </a:xfrm>
          <a:prstGeom prst="cloudCallout">
            <a:avLst>
              <a:gd name="adj1" fmla="val -87277"/>
              <a:gd name="adj2" fmla="val 2143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00000" y="407664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______________, si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8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saludos 1"/>
          <p:cNvPicPr/>
          <p:nvPr/>
        </p:nvPicPr>
        <p:blipFill>
          <a:blip r:embed="rId2"/>
          <a:stretch/>
        </p:blipFill>
        <p:spPr>
          <a:xfrm>
            <a:off x="5560920" y="4005360"/>
            <a:ext cx="188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2411280" y="189000"/>
            <a:ext cx="6048360" cy="3240000"/>
          </a:xfrm>
          <a:prstGeom prst="cloudCallout">
            <a:avLst>
              <a:gd name="adj1" fmla="val -59240"/>
              <a:gd name="adj2" fmla="val -19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76720" y="41580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do you do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 rot="10543200">
            <a:off x="934560" y="3938400"/>
            <a:ext cx="5329440" cy="2082600"/>
          </a:xfrm>
          <a:prstGeom prst="cloudCallout">
            <a:avLst>
              <a:gd name="adj1" fmla="val -78185"/>
              <a:gd name="adj2" fmla="val -4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979640" y="429264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ice to meet you, sir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saludos 1"/>
          <p:cNvPicPr/>
          <p:nvPr/>
        </p:nvPicPr>
        <p:blipFill>
          <a:blip r:embed="rId2"/>
          <a:stretch/>
        </p:blipFill>
        <p:spPr>
          <a:xfrm>
            <a:off x="7093080" y="4194000"/>
            <a:ext cx="1888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95280" y="258840"/>
            <a:ext cx="87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. 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95280" y="2041200"/>
            <a:ext cx="8748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 -  4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21720"/>
            <a:ext cx="864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j0199371"/>
          <p:cNvPicPr/>
          <p:nvPr/>
        </p:nvPicPr>
        <p:blipFill>
          <a:blip r:embed="rId1"/>
          <a:stretch/>
        </p:blipFill>
        <p:spPr>
          <a:xfrm>
            <a:off x="1835280" y="404640"/>
            <a:ext cx="597672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 rot="20385000">
            <a:off x="3394080" y="178920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Learning diar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84994"/>
          <p:cNvPicPr/>
          <p:nvPr/>
        </p:nvPicPr>
        <p:blipFill>
          <a:blip r:embed="rId1"/>
          <a:stretch/>
        </p:blipFill>
        <p:spPr>
          <a:xfrm>
            <a:off x="558000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289893"/>
          <p:cNvPicPr/>
          <p:nvPr/>
        </p:nvPicPr>
        <p:blipFill>
          <a:blip r:embed="rId2"/>
          <a:stretch/>
        </p:blipFill>
        <p:spPr>
          <a:xfrm>
            <a:off x="0" y="3860640"/>
            <a:ext cx="5580000" cy="299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4920" y="26028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presentat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292720" y="1268280"/>
            <a:ext cx="410364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very well, than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26028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 and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44360" y="2349360"/>
            <a:ext cx="87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..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06728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076720" y="162864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 to meet you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076720" y="4149720"/>
            <a:ext cx="381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24000" y="476280"/>
            <a:ext cx="907416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fter – viewing task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0920" y="22050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ct out the conversations with your partner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j0283607"/>
          <p:cNvPicPr/>
          <p:nvPr/>
        </p:nvPicPr>
        <p:blipFill>
          <a:blip r:embed="rId1"/>
          <a:stretch/>
        </p:blipFill>
        <p:spPr>
          <a:xfrm>
            <a:off x="6732720" y="4076640"/>
            <a:ext cx="2089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79280" y="189000"/>
            <a:ext cx="8964720" cy="76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In this lesson you will practice ways to: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reet peopl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ntroduce oneself and other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84360" y="2492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Presentation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042920" y="213372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Observe the clip and select the correct answer: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9280" y="260280"/>
            <a:ext cx="867564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personajes se c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onocen. Yes         No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duardo, Bob y Jennifer son compañeros de aula. Yes        No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17:08Z</dcterms:modified>
  <cp:revision>44</cp:revision>
  <dc:subject/>
  <dc:title>PowerPoint Presentation</dc:title>
</cp:coreProperties>
</file>