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.gif" ContentType="image/gif"/>
  <Override PartName="/ppt/media/image11.jpeg" ContentType="image/jpeg"/>
  <Override PartName="/ppt/media/image17.gif" ContentType="image/gif"/>
  <Override PartName="/ppt/media/image15.jpeg" ContentType="image/jpeg"/>
  <Override PartName="/ppt/media/image2.gif" ContentType="image/gif"/>
  <Override PartName="/ppt/media/image3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FFA-30D9-4FA0-906D-7E67E8AD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79F-BBC5-44E8-AEB9-DA57BFD0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7A9-EB0E-4D9A-ACDF-B92E808C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A82-D04B-40A8-B0D7-4B3D6278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04B-EED6-4629-B3F6-6C2F195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9D0-89F2-4580-B6EA-3AD39B9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C7C-4413-45EC-906D-2FD00BF6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EC5-C715-46D6-8C7B-4A6D1A19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8AC-9864-4462-972B-1CECE41A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969-EEB3-48B7-97B9-AABDF9B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598-B411-4512-91E1-A176242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911-E912-4A59-8548-5B49B7C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2002-026A-4DB9-8F15-35ABF7E3F8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1800" y="-77760"/>
            <a:ext cx="4330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600" spc="-1" strike="noStrike">
                <a:solidFill>
                  <a:srgbClr val="ffff00"/>
                </a:solidFill>
                <a:latin typeface="Times New Roman"/>
              </a:rPr>
              <a:t>Topic 1</a:t>
            </a:r>
            <a:endParaRPr b="1" i="1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364500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ff"/>
                </a:solidFill>
                <a:latin typeface="Times New Roman"/>
              </a:rPr>
              <a:t>Asking for and giving personal information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j0318096"/>
          <p:cNvPicPr/>
          <p:nvPr/>
        </p:nvPicPr>
        <p:blipFill>
          <a:blip r:embed="rId1"/>
          <a:stretch/>
        </p:blipFill>
        <p:spPr>
          <a:xfrm>
            <a:off x="6642000" y="189000"/>
            <a:ext cx="2322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79280" y="260280"/>
            <a:ext cx="867564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3. La relación entre Jack y Priscilla es informal . Yes __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4. La relación entre Bob, Jennifer y Eduardo es informal. Yes___ 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8"/>
          <p:cNvSpPr/>
          <p:nvPr/>
        </p:nvSpPr>
        <p:spPr>
          <a:xfrm>
            <a:off x="179280" y="260280"/>
            <a:ext cx="867564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os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personajes se c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onocen. Yes ___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Eduardo, Bob y Jennifer son compañeros de aula. Yes___ 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7308720" y="134136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6877080" y="458136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79280" y="260280"/>
            <a:ext cx="867564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3. La relación entre Jack  y Priscilla es informal . Yes __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4. La relación entre Bob, Jennifer y Eduardo es informal. Yes___ No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51280" y="198900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76720" y="5210280"/>
            <a:ext cx="20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042920" y="206064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55736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expressions does  Mrs. Peabody use to introduce herself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33336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expressions does  Mrs. Peabody use to introduce herself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9640" y="3716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do you do? My name is Priscill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258920" y="170028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1187640" y="2098800"/>
            <a:ext cx="388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 !_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81440" y="2184480"/>
            <a:ext cx="26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Hi !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40360" y="3137040"/>
            <a:ext cx="814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mor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afternoon. 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eve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68360" y="44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Select the greeting expressions they us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719280" y="126828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600" spc="-1" strike="noStrike">
                <a:solidFill>
                  <a:srgbClr val="ffff00"/>
                </a:solidFill>
                <a:latin typeface="Times New Roman"/>
              </a:rPr>
              <a:t>Warming  up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5" descr="j0303458"/>
          <p:cNvPicPr/>
          <p:nvPr/>
        </p:nvPicPr>
        <p:blipFill>
          <a:blip r:embed="rId1"/>
          <a:stretch/>
        </p:blipFill>
        <p:spPr>
          <a:xfrm>
            <a:off x="5508720" y="4005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195640" y="3141720"/>
            <a:ext cx="7345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Watch</a:t>
            </a:r>
            <a:endParaRPr b="1" i="1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j028324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68360" y="404640"/>
            <a:ext cx="3240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87640" y="2098800"/>
            <a:ext cx="388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 !____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581440" y="2184480"/>
            <a:ext cx="26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Hi !____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40360" y="3137040"/>
            <a:ext cx="814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mor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afternoon. 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Times New Roman"/>
              </a:rPr>
              <a:t>Good evening. ____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44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Select the greeting expressions they us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292720" y="1268280"/>
            <a:ext cx="410364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very well, thank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292720" y="1268280"/>
            <a:ext cx="41036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fine, thanks. 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And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95280" y="1484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My name is Priscill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95280" y="393552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Priscilla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j0284994"/>
          <p:cNvPicPr/>
          <p:nvPr/>
        </p:nvPicPr>
        <p:blipFill>
          <a:blip r:embed="rId1"/>
          <a:stretch/>
        </p:blipFill>
        <p:spPr>
          <a:xfrm>
            <a:off x="0" y="0"/>
            <a:ext cx="41385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"/>
          <p:cNvSpPr/>
          <p:nvPr/>
        </p:nvSpPr>
        <p:spPr>
          <a:xfrm rot="9996000">
            <a:off x="4853160" y="653760"/>
            <a:ext cx="4356000" cy="3744720"/>
          </a:xfrm>
          <a:prstGeom prst="wedgeEllipseCallout">
            <a:avLst>
              <a:gd name="adj1" fmla="val 82356"/>
              <a:gd name="adj2" fmla="val 37842"/>
            </a:avLst>
          </a:prstGeom>
          <a:gradFill rotWithShape="0">
            <a:gsLst>
              <a:gs pos="0">
                <a:srgbClr val="00ffff">
                  <a:alpha val="52156"/>
                </a:srgbClr>
              </a:gs>
              <a:gs pos="100000">
                <a:srgbClr val="000000">
                  <a:alpha val="85098"/>
                </a:srgbClr>
              </a:gs>
            </a:gsLst>
            <a:lin ang="170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435640" y="1341360"/>
            <a:ext cx="40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 I’m  Mr. Garc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219640" y="5661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0227525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0" y="0"/>
            <a:ext cx="4103640" cy="3141720"/>
          </a:xfrm>
          <a:prstGeom prst="wedgeEllipseCallout">
            <a:avLst>
              <a:gd name="adj1" fmla="val 85009"/>
              <a:gd name="adj2" fmla="val 39592"/>
            </a:avLst>
          </a:prstGeom>
          <a:gradFill rotWithShape="0">
            <a:gsLst>
              <a:gs pos="0">
                <a:srgbClr val="00ffff">
                  <a:alpha val="52156"/>
                </a:srgbClr>
              </a:gs>
              <a:gs pos="100000">
                <a:srgbClr val="000000">
                  <a:alpha val="8509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95640" y="836640"/>
            <a:ext cx="365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I’m Mar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-36360" y="5516640"/>
            <a:ext cx="51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Less formal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j0284994"/>
          <p:cNvPicPr/>
          <p:nvPr/>
        </p:nvPicPr>
        <p:blipFill>
          <a:blip r:embed="rId1"/>
          <a:stretch/>
        </p:blipFill>
        <p:spPr>
          <a:xfrm>
            <a:off x="179280" y="1413000"/>
            <a:ext cx="4138560" cy="5445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4284720" y="333360"/>
            <a:ext cx="4608360" cy="2808360"/>
          </a:xfrm>
          <a:prstGeom prst="cloudCallout">
            <a:avLst>
              <a:gd name="adj1" fmla="val -62847"/>
              <a:gd name="adj2" fmla="val 264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763280" y="1413000"/>
            <a:ext cx="302436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716360" y="765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his is my secretary Tania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427640" y="47530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Introducing others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95280" y="1484280"/>
            <a:ext cx="4968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name is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’m Priscilla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1773360"/>
            <a:ext cx="251964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05080" y="2060640"/>
            <a:ext cx="648000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403280" y="2060640"/>
            <a:ext cx="633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cc"/>
                </a:solidFill>
                <a:latin typeface="Comic Sans MS"/>
              </a:rPr>
              <a:t>When meeting someone new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 flipH="1">
            <a:off x="2050920" y="3789360"/>
            <a:ext cx="144720" cy="71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Line 5"/>
          <p:cNvSpPr/>
          <p:nvPr/>
        </p:nvSpPr>
        <p:spPr>
          <a:xfrm flipH="1">
            <a:off x="3274560" y="3789360"/>
            <a:ext cx="79236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651640" y="3789360"/>
            <a:ext cx="576000" cy="19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7308720" y="3789360"/>
            <a:ext cx="28764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 flipH="1" flipV="1">
            <a:off x="1619280" y="836640"/>
            <a:ext cx="43344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3995640" y="1341360"/>
            <a:ext cx="0" cy="935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6156360" y="691920"/>
            <a:ext cx="647640" cy="15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 flipV="1">
            <a:off x="7885080" y="1483920"/>
            <a:ext cx="35892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9840" y="-1000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2319120" y="546732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g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164360" y="62064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rigi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365800" y="-1000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tionality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09800" y="429264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5294160" y="5661000"/>
            <a:ext cx="23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addres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2845080" y="-34920"/>
            <a:ext cx="239040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hon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umber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589800" y="4221000"/>
            <a:ext cx="2238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arital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tatus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4859280" y="378936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926160" y="431496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a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260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ther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177336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This is my  friend, Su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4643280" y="1700280"/>
            <a:ext cx="1295640" cy="1873080"/>
          </a:xfrm>
          <a:custGeom>
            <a:avLst/>
            <a:gdLst>
              <a:gd name="textAreaLeft" fmla="*/ 0 w 1295640"/>
              <a:gd name="textAreaRight" fmla="*/ 468000 w 1295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227640" y="1547640"/>
            <a:ext cx="2916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76360" y="442584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Nice to meet you, too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84360" y="69228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j0297265"/>
          <p:cNvPicPr/>
          <p:nvPr/>
        </p:nvPicPr>
        <p:blipFill>
          <a:blip r:embed="rId1"/>
          <a:stretch/>
        </p:blipFill>
        <p:spPr>
          <a:xfrm>
            <a:off x="2843280" y="314172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j0216020"/>
          <p:cNvPicPr/>
          <p:nvPr/>
        </p:nvPicPr>
        <p:blipFill>
          <a:blip r:embed="rId1"/>
          <a:stretch/>
        </p:blipFill>
        <p:spPr>
          <a:xfrm>
            <a:off x="0" y="-27000"/>
            <a:ext cx="2457360" cy="365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j0216032"/>
          <p:cNvPicPr/>
          <p:nvPr/>
        </p:nvPicPr>
        <p:blipFill>
          <a:blip r:embed="rId2"/>
          <a:stretch/>
        </p:blipFill>
        <p:spPr>
          <a:xfrm>
            <a:off x="6516720" y="3357720"/>
            <a:ext cx="2627280" cy="35002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48000" y="47628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i!</a:t>
            </a: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____________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 rot="11607000">
            <a:off x="945720" y="3529800"/>
            <a:ext cx="4073760" cy="3357720"/>
          </a:xfrm>
          <a:prstGeom prst="cloudCallout">
            <a:avLst>
              <a:gd name="adj1" fmla="val -101453"/>
              <a:gd name="adj2" fmla="val 28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692360" y="407664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fine, thanks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j0216020"/>
          <p:cNvPicPr/>
          <p:nvPr/>
        </p:nvPicPr>
        <p:blipFill>
          <a:blip r:embed="rId1"/>
          <a:stretch/>
        </p:blipFill>
        <p:spPr>
          <a:xfrm>
            <a:off x="0" y="-27000"/>
            <a:ext cx="245736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j0216032"/>
          <p:cNvPicPr/>
          <p:nvPr/>
        </p:nvPicPr>
        <p:blipFill>
          <a:blip r:embed="rId2"/>
          <a:stretch/>
        </p:blipFill>
        <p:spPr>
          <a:xfrm>
            <a:off x="6516720" y="3357720"/>
            <a:ext cx="2627280" cy="35002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348000" y="476280"/>
            <a:ext cx="36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How are you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 rot="11607000">
            <a:off x="945720" y="3529800"/>
            <a:ext cx="4073760" cy="3357720"/>
          </a:xfrm>
          <a:prstGeom prst="cloudCallout">
            <a:avLst>
              <a:gd name="adj1" fmla="val -101453"/>
              <a:gd name="adj2" fmla="val 286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692360" y="407664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’m fine, thanks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/>
          <p:cNvSpPr/>
          <p:nvPr/>
        </p:nvSpPr>
        <p:spPr>
          <a:xfrm>
            <a:off x="2700360" y="189000"/>
            <a:ext cx="4608360" cy="2592360"/>
          </a:xfrm>
          <a:prstGeom prst="cloudCallout">
            <a:avLst>
              <a:gd name="adj1" fmla="val -68393"/>
              <a:gd name="adj2" fmla="val -117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276720" y="44280"/>
            <a:ext cx="417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My name is Mr. Romero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6"/>
          <p:cNvSpPr/>
          <p:nvPr/>
        </p:nvSpPr>
        <p:spPr>
          <a:xfrm rot="11607000">
            <a:off x="323280" y="2923920"/>
            <a:ext cx="4073400" cy="3357360"/>
          </a:xfrm>
          <a:prstGeom prst="cloudCallout">
            <a:avLst>
              <a:gd name="adj1" fmla="val -87277"/>
              <a:gd name="adj2" fmla="val 2143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900000" y="4076640"/>
            <a:ext cx="30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______________, sir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8" descr="saludos 1"/>
          <p:cNvPicPr/>
          <p:nvPr/>
        </p:nvPicPr>
        <p:blipFill>
          <a:blip r:embed="rId1"/>
          <a:stretch/>
        </p:blipFill>
        <p:spPr>
          <a:xfrm>
            <a:off x="468360" y="333360"/>
            <a:ext cx="18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saludos 1"/>
          <p:cNvPicPr/>
          <p:nvPr/>
        </p:nvPicPr>
        <p:blipFill>
          <a:blip r:embed="rId2"/>
          <a:stretch/>
        </p:blipFill>
        <p:spPr>
          <a:xfrm>
            <a:off x="5560920" y="4005360"/>
            <a:ext cx="1889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2411280" y="189000"/>
            <a:ext cx="6048360" cy="3240000"/>
          </a:xfrm>
          <a:prstGeom prst="cloudCallout">
            <a:avLst>
              <a:gd name="adj1" fmla="val -59240"/>
              <a:gd name="adj2" fmla="val -194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76720" y="415800"/>
            <a:ext cx="417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How do you do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My name is Mr. Romero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/>
          <p:cNvSpPr/>
          <p:nvPr/>
        </p:nvSpPr>
        <p:spPr>
          <a:xfrm rot="10543200">
            <a:off x="934560" y="3938400"/>
            <a:ext cx="5329440" cy="2082600"/>
          </a:xfrm>
          <a:prstGeom prst="cloudCallout">
            <a:avLst>
              <a:gd name="adj1" fmla="val -78185"/>
              <a:gd name="adj2" fmla="val -49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979640" y="429264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ice to meet you, sir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6" descr="saludos 1"/>
          <p:cNvPicPr/>
          <p:nvPr/>
        </p:nvPicPr>
        <p:blipFill>
          <a:blip r:embed="rId1"/>
          <a:stretch/>
        </p:blipFill>
        <p:spPr>
          <a:xfrm>
            <a:off x="468360" y="333360"/>
            <a:ext cx="18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saludos 1"/>
          <p:cNvPicPr/>
          <p:nvPr/>
        </p:nvPicPr>
        <p:blipFill>
          <a:blip r:embed="rId2"/>
          <a:stretch/>
        </p:blipFill>
        <p:spPr>
          <a:xfrm>
            <a:off x="7093080" y="4194000"/>
            <a:ext cx="1888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95280" y="258840"/>
            <a:ext cx="87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range  the conversatio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1. Mrs.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 I’m Priscilla. Are you Jack Stark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. Nadine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ice  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. Mrs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4. Jack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es, I am. And this is my secretary Nadine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95280" y="2041200"/>
            <a:ext cx="8748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range  the conversation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 -  4 -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3 -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21720"/>
            <a:ext cx="864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rs.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 I’m Priscilla. Are you Jack Stark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Jack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es, I am. And this is my secretary Nadine.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rs Peabody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ow do you do?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adine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ice   to meet you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j0199371"/>
          <p:cNvPicPr/>
          <p:nvPr/>
        </p:nvPicPr>
        <p:blipFill>
          <a:blip r:embed="rId1"/>
          <a:stretch/>
        </p:blipFill>
        <p:spPr>
          <a:xfrm>
            <a:off x="1835280" y="404640"/>
            <a:ext cx="5976720" cy="5472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 rot="20385000">
            <a:off x="3394080" y="178920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Learning diary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84994"/>
          <p:cNvPicPr/>
          <p:nvPr/>
        </p:nvPicPr>
        <p:blipFill>
          <a:blip r:embed="rId1"/>
          <a:stretch/>
        </p:blipFill>
        <p:spPr>
          <a:xfrm>
            <a:off x="5580000" y="0"/>
            <a:ext cx="40672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j0289893"/>
          <p:cNvPicPr/>
          <p:nvPr/>
        </p:nvPicPr>
        <p:blipFill>
          <a:blip r:embed="rId2"/>
          <a:stretch/>
        </p:blipFill>
        <p:spPr>
          <a:xfrm>
            <a:off x="0" y="3860640"/>
            <a:ext cx="5580000" cy="299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4920" y="260280"/>
            <a:ext cx="51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and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mic Sans MS"/>
              </a:rPr>
              <a:t>presentation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2720" y="24912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Greeting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162864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ello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i!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How are you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doing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j0251062"/>
          <p:cNvPicPr/>
          <p:nvPr/>
        </p:nvPicPr>
        <p:blipFill>
          <a:blip r:embed="rId1"/>
          <a:stretch/>
        </p:blipFill>
        <p:spPr>
          <a:xfrm rot="19849200">
            <a:off x="34560" y="549000"/>
            <a:ext cx="2590920" cy="12189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5"/>
          <p:cNvSpPr/>
          <p:nvPr/>
        </p:nvSpPr>
        <p:spPr>
          <a:xfrm>
            <a:off x="450072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292720" y="1268280"/>
            <a:ext cx="410364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I’m very well, thank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ow are you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26028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troducing oneself and other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39640" y="2852640"/>
            <a:ext cx="7777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44360" y="2349360"/>
            <a:ext cx="87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How do you do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name is ..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’m …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68360" y="3933720"/>
            <a:ext cx="70563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067280" y="1484280"/>
            <a:ext cx="1295280" cy="4822920"/>
          </a:xfrm>
          <a:custGeom>
            <a:avLst/>
            <a:gdLst>
              <a:gd name="textAreaLeft" fmla="*/ 0 w 1295280"/>
              <a:gd name="textAreaRight" fmla="*/ 467640 w 1295280"/>
              <a:gd name="textAreaTop" fmla="*/ 125640 h 4822920"/>
              <a:gd name="textAreaBottom" fmla="*/ 4697280 h 482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5076720" y="162864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 to meet you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076720" y="4149720"/>
            <a:ext cx="381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ice to meet you, too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24000" y="476280"/>
            <a:ext cx="907416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After – viewing task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50920" y="22050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Act out the conversations with your partner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j0283607"/>
          <p:cNvPicPr/>
          <p:nvPr/>
        </p:nvPicPr>
        <p:blipFill>
          <a:blip r:embed="rId1"/>
          <a:stretch/>
        </p:blipFill>
        <p:spPr>
          <a:xfrm>
            <a:off x="6732720" y="4076640"/>
            <a:ext cx="2089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79280" y="189000"/>
            <a:ext cx="8964720" cy="76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In this lesson you will practice ways to: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greet people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introduce oneself and others.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84360" y="249228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600" spc="-1" strike="noStrike">
                <a:solidFill>
                  <a:srgbClr val="ffff00"/>
                </a:solidFill>
                <a:latin typeface="Times New Roman"/>
              </a:rPr>
              <a:t>Presentation</a:t>
            </a:r>
            <a:endParaRPr b="1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j0283609"/>
          <p:cNvPicPr/>
          <p:nvPr/>
        </p:nvPicPr>
        <p:blipFill>
          <a:blip r:embed="rId1"/>
          <a:stretch/>
        </p:blipFill>
        <p:spPr>
          <a:xfrm rot="20635800">
            <a:off x="6237000" y="259920"/>
            <a:ext cx="2651040" cy="1986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83592"/>
          <p:cNvPicPr/>
          <p:nvPr/>
        </p:nvPicPr>
        <p:blipFill>
          <a:blip r:embed="rId2"/>
          <a:stretch/>
        </p:blipFill>
        <p:spPr>
          <a:xfrm>
            <a:off x="0" y="4246560"/>
            <a:ext cx="2916360" cy="2351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042920" y="2133720"/>
            <a:ext cx="69850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Viewing task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95280" y="260280"/>
            <a:ext cx="7920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Observe the clip and select the correct answer: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79280" y="260280"/>
            <a:ext cx="867564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os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personajes se c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onocen. Yes         No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Eduardo, Bob y Jennifer son compañeros de aula. Yes        No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de los Angeles</cp:lastModifiedBy>
  <dcterms:modified xsi:type="dcterms:W3CDTF">2013-10-30T08:17:08Z</dcterms:modified>
  <cp:revision>44</cp:revision>
  <dc:subject/>
  <dc:title>PowerPoint Presentation</dc:title>
</cp:coreProperties>
</file>