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2D4-A533-419A-9C19-CB2B3D3F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772-4069-445E-8308-B2C7323B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FFA-E237-4C60-92C4-E574FEAA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2D9-35DA-4CCB-82E1-560C6329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DC9-5D27-496E-AD8F-8D1F83B0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702-8033-45EF-B52C-0BB3237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FFF-2ABC-49B4-9BDC-4F5A237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67C-3046-442F-961C-8B132B9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821-0FB1-40A2-AEDC-6975FD27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0A2-A77A-4A2B-980B-FBBCEDBF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18D-E51C-4D02-B4EB-F4983F2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780-1188-440B-9B30-CBBAE35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161C-12DA-40C8-8599-9154B44368F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Friends fore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a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 remember + -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remember thinking: “Oh, my God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remember standing at the top of the st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remember looking at h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Remember + ing / Remember + to inf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remember opening all the windows every mo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remember to open all the windows every mo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undred / hundred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hundred / two hundred / hundre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thousand / two thousand / thousan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million / two million / million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billion / two billion / billion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sic composed by:  Andrew Lloyd Web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yrics composed by:  Don Bl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ng by: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rah Brightman (United Kingd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osé Carreras (Sp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2560" y="99972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't have to say a word to you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eem to know whatever m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m going throug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ls as though I've known you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look into my eyes and s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y I feel, and how the world is treating m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I have known you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gos para siemp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eel you near 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when we are apar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knowing you are in this wor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arm my he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share memori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n't forge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we'll share mor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frien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n't started ye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happe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e're togeth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look at you I wonder wh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has to come a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must say goodby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m alive when we are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feel you near m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ven when we are apar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ust knowing you are in this worl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warm my hear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interview with Sarah Brigh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song in the closing of the 1992 Olympic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n I look at you I wonder wh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re has to come a time when we must say goodb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'm alive when we are together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feel you near me, even when we are apart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ust knowing you are in this worl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warm my heart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 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mes of sports in the Olympic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rms used in some popula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ypes of exercise people do to war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language used in sport-related spee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uestions and answers in interviews with famous athl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world of sports for the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lyrics of memorable songs to commemorate the Olympic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ece (n)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na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tairs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ttom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ush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keup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plifting (adj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cary (adj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Imagen" descr="a1619sarah-brightman.jpg"/>
          <p:cNvPicPr/>
          <p:nvPr/>
        </p:nvPicPr>
        <p:blipFill>
          <a:blip r:embed="rId1"/>
          <a:stretch/>
        </p:blipFill>
        <p:spPr>
          <a:xfrm>
            <a:off x="3286080" y="142884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atch the interview with Sarah Brightman and answ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Had the Olympic Stadium been built completely when Sarah Brightman and José Carreras filmed the song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 Why were Sarah and José Carrera almost late to start singing at the closing of the Barcelona Ga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 What happens in most of her classical concerts with José Carr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:Had the Olympic Stadium been built completely when Sarah Brightman and José Carreras filmed the song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:  No, it had not been built completely.  It was still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Are they ever going to get this done in time, built in tim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: Why were Sarah and José Carrera almost late to start singing at the closing of the Barcelona Ga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: Because they had to walk/rush down to the bottom of the stairs, and it took about two minutes to do 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: What happens in most of her classical   concerts with José Carr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: The audience wants to hear them sing 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 was asked very quickly if I would come in and perfor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+ subject + would/past/past perf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 was asked i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I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an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o be part of the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I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ould b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lling to hel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I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d practice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ports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44Z</dcterms:created>
  <dc:creator>Sergio</dc:creator>
  <dc:description/>
  <dc:language>en-US</dc:language>
  <cp:lastModifiedBy>*</cp:lastModifiedBy>
  <dcterms:modified xsi:type="dcterms:W3CDTF">2013-11-03T17:28:17Z</dcterms:modified>
  <cp:revision>78</cp:revision>
  <dc:subject/>
  <dc:title>Talking about an athlete’s sports career</dc:title>
</cp:coreProperties>
</file>