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686B-D069-4985-BC20-67FEF91EA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C380-32B6-4F59-9466-00083C8BA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640D-C1E6-45FD-B8F5-0A58252F7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31C0-8B24-43CC-9BA2-3370D3CF8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5CB3-61D5-4212-AA46-746A4498A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99CA-EC67-4AA9-953B-07DC92514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BFFC-2D0F-4DCD-B50D-FF3F44662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E516-F5A3-49C4-A867-D299BB972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DE16-3345-4C50-A3D7-604A35600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4238-26F8-44B6-8153-C73613ED5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9CB9-3AE7-455F-9680-9D802E235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0946-4A58-40AF-BF7E-174925DA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FB969-9D54-4F82-8C48-54A5C1A39A06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24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Friends foreve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Prof. Sergio Font Milian, Ph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I remember + -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 remember thinking: “Oh, my God!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 remember standing at the top of the stai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 remember looking at hi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Remember + ing / Remember + to inf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I remember opening all the windows every morning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I remember to open all the windows every morning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hundred / hundreds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one hundred / two hundred / hundreds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one thousand / two thousand / thousands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one million / two million / millions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one billion / two billion / billions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Amigos para siemp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Music composed by:  Andrew Lloyd Webb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yrics composed by:  Don Bla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ung by: 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arah Brightman (United Kingdo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José Carreras (Spa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142560" y="999720"/>
            <a:ext cx="864396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don't have to say a word to you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eem to know whatever mo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'm going through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els as though I've known you forev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can look into my eyes and se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way I feel, and how the world is treating m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be I have known you forev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migos para siempr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ans you'll always be my friend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mics per sempr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ans a love that cannot end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iends for lif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 just a summer or a spring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migos para siemp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feel you near m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en when we are apart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ust knowing you are in this worl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warm my hear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Friends for life,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Not just a summer or a spring,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migos para siemp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e share memori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 won't forget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nd we'll share more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y friend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e haven't started yet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omething happen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hen we're together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642600"/>
            <a:ext cx="82296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I look at you I wonder wh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has to come a tim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we must say goodby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'm alive when we are togeth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migos para siempre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eans you'll always be my friend.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mics per sempre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eans a love that cannot end.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Friends for life,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not just a summer or a spring,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migos para siemp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 feel you near me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ven when we are apart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Just knowing you are in this world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an warm my heart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Friends for life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Not just a summer or a spring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migos para siemp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Today’s Cont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n interview with Sarah Brightm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 song in the closing of the 1992 Olympic Ga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When I look at you I wonder why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here has to come a time when we must say goodby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'm alive when we are together.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migos para siempre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eans you'll always be my friend.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mics per sempre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eans a love that cannot end.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Friends for life,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not just a summer or a spring,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migos para siemp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57200" y="357120"/>
            <a:ext cx="82296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 feel you near me, even when we are apart.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Just knowing you are in this world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an warm my heart.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Friends for life,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not just a summer or a spring,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migos para siemp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migos para siempre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eans you'll always be my friend.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mics per sempre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eans a love that cannot end.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Friends for life, not just a summer or a spring,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migos para siemp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21428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Names of sports in the Olympic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erms used in some popular spor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ypes of exercise people do to warm 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he language used in sport-related speech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Questions and answers in interviews with famous athle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he world of sports for the disab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he lyrics of memorable songs to commemorate the Olympic Gam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iece (n)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rena (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tairs (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bottom (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rush (v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makeup (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uplifting (adj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cary (adj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3 Imagen" descr="a1619sarah-brightman.jpg"/>
          <p:cNvPicPr/>
          <p:nvPr/>
        </p:nvPicPr>
        <p:blipFill>
          <a:blip r:embed="rId1"/>
          <a:stretch/>
        </p:blipFill>
        <p:spPr>
          <a:xfrm>
            <a:off x="3286080" y="1428840"/>
            <a:ext cx="47624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Watch the interview with Sarah Brightman and answer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1.- Had the Olympic Stadium been built completely when Sarah Brightman and José Carreras filmed the song the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2.-  Why were Sarah and José Carrera almost late to start singing at the closing of the Barcelona Gam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3.-  What happens in most of her classical concerts with José Carrer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Q:Had the Olympic Stadium been built completely when Sarah Brightman and José Carreras filmed the song the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:  No, it had not been built completely.  It was still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s-E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s-ES" sz="3200" spc="-1" strike="noStrike">
                <a:solidFill>
                  <a:srgbClr val="000000"/>
                </a:solidFill>
                <a:latin typeface="Calibri"/>
              </a:rPr>
              <a:t>Are they ever going to get this done in time, built in time?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Q: Why were Sarah and José Carrera almost late to start singing at the closing of the Barcelona Gam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: Because they had to walk/rush down to the bottom of the stairs, and it took about two minutes to do s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Q: What happens in most of her classical   concerts with José Carrer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: The audience wants to hear them sing Amigos para Siemp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285480" y="160020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I was asked very quickly if I would come in and perform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 was asked if + subject + would/past/past perfe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I was asked if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 was asked if I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wanted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to be part of the tea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 was asked if I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would be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willing to hel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 was asked if I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had practiced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ports befo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21:30:44Z</dcterms:created>
  <dc:creator>Sergio</dc:creator>
  <dc:description/>
  <dc:language>en-US</dc:language>
  <cp:lastModifiedBy>*</cp:lastModifiedBy>
  <dcterms:modified xsi:type="dcterms:W3CDTF">2013-11-03T17:28:17Z</dcterms:modified>
  <cp:revision>78</cp:revision>
  <dc:subject/>
  <dc:title>Talking about an athlete’s sports career</dc:title>
</cp:coreProperties>
</file>