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2B7-C15B-449B-A2A6-FE778DC5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F21-BD75-4E33-BE84-E0BC0DC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229-2026-4B85-870A-77D87305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16A-5E27-4E54-99E0-7A9576F6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31B-6C8D-4F8A-B95A-4BD552E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5A9-834B-4BF0-AE4D-C9498B45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579-F45D-4276-8574-2A15B5A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59F-4F91-432D-ACFE-73E164CA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AB7-F4F6-4CE3-BA6E-7E943C3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7C0-9E17-4A67-8193-C2F3CCF9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95C-B3AF-4969-AC10-C7B7AB7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330-A123-458B-971A-B01AC7C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8A46-6609-42FE-B835-F4B6A17B6B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sing English to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mmunicate in Sports. </a:t>
            </a:r>
            <a:r>
              <a:rPr b="1" lang="es-ES" sz="48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_ is a beautiful sport played in a swimming pool by wome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_____________ opponents stand on each side of a table.  Their job is to try to hit a ball flawless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urts to play ____________can be made of grass, clay or concrete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ootbal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eams are formed by 11 players, one of which is the goal kee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Equestria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s a sport in which the animal and the human being need to perform as a perfect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aseball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s a team sport in which a game consists of nine opportunities for each team to bat runs 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ynchronized swimming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is a beautiful sport played in a swimming pool by women on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able tenn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opponents stand on each side of a table.  Their job is to try to hit a ball flawless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urts to play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enni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can be made of grass, clay or concrete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ién fue tu primer entrenad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ganaste tu primera competencia inter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Te inspiraste en un atleta famoso cuando empez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Alguna vez tuviste que dejar de jugar debido a una l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comenzaste a jugar balonma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to tiempo llevas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to tiempo estuviste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as pensado en retira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te retir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ubo algún sueño que nunca se hizo realid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ranslate into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¿Quién fue tu primer entrenad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Who was your first co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¿Cuándo ganaste tu primera competencia internacion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When did you win your first international competi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Te inspiraste en un atleta famoso cuando empez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re you inspired by a famous athlete when you star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  ¿Alguna vez tuviste que dejar de jugar debido a una l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d you ever have to stop playing due to an inju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comenzaste a jugar balonma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n did you start playing handb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  ¿Cuánto tiempo llevas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 long have you been in the national te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.  ¿Cuánto tiempo estuviste en el equipo naci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ow long were you in the national te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Has pensado en retirar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ve you thought of retir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uándo te retiras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hen did you ret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0. ¿Hubo algún sueño que nunca se hizo realid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as there a dream that never came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r. Smith spoke _________________ (en representación de) the chairman of the Organizing Committ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is a rule that all competitors must _______________ (cumpli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anks to all the ___________________ ____________________ (atletas, entrenadores, jueces y voluntario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he is the current _________________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recordista mundial) in the long jum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Brazilian player was ________________ (el mejor rematador) of the tourna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Jamaican ________________ (velocistas) won all the gold med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r. Smith spok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on behalf of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en representación de) the chairman of the Organizing Committ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is a rule that all competitors mus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comply with / abide by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(cumplir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anks to all the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athletes, coaches,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judges and volunteers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atletas, entrenadores, jueces y voluntario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he is the curren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world record holder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recordista mundial) in the long jum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Brazilian player was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the best spiker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(el mejor rematador) of the tourna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he Jamaican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sprinters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(velocistas) won all the gold med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te as you trans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your team has good pitchers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eguramente podrás ganar el torn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Ethiopian manages to keep close behind the Kenyans in the first seven laps round the track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odrá sobrepasarlos al final de la carrer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  If the wind is not too strong this afternoon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los escopeteros podrán romper la mayoría de los plat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  If the Cuban blockers perform at their best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podrán detener a los poderosos rematadores brasileñ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your team has good pitchers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you will probably be able to win the tournamen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Ethiopian manages to keep close behind the Kenyans in the first seven laps round the track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may be able to overtake them in the final sprin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wind is not too strong this afternoon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he shotgun shooters will be able to hit most of the clay targe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the Cuban blockers perform at their best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hey will be able to stop the Brazilian powerful spiker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omplete with the words on the lis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st important thing in the Olympic Games is not to ________ but to ___________, just as the most important thing in life is not to _________ but to __________. The essential thing is not to have conquered but to have fought we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ST:  struggle / take part / triumph / win 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st important thing in the Olympic Games is no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w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u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ake par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just as the most important thing in life is no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riump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ut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rugg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The essential thing is not to have conquered but to have fought we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ich sports do these events belong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tform and springboar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ckstroke and butterf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urve and compoun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mmel horse and beam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il and sab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natch and clean and jerk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tput and hammer throw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keet and rapid fi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ich sports do these events belong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tform and springboar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ckstroke and butterfly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urve and compoun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rch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mmel horse and beam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gymna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oil and sab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fe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natch and clean and jerk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eightlif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tput and hammer throw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thl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keet and rapid fir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ho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veral records have been ___________ (break) in this compet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in Bolt was _________________ (disqualify) due to a false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xt Olympic Games will be ____________ (host) by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2015 Pan American Games will be ______________ (hold) in Toro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  The Korean catcher has been ____________ (strike out) twice in today’s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   The judges’ decision has been ___________ (appe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.  The gold medal match will be ____________ televi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8.  The closing ceremony has been _____________ (schedule) to start at 7.00 p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veral records have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broke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break) in this compet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sain Bolt wa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disqualifi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disqualify) due to a false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next Olympic Games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os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host) by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2015 Pan American Games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l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hold) in Toro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plete with the correct form of the ver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  The Korean catcher has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truck ou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strike out) twice in today’s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   The judges’ decision has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appeal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appe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.  The gold medal match will b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televis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elevi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8.  The closing ceremony has be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schedul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(schedule) to start at 7.00 p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hat sport is being referred 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 ___________ teams are formed by 11 players, one of which is the goal kee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 is a sport in which the animal and the human being need to perform as a perfect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____________ is a team sport in which a game consists of nine opportunities for each team to bat runs i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8:49:53Z</dcterms:created>
  <dc:creator>Sergio</dc:creator>
  <dc:description/>
  <dc:language>en-US</dc:language>
  <cp:lastModifiedBy>*</cp:lastModifiedBy>
  <dcterms:modified xsi:type="dcterms:W3CDTF">2013-11-03T17:29:21Z</dcterms:modified>
  <cp:revision>18</cp:revision>
  <dc:subject/>
  <dc:title>Using English to  communicate in Sports Summary</dc:title>
</cp:coreProperties>
</file>