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86D-C777-4233-8DD0-2052F079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3B0-7799-4490-B07B-02B3F1B0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221-761F-4936-8913-03158D55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D75-7066-445E-9308-0094EE77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967-E9F4-4372-9E72-2127E13D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B1C-A3DE-43F9-BE1F-56A7A20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830-E5C9-4186-B472-22B59FE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1D6-11D1-454E-B23E-3F1847BC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86E-F5B1-4020-8F1A-BA49B99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E75-A67E-4D24-B9CC-9EA8E13B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584-33D3-4B08-BE9B-B2E5D95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8A2-622F-42A0-9623-E7C82DC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E8B2-77F4-40EC-AB73-0B9602FFAD4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sing English to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mmunicate in Sports. </a:t>
            </a:r>
            <a:r>
              <a:rPr b="1" lang="es-ES" sz="48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 is a beautiful sport played in a swimming pool by wome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_____________ opponents stand on each side of a table.  Their job is to try to hit a ball flawless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urts to play ____________can be made of grass, clay or concrete.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ootbal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eams are formed by 11 players, one of which is the goal kee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Equestria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s a sport in which the animal and the human being need to perform as a perfect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aseball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s a team sport in which a game consists of nine opportunities for each team to bat runs 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ynchronized swimm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s a beautiful sport played in a swimming pool by wome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able tenn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opponents stand on each side of a table.  Their job is to try to hit a ball flawless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urts to play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enn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an be made of grass, clay or concrete.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ién fue tu primer entrenad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ganaste tu primera competencia inter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Te inspiraste en un atleta famoso cuando empez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Alguna vez tuviste que dejar de jugar debido a una l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comenzaste a jugar balonma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to tiempo llevas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to tiempo estuviste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Has pensado en retirar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te retir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Hubo algún sueño que nunca se hizo realid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¿Quién fue tu primer entrenad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Who was your first co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¿Cuándo ganaste tu primera competencia internacion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When did you win your first international competi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Te inspiraste en un atleta famoso cuando empez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re you inspired by a famous athlete when you star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  ¿Alguna vez tuviste que dejar de jugar debido a una l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d you ever have to stop playing due to an inju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comenzaste a jugar balonma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en did you start playing handb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  ¿Cuánto tiempo llevas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w long have you been in the national te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7.  ¿Cuánto tiempo estuviste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w long were you in the national te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Has pensado en retirar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ve you thought of retir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te retir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en did you ret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0. ¿Hubo algún sueño que nunca se hizo realid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as there a dream that never came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r. Smith spoke _________________ (en representación de) the chairman of the Organizing Committ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is a rule that all competitors must _______________ (cumpli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anks to all the ___________________ ____________________ (atletas, entrenadores, jueces y voluntario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he is the current _________________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recordista mundial) in the long jum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Brazilian player was ________________ (el mejor rematador) of the tourna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Jamaican ________________ (velocistas) won all the gold med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r. Smith spok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on behalf of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en representación de) the chairman of the Organizing Committ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is a rule that all competitors mus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comply with / abide by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(cumpli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anks to all th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athletes, coaches,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judges and volunteers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atletas, entrenadores, jueces y voluntario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he is the curren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world record holder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recordista mundial) in the long jum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Brazilian player wa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the best spiker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(el mejor rematador) of the tourna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Jamaican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sprinters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(velocistas) won all the gold med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 as you 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your team has good pitchers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eguramente podrás ganar el torn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Ethiopian manages to keep close behind the Kenyans in the first seven laps round the track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odrá sobrepasarlos al final de la carrer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 If the wind is not too strong this afternoon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os escopeteros podrán romper la mayoría de los plat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  If the Cuban blockers perform at their best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odrán detener a los poderosos rematadores brasileñ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your team has good pitchers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you will probably be able to win the tournamen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Ethiopian manages to keep close behind the Kenyans in the first seven laps round the track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may be able to overtake them in the final sprin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wind is not too strong this afternoon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he shotgun shooters will be able to hit most of the clay targe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Cuban blockers perform at their best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hey will be able to stop the Brazilian powerful spiker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omplete with the words on the lis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st important thing in the Olympic Games is not to ________ but to ___________, just as the most important thing in life is not to _________ but to __________. The essential thing is not to have conquered but to have fought we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IST:  struggle / take part / triumph / win 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st important thing in the Olympic Games is no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u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ake par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just as the most important thing in life is no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riump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u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ruggl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The essential thing is not to have conquered but to have fought we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ich sports do these events belong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tform and springboar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ckstroke and butterfl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urve and compoun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mmel horse and beam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il and sab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natch and clean and jerk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otput and hammer throw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keet and rapid fi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ich sports do these events belong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tform and springboar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d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ckstroke and butterfl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urve and compoun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ch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mmel horse and beam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gymna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il and sab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e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natch and clean and jerk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eightlif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otput and hammer throw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thl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keet and rapid fi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ho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veral records have been ___________ (break) in this compet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in Bolt was _________________ (disqualify) due to a false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xt Olympic Games will be ____________ (host) by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2015 Pan American Games will be ______________ (hold) in Toro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  The Korean catcher has been ____________ (strike out) twice in today’s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   The judges’ decision has been ___________ (appe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7.  The gold medal match will be ____________ televi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8.  The closing ceremony has been _____________ (schedule) to start at 7.00 p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veral records have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roke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break) in this compet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in Bolt w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disqualifi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disqualify) due to a false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xt Olympic Games will b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ost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host) by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2015 Pan American Games will b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l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hold) in Toro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  The Korean catcher has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truck ou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strike out) twice in today’s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   The judges’ decision has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ppeal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appe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7.  The gold medal match will b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elevis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elevi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8.  The closing ceremony has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chedul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schedule) to start at 7.00 p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___________ teams are formed by 11 players, one of which is the goal kee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 is a sport in which the animal and the human being need to perform as a perfect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 is a team sport in which a game consists of nine opportunities for each team to bat runs 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8:49:53Z</dcterms:created>
  <dc:creator>Sergio</dc:creator>
  <dc:description/>
  <dc:language>en-US</dc:language>
  <cp:lastModifiedBy>*</cp:lastModifiedBy>
  <dcterms:modified xsi:type="dcterms:W3CDTF">2013-11-03T17:29:21Z</dcterms:modified>
  <cp:revision>18</cp:revision>
  <dc:subject/>
  <dc:title>Using English to  communicate in Sports Summary</dc:title>
</cp:coreProperties>
</file>