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4152-C889-408F-8E71-557C44D10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0272-3B44-42D0-B8AF-57F66079C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A2D-1AD3-4486-9DB4-4BE31942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470-AA14-4065-8F0B-4F922E66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23C-3935-4C1D-BE14-8EF15CFF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65C-8A46-4A2E-B35F-B96FF59A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400-1421-4E8D-A4E2-55ABF494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CAF-B267-47B2-A107-84618ED0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BE1-B88D-43AB-9656-8E5331FE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BE6-5FC7-48B3-8870-0EC9D4E6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6A5-5F6D-44B9-B224-B367CEC7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596-E1B4-475B-9B31-5550AC1F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FF3-6634-4E07-9DF4-4F3B1DE8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A30-1911-4319-A6CD-A688957D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1CB6-90B6-444B-8C5D-D266ACDE12F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Scientific and Technical texts into Spanish 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rof. Sergio Font Milián, Ph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ome idiomatic compound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ortcoming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fec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ftermath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secu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cu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oublecros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icionar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i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utbreak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rot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de enfermedad)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la (de violenc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version in Englis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ook (n) – book (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tone (n)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 stone (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ilk (n) – milk (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hange (n) – change (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umber (n) – number (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crease (n) – increase (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number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of natural disasters ha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increas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ramatically in the last few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king’s days were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number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increas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 foreign investment has caused important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chang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 the coun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world ha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chang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a lot since th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glish and Spanish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nglish noun phrases generally follow a modifier(s)-noun pattern, while Spanish noun phrases are generally characterized by a noun-modifier(s) structu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scientific disco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 descubrimiento cientí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harles Babbage was the first to conceptualize and desig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 fully programmable mechanical compu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harles Babbage fue el primero que conceptualizó y diseñó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una computadora mecánica completamente programabl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28548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uring the first half of the 20th century, many unsolved problems were solved by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ncreasingly sophistic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nalog computer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la primera mitad 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glo XX muchos problemas no resueltos fueron solucionados por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computadoras analógicas cada vez más sofisticad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4 Imagen" descr="analog_computer.jpg"/>
          <p:cNvPicPr/>
          <p:nvPr/>
        </p:nvPicPr>
        <p:blipFill>
          <a:blip r:embed="rId1"/>
          <a:stretch/>
        </p:blipFill>
        <p:spPr>
          <a:xfrm>
            <a:off x="5500800" y="1500120"/>
            <a:ext cx="30272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5723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Nouns can be used as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noun modifiers in English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June 2009, the World Health Organization declared the new strain of swine-origin H1N1 as a pandem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junio del 2009, la Organización Mundial de la Salud declaró la nueva cepa de H1N1 de origen porcino como pand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 grammatical structure that causes problems to Spanish spea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5840" y="160020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airlin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needed its spare part suppliers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Calibri"/>
              </a:rPr>
              <a:t>to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 mee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heir delivery commitments in du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aerolínea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necesitaba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Calibri"/>
              </a:rPr>
              <a:t>que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 sus suministradores de piezas de repuesto cumpliera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sus compromisos de entrega en el tiempo acord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irst tips to translating a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e IDEAS, not word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o not change, add or omit ide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rite the new text as if it was originally written in the target languag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e into Span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information stored in the file may be related with any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percomputers in particular often have highly sophisticated architectures that differ significantly from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asic stored-progra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chitecture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3 Imagen" descr="fujitsu-lifebook-t2010-laptop1_large.jpg"/>
          <p:cNvPicPr/>
          <p:nvPr/>
        </p:nvPicPr>
        <p:blipFill>
          <a:blip r:embed="rId1"/>
          <a:stretch/>
        </p:blipFill>
        <p:spPr>
          <a:xfrm>
            <a:off x="5143680" y="3500280"/>
            <a:ext cx="32004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oday’s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 brief comparison between English and Spanish morphology, syntax and word-forming proc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Imagen" descr="2007110968cervantes_art.jpg"/>
          <p:cNvPicPr/>
          <p:nvPr/>
        </p:nvPicPr>
        <p:blipFill>
          <a:blip r:embed="rId1"/>
          <a:stretch/>
        </p:blipFill>
        <p:spPr>
          <a:xfrm>
            <a:off x="1571760" y="3643200"/>
            <a:ext cx="6000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Metals occupy the bulk of the Periodic Table, while non-metallic elements can only be found on the right-hand-side of the Periodic Table of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 Foreign language teachers should encourage their students to read in the language they ar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glish and Spanish compa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glish has a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endency:  a majority of monosyllabic roots, few affixes, reliance on sentence structure for the full expression of meaning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panish is a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ynthetic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language. The individual word, as a rule, contains other concepts besides those expressed by the root, e.g. word class, gender, number,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ive it to 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600" spc="-1" strike="noStrike">
                <a:solidFill>
                  <a:srgbClr val="ff0000"/>
                </a:solidFill>
                <a:latin typeface="Calibri"/>
              </a:rPr>
              <a:t>Dámel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 will never forget i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600" spc="-1" strike="noStrike">
                <a:solidFill>
                  <a:srgbClr val="ff0000"/>
                </a:solidFill>
                <a:latin typeface="Calibri"/>
              </a:rPr>
              <a:t>Nunca lo olvidaré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r. Smith will take care of that topic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600" spc="-1" strike="noStrike">
                <a:solidFill>
                  <a:srgbClr val="ff0000"/>
                </a:solidFill>
                <a:latin typeface="Calibri"/>
              </a:rPr>
              <a:t>El Dr. Smith / La Dra. Smith  se ocupará de ese tem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1420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Marcadores de tiempo, número y perso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ubr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ió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una nueva vacu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He/sh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scover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new vacc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ubr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iero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una nueva vacu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They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scover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new vacc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ubr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í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una nueva vacu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scover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new vacc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ubr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im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una nueva vacu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W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scover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new vacc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ubr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ist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una nueva vacu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You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scover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new vacc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2 Imagen" descr="VIENDO%20AL%20MICROSCOPIO.jpg"/>
          <p:cNvPicPr/>
          <p:nvPr/>
        </p:nvPicPr>
        <p:blipFill>
          <a:blip r:embed="rId1"/>
          <a:stretch/>
        </p:blipFill>
        <p:spPr>
          <a:xfrm>
            <a:off x="6297480" y="1928880"/>
            <a:ext cx="267516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liance on sentence structure for the full expression of 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57176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ne of the researchers managed to find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nyth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mportant.  (nada / alg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researchers found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noth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mportant. (na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d they find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nyth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mportant? (alg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nyth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an be important. (cualquier co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 did not find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nyth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mportant. (na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ord 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panish makes use of two main word-forming processes: derivation and compou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glish makes use of three main word-forming processes: derivation, compounding and conver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xamples of derivation in English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stitu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io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revolu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io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evolu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re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job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home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ppi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nes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sad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nes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mad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chno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og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bio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og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lexico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eauti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u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faith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u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grate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atural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basical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real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riendly /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leasant /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s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otivated compound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ngerprint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uellas digi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ookcas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ibr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nburn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quemadura de 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oorbel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imbr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xtbook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ibro de tex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astebasket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esto de bas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aterbed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ma de ag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9:55:34Z</dcterms:created>
  <dc:creator>Sergio</dc:creator>
  <dc:description/>
  <dc:language>en-US</dc:language>
  <cp:lastModifiedBy>*</cp:lastModifiedBy>
  <dcterms:modified xsi:type="dcterms:W3CDTF">2013-11-03T17:29:58Z</dcterms:modified>
  <cp:revision>68</cp:revision>
  <dc:subject/>
  <dc:title>Translating Scientific and Technical texts into Spanish</dc:title>
</cp:coreProperties>
</file>