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02D-6CAB-48F6-8731-416AEA73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F96-A3DD-4063-85B7-E9E9304F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5A3-9A6A-4AE3-9025-7EABA894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A6A-3053-4D2A-A2CC-AD9616F5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AA1-D418-40BD-BA60-C92D6556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A20-7E92-4E19-94E7-85F6C0F3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869-1D12-47B5-84EB-8CC6692A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40F-7492-4E49-B266-2D7F2EE6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678-3D7D-4205-9C81-E197323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888-1538-48D4-B222-1C0D3EA7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0F7-66AB-47EE-A230-BCF92D6F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17F-7F48-475D-892D-F9FAFB42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815C-B978-4962-8E8E-00CA43F1D85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Scientific and Technical texts into Spanish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rof. Sergio Font Milián, Ph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present per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r. William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has worked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 this project for five yea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Dr. William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trabaj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n este proyecto </a:t>
            </a: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desde hac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 añ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Dr. William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llev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5 año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trabajand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n este proyec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Dr. William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ha trabaja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este proyecto </a:t>
            </a: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durant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5 añ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past per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21428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human being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ver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u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so f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unca un ser humano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bía corri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n rápi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ptain Wilso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never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pilot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a plane like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apitán Wilson nunca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bía pilotea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 avión as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the passive v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initial quake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w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later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follow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by twelve aftershocks greater than magnitude 5.0. Structures of all kinds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were damaged or fully destroy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temblor inicial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fue segui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doce réplicas superiores a la magnitud de 5.0. 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Se dañaron o destruyeron completament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ucturas de todo tip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4200" y="500040"/>
            <a:ext cx="8786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ough a computer can, in theory,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be made out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f almost anything, and mechanical examples of computers have existed through much of human history, the first electronic computers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were develop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 the mid-20th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unque teóricamente las computadoras pueden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fabricars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casi cualquier material, y han existido ejemplos mecánicos de computadoras a lo largo de gran parte de la historia de la humanidad, las primeras computadoras electrónicas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se desarrollaron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mediados del siglo X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would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lmost impossible to imagine what the world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ould b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if the effects of the Industrial Revolution were swept away. Electric light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ould go 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utomobiles and airplane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ould vanis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elephones, radios, and televisio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ould disappea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casi imposible imaginar cómo sería el mundo si se eliminaran los efectos de la Revolución Industrial.  No habr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í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z eléctrica, los automóviles y los aviones se esfumar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í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y el teléfono, la radio y la televisión desaparecer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í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re + 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re is / 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re was / w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re will 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re has / have be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re had be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re + 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e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new ideas in England which aided the mov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mbié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ub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evas ideas en Inglaterra que ayudaron al movimi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re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ng list of methods in the history of foreign language teac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 una larga lista de métodos en la historia de la enseñanza de lenguas extranjer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re + has/have + b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ere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has been no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conomic recovery in Californ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ere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hasn’t been any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conomic recovery in Californ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No ha habido (ninguna) recuperación económica en Californ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92844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recent year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re have be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really big earthquak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 los últimos año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a habid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gunos terremotos realmente gran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as there be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crease in the number of natural disast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a habid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incremento en el número de desastres natura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re + had + b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re had been many proposals to change the rules, but none of them had been appro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bía habido muchas propuestas para cambiar las reglas, pero ninguna había sido aproba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oday’s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English verb tenses into Span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the English passive v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w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there + 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ould there be time to finish the report before the Confere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ere will the Annual Convention be h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ould there be time to finish the report before the Confere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Habría tiempo de terminar el informe antes de la conferenc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ere will the Annual Convention be h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Dónde se celebrará la Convención Anu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omework - Translate into Span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ylenol is a brand of drugs recommended for relieving pain, reducing fever, and relieving the symptoms of allergies, cold, cough, and flu. It is marketed as an analgesic and antipyret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4 Imagen" descr="label.jpg"/>
          <p:cNvPicPr/>
          <p:nvPr/>
        </p:nvPicPr>
        <p:blipFill>
          <a:blip r:embed="rId1"/>
          <a:stretch/>
        </p:blipFill>
        <p:spPr>
          <a:xfrm>
            <a:off x="1928880" y="1214280"/>
            <a:ext cx="5214960" cy="21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This definition opens up the category for metallic polymers and other organic metals, which have been made by researchers and employed in high-tech de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lcohol and acetaminophen should never be taken together, as it is very damaging to the l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e into Span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information stored in the file may be related with any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información almacenada en el archivo puede estar relacionada con cualquier co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5840" y="713880"/>
            <a:ext cx="85723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percomputers in particular often have highly sophisticated architectures that differ significantly from the basic stored-program archite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supercomputadoras, en particular, cuentan frecuentemente con arquitecturas altamente sofisticadas que difieren significativamente de la arquitectura básica de programas almacen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Metals occupy the bulk of the Periodic Table, while non-metallic elements can only be found on the right-hand-side of the Periodic Table of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metales ocupan la mayor parte de la Tabla Periódica, mientras que los elementos no metálicos sólo pueden encontrarse en el lado derecho de la Tabla Periódica de Ele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 Foreign language teachers should encourage their students to read in the language they ar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maestros de lenguas extranjeras deben alentar a sus estudiantes a que lean (a leer) en la lengua que están aprendiendo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simple past t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December 17, 1903 Wilbur W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atch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amazement as his brother Orvil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ok of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and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world's first powered airplane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17 de diciembre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03, Wilbur Wright observó sorprendido que su hermano Orville despegaba y aterrizaba el primer avión propulsado del mundo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Imagen" descr="historia-aviacion-hermanos-wright.png"/>
          <p:cNvPicPr/>
          <p:nvPr/>
        </p:nvPicPr>
        <p:blipFill>
          <a:blip r:embed="rId1"/>
          <a:stretch/>
        </p:blipFill>
        <p:spPr>
          <a:xfrm>
            <a:off x="5143680" y="2428920"/>
            <a:ext cx="33969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 problem arising from the past t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3" marL="1584000" indent="-2260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rregular verbs in the pa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ke off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ook 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e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reak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NOT FOUND IN DICTIONARIES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present per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840" y="856800"/>
            <a:ext cx="8501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society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as passed throug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huge and lasting chan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sociedad humana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a atravesad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 cambios grandes y durader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rce and industry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a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way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be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y closely rel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mercio y la industria siempr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an estad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y estrechamente relacionado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9:55:34Z</dcterms:created>
  <dc:creator>Sergio</dc:creator>
  <dc:description/>
  <dc:language>en-US</dc:language>
  <cp:lastModifiedBy>*</cp:lastModifiedBy>
  <dcterms:modified xsi:type="dcterms:W3CDTF">2013-11-03T17:30:31Z</dcterms:modified>
  <cp:revision>87</cp:revision>
  <dc:subject/>
  <dc:title>Translating Scientific and Technical texts into Spanish</dc:title>
</cp:coreProperties>
</file>