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8AF-2B67-4E84-B685-18984620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615-E519-40AE-85D5-42DE1F48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039-B24A-4867-BD8B-7542A2D5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4A0-A067-4B5B-B210-B88F1FA5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70E-6987-4AC4-8309-BF6D5827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D54-2C14-4E66-BB33-AC6D07A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C3D-F311-4CA3-93FA-69746504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925-3506-44C0-AF7F-16073606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564-59DC-452D-89D4-5FE45E97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315-CF5D-4E3E-B032-F3FAF94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E26-F43C-4C3B-B8BF-413D8E5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9C5-C27F-44DC-901E-8E7C859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A01F-847B-499A-B819-495F6C2369A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Scientific and Technical texts into Spanish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itles including –ing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actical teaching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deas prácticas para la enseña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gaging the liste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ómo involucrar al que escu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oking to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rando al futu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ding – reviving a dying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lectura: cómo revivir un arte moribu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ing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óximos ev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going teacher education in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ducación continua de maestros en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rong translations of the English ger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iginally, they were the size of a large room,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onsum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s much power as hundreds of modern personal comput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iginalmente, eran del tamaño de una habitación grande, (consumiendo /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y consumía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tanta electricidad como cientos de computadoras personales moder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14200" y="28548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nsmission of the virus to humans is not common and does not always lead to human influenza, often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sult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only in the production of antibodies in the bl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transmisión del virus a los humanos no es común, y no siempre conduce a la gripe humana, </a:t>
            </a:r>
            <a:r>
              <a:rPr b="1" lang="es-ES" sz="3200" spc="-1" strike="noStrike">
                <a:solidFill>
                  <a:srgbClr val="948a54"/>
                </a:solidFill>
                <a:latin typeface="Calibri"/>
              </a:rPr>
              <a:t>provocand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solamente la producción de anticuerpos en la sang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transmisión del virus a los humanos no es común, y no siempre conduce a la gripe humana.  Con frecuencia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trae como consecuenci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sólo la producción de anticuerpos en la sang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the –ing partici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rt failure is a syndrome 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anifes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the inability of the heart to fill with or eject blood due to any structural or functional cardiac conditions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insuficiencia cardíaca es un síndrom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que se manifies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o la incapacidad de llenado o de expulsión de sangre del corazón debido a algún daño cardíaco estructural o funcio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centr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urther worsen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oa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ditions on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mai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yocytes and perpetuates the deleterious cycle. The idea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owe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all stress to slow the process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long been exploited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ea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art failure pat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remodelació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xcéntrica empeora más las condicione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de carga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os miocitos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restant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y perpetúa el ciclo perjudicial. La idea de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bajar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a tensión de la pared para enlentecer el proceso de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 remodelación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urante mucho tiempo ha sido explotada en el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tratami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os pacientes con insuficiencia cardíaca.</a:t>
            </a:r>
            <a:r>
              <a:rPr b="0" lang="es-E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d by specialized cells that recognize incoming viruses and bacteria, antibodies act as molecular barricades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lock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thogens from infecting healthy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idos por células especializadas que detectan nuevos virus y  bacterias, los anticuerpos actúan como barricadas moleculares, </a:t>
            </a:r>
            <a:r>
              <a:rPr b="1" lang="en-US" sz="3200" spc="-1" strike="noStrike">
                <a:solidFill>
                  <a:srgbClr val="948a54"/>
                </a:solidFill>
                <a:latin typeface="Calibri"/>
              </a:rPr>
              <a:t>no permitiendo (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…) y no permi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 los patógenos infecten las células sa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-ing vs –ed parti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esting / inter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iding / hid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oring / b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mazing / ama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eing / b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-ing vs –ed parti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l Conference participants found the opening speech very (interesting / interest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l Conference participants were very (interesting / interested) in the opening spe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-ing vs –ed parti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l Conference participants found the opening speech very (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terest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/ interest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l Conference participants were very (interesting /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terest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in the opening spe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–ing forms into Span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contrast between –ing and –ed forms in English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eing vs b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is topic has ________ addressed by several lecturers toda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is topic h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ee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ddressed by several lecturers toda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w vaccine is currently  ____ tested in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w vaccine is currently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e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ested in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is topic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ee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ddress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by several lecturers toda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e tem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 sido abordad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hoy por varios conferenc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w vaccin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urrently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e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est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ueva vacun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e está proban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animales en estos mo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t expressions with gerund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doctors had a hard tim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iagnos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he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engineers had lots of troubl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igning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w pr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r. Benson is looking forward t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et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with all of us next month ag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have been training for 20 years and it’s not always easy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itt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such a demanding sport with the pressures of work, study and family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levo 20 años entrenando y no es fáci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daptars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 un deporte tan exigente cuando uno tiene presiones de trabajo, estudio y de la  famil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214200"/>
            <a:ext cx="8115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lenol is a brand of drugs recommended for relieving pain, reducing fever, and relieving the symptoms of allergies, cold, cough, and flu. It is marketed as an analgesic and antipyret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lenol es una marca de medicamento que se recomienda para aliviar el dolor, reducir la fiebre, y aliviar los síntomas de alergia, resfriado, tos y gripe.  Se comercializa como analgésico y antipirético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This definition opens up the category for metallic polymers and other organic metals, which have been made by researchers and employed in high-tech de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definición da inicio a la categoría para polímeros metálicos y otros metales orgánicos, que han sido creados por los investigadores y utilizados en equipos de alta tecnologí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lcohol and acetaminophen should never be taken together, as it is very damaging to the l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se debe mezclar alcohol y acetaminofén, pues resulta muy dañino para el hígad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se debe consumir alcohol cuando se toma acetaminofén, pues resulta muy perjudicial para el híg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138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erund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each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glish in Polish sch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ttend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n international conferenc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s a great opportunity to meet people.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She talked about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earn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styles.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esent participles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factory i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los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od production i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creas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t’s talk about th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om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v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un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wimm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eginn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djectives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terest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or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outsta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erund = gerund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machine was not programmable in the modern sense, being designed only to solve systems of linear eq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máquina no era programable en el sentido moderno, </a:t>
            </a:r>
            <a:r>
              <a:rPr b="1" lang="es-ES" sz="3200" spc="-1" strike="noStrike">
                <a:solidFill>
                  <a:srgbClr val="31859c"/>
                </a:solidFill>
                <a:latin typeface="Calibri"/>
              </a:rPr>
              <a:t>estando diseñada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lamente para resolver sistemas de ecuaciones line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máquina no era programable en el sentido moderno,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pues estaba diseñada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lamente para resolver sistemas de ecuaciones line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ving analyzed the issue thoroughly, I think we are now ready to vo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3200" spc="-1" strike="noStrike">
                <a:solidFill>
                  <a:srgbClr val="77933c"/>
                </a:solidFill>
                <a:latin typeface="Calibri"/>
              </a:rPr>
              <a:t>Habiendo analizad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Luego de haber analiza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blema minuciosamente, creo que ya estamos listos para vot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55:34Z</dcterms:created>
  <dc:creator>Sergio</dc:creator>
  <dc:description/>
  <dc:language>en-US</dc:language>
  <cp:lastModifiedBy>*</cp:lastModifiedBy>
  <dcterms:modified xsi:type="dcterms:W3CDTF">2013-11-03T17:31:09Z</dcterms:modified>
  <cp:revision>73</cp:revision>
  <dc:subject/>
  <dc:title>Translating Scientific and Technical texts into Spanish</dc:title>
</cp:coreProperties>
</file>