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5C5-0828-45D8-A3CC-9F3C8C76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B31-99AF-4394-B419-12526FF1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266-0211-4464-A68A-1B579D86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39F-35FA-4B84-B805-7A5F416B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D71-172E-478D-94A3-E2DCD5CF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76A-B82A-48E3-B3E0-26349426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660-C718-47FD-86CA-3655F815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352-AABF-419D-AD9C-4CA8A11A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160-36E5-46E3-A09A-72D9C891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7F3-CD9E-45C7-BDA0-E022AF7C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63E-E0D8-447B-8BE3-D19E0036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9A9-8F01-44A4-BB27-2AF5ED28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AED9-D3AF-4AB4-8414-A0AB6F56B3F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ing Scientific and Technical texts into Spanish 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rof. Sergio Font Milián, Ph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maining profits which the directors may determine to apply in payment of dividends shall be distributed among the holders of common shares exclusive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resto de las ganancias que los directores puedan decidir utilizar en pago de dividendos deberá ser distribuido exclusivamente entre los poseedores de acciones ordinari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English subjun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ylaws of the company state that the annual shareholders' meeting for the election of directo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ld at such time each year as the board of directors determin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reglamento de la compañia establece que la reunión anual de los accionistas para la elección de los directores se celebre en la fecha del año que determinen los direc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ritish experts have recommended that the whale be returned to its native Icelandic s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pertos británicos han recomendado que se regrese a la ballena a los mares islandeses donde naci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s + past particip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85560"/>
            <a:ext cx="8329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cognitive development of the low ability students is not adequate, as evidenced by the placement of these children in special learning disability cla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desarrollo cognitivo de los estudiantes con bajo desarrollo de habilidades no es adecuado, tal y como se evidencia / según se evidencia en la ubicación de estos niños en grupos especiales para estudiantes con discapacidades en el aprendiza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arning a foreign language is a very complex process, as described by several linguists and edu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aprendizaje de una lengua extranjera es un proceso muy complejo, según ha sido descrito por varios lingüistas y educador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ranslating conditional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 English subjun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 use of “shall” in legal doc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ranslating “as” followed by past partici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oday’s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ranslating conditional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 English subjun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 use of “shall” in legal doc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ranslating “as” followed by past partici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ditio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an shareholders exercis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rol if the directors fail to protect their interest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¿Los accionistas pueden asumir el control si los directores dejan de proteger sus interes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7855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irman warned that if investors were asked for more money, they might exercise their option to sell their sha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esidente advirtió que si se les pidiera más dinero a los inversionistas, ellos podrían optar por vender sus acciones.  / … los inversionistas podrían optar por vender sus acciones si se les pidiera más dinero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f the disease had been diagnosed earlier and proper treatment had been administered, the patient would have surviv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i se hubiese diagnosticado más temprano la enfermedad y se hubiese aplicado el tratamiento apropiado, el paciente habría sobrevivid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f the meeting hadn’t been put off,            Dr. Smith would have been able to lecture on his latest discoveri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i no se hubiese pospuesto la reunión, el Dr. Smith habría podido dictar/impartir su conferencia sobre sus descubrimientos más recient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ditionals using SHOU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remain at your disposal, should you wish to discuss your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uedo a su disposición, en caso que usted desee discutir sus posibilidades/op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you have any further questions, do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esitate to contact us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No deje de ponerse en contacto con nosotros si tiene alguna otra pregun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ditionals using UNL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 change of terms of this agreement shall bind either party unless in writing and signed by both parti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inguna de las partes queda obligada a cumplir ningún cambio en los términos de este acuerdo a menos que haya sido reflejado por escrito y firmado por ambas partes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Using Shall in legal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legal documents. the verb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hall is used to indicate obligation. to express a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mise or to make a declaration to which the parties involved are legally bound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legal texts.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hall usually expresses the meaning of 'must' (obligation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9:55:34Z</dcterms:created>
  <dc:creator>Sergio</dc:creator>
  <dc:description/>
  <dc:language>en-US</dc:language>
  <cp:lastModifiedBy>*</cp:lastModifiedBy>
  <dcterms:modified xsi:type="dcterms:W3CDTF">2013-11-03T17:32:00Z</dcterms:modified>
  <cp:revision>69</cp:revision>
  <dc:subject/>
  <dc:title>Translating Scientific and Technical texts into Spanish</dc:title>
</cp:coreProperties>
</file>