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20A-7E94-44B5-BB2E-157DE67B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258-6986-49C5-99F3-FA022A6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F45-8BE6-43BF-A9B3-69C0A04C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C74-9A1C-437A-95BF-23E8CDA1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E36-7E8F-4932-9969-DD3724A3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518-53CE-4DC6-8616-6A77E2A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3AA-9DF4-4266-A418-6BF3D09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236-3AE7-487D-ACBD-E3ABB1F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DD4-249F-4060-8480-3C8FEC00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308-0252-4D76-A6EC-54B719A1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FD8-430F-46E7-AAA0-405F906A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691-106C-4402-918E-D2AD371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9E6-BC5F-4932-ABC5-7DA6CB79322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ing Scientific and Technical texts into Spanish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maining profits which the directors may determine to apply in payment of dividends shall be distributed among the holders of common shares exclusiv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resto de las ganancias que los directores puedan decidir utilizar en pago de dividendos deberá ser distribuido exclusivamente entre los poseedores de acciones ordinari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ylaws of the company state that the annual shareholders' meeting for the election of directo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ld at such time each year as the board of directors determi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reglamento de la compañia establece que la reunión anual de los accionistas para la elección de los directores se celebre en la fecha del año que determinen los dire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itish experts have recommended that the whale be returned to its native Icelandic s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pertos británicos han recomendado que se regrese a la ballena a los mares islandeses donde naci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s + past partici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gnitive development of the low ability students is not adequate, as evidenced by the placement of these children in special learning disability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esarrollo cognitivo de los estudiantes con bajo desarrollo de habilidades no es adecuado, tal y como se evidencia / según se evidencia en la ubicación de estos niños en grupos especiales para estudiantes con discapacidades en el aprendiza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arning a foreign language is a very complex process, as described by several linguists and edu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rendizaje de una lengua extranjera es un proceso muy complejo, según ha sido descrito por varios lingüistas y educador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condition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use of “shall” in legal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“as” followed by past parti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condition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English subjun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use of “shall” in legal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ranslating “as” followed by past parti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an shareholders exercis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ol if the directors fail to protect their interes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¿Los accionistas pueden asumir el control si los directores dejan de proteger sus interes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irman warned that if investors were asked for more money, they might exercise their option to sell their sha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esidente advirtió que si se les pidiera más dinero a los inversionistas, ellos podrían optar por vender sus acciones.  / … los inversionistas podrían optar por vender sus acciones si se les pidiera más diner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the disease had been diagnosed earlier and proper treatment had been administered, the patient would have surv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se hubiese diagnosticado más temprano la enfermedad y se hubiese aplicado el tratamiento apropiado, el paciente habría sobrevivi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the meeting hadn’t been put off,            Dr. Smith would have been able to lecture on his latest discoveri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no se hubiese pospuesto la reunión, el Dr. Smith habría podido dictar/impartir su conferencia sobre sus descubrimientos más recien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 using SHOU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remain at your disposal, should you wish to discuss your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edo a su disposición, en caso que usted desee discutir sus posibilidades/op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have any further questions, do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sitate to contact us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No deje de ponerse en contacto con nosotros si tiene alguna otra pregu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ditionals using UNL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change of terms of this agreement shall bind either party unless in writing and signed by both par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inguna de las partes queda obligada a cumplir ningún cambio en los términos de este acuerdo a menos que haya sido reflejado por escrito y firmado por ambas parte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sing Shall in legal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legal documents. the verb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hall is used to indicate obligation. to express 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mise or to make a declaration to which the parties involved are legally bound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legal texts.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hall usually expresses the meaning of 'must' (obligation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9:55:34Z</dcterms:created>
  <dc:creator>Sergio</dc:creator>
  <dc:description/>
  <dc:language>en-US</dc:language>
  <cp:lastModifiedBy>*</cp:lastModifiedBy>
  <dcterms:modified xsi:type="dcterms:W3CDTF">2013-11-03T17:32:00Z</dcterms:modified>
  <cp:revision>69</cp:revision>
  <dc:subject/>
  <dc:title>Translating Scientific and Technical texts into Spanish</dc:title>
</cp:coreProperties>
</file>