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C8E-230C-4349-AACE-389AA412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73D-C82B-4FBF-9006-C03314FA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B2A-1D23-4D36-83BE-F1C68C5F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D47-EB87-4F20-8E76-91AE2054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A5A-41DA-47A5-8588-7FFBD057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C2F-D2F5-4F9E-B3F4-CDB1AB7F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DF1-F5C5-4275-BBF1-4B89B883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A86-8514-47F1-B990-EAC04EC8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240-96FD-4C2E-93D2-B7B9A404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1F5-2998-465C-ADA4-02ED34BE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5C8-DBD4-4DE5-88B0-EFD3F20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35E-60EA-4076-8814-03A09E1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C73F-B0E6-431C-9E45-A486D6CF1B7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Scientific and Technical texts into Spanish (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t does not make sense to transport materials for recyc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tiene sentido transportar materiales para reciclarlo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t is possible of course that other industries may produce entirely different resul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s posible, por supuesto, que otras industrias puedan obtener resultados completamente diferent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t would also be interesting to measure satisfaction over several periods of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mbién sería interesante medir la satisfacción en varios períodos de tiem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t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at are the characteristics of a successful invention?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t’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original and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t’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t’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been clearly stated that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here’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plenty of evidence that this chemical substance can be hamful.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act that a medication is over-the-counter, does not mean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t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pletely sa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’s medical records showed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’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en operated on his throat two years bef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confirmed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’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willing to undergo the treatment as prescribed by the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ng noun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approaches that have been used are (a) calculator-type programs, (b) simulations, and (c) mathematical programming approa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nfoques que se han utilizado son (a) programas de tipo calculadora, (b) simulaciones, y (c) enfoques matemáticos de programación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importance and complexity of the machinery selection problem has resulted in numerous efforts to develop analytical models which will yield generalizable selection guide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importancia y complejidad del problema de la selección de la maquinaria ha traído como consecuencia la realización de numerosos esfuerzos para desarrollar modelos analíticos que producirán lineamientos generalizables de selec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typical domestic water heating system consists of three main parts, which are: (a) roof mounted solar collectors, (b) a solar storage tank, and (c) an existing water he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 sistema doméstico típico de calentamiento de agua consta de tres partes fundamentales que son (a) colectores solares montados en los techos, (b) tanques de almacenamiento solar, y (c) un calentador de agua existent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False cog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“it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ontr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ong noun phr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lse cog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“i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t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ng noun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lse cog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patient’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conditio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will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eventuall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t worse and the chances of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ucces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re very sli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estad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l paciente empeorará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con el tiemp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y las posibilidades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éxi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son muy poc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ould like to invite all members of the department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tte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c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 gustaría invitar a todos los miembros del departamento a asistir a la conferen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ugges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ppreci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gradecer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ualqui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ugerenc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isfaction depends on the relation between the job outcomes desired and expected by the worker, and tho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ctu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satisfacción depende de la relación entre resultados del trabajo deseados y esperados por el trabajador, y aquellos qu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almen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 reciben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me extreme animal rights activists believe that it is better to allow a species to become extinct than to confine it to a prison-like zo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gunos activistas de extremo de los derechos de los animales creen que es mejor permitir la extinción de una especie a su confinamiento en un zoológico parecido a una pris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t is important to emphasize that methodological problems in the research design limit our interpretation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importante enfatizar que algunos problemas metodológicos en el diseño de la investigación limitan nuestras interpret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 your attorney, I would suggest that you take a look at your options from a financial perspective and make a determination as to whether it is wor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o su abogado, yo sugeriría que (usted) analice sus opciones desde una perspectiva financiera y tome una decisión en cuanto a si vale la pen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t is recognized that the introduction or modification of risk in the production process affects the pattern of resource allo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conoce que la introducción o modificación del riesgo en el proceso de producción afecta el patrón de asignación de recurso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9:55:34Z</dcterms:created>
  <dc:creator>Sergio</dc:creator>
  <dc:description/>
  <dc:language>en-US</dc:language>
  <cp:lastModifiedBy>*</cp:lastModifiedBy>
  <dcterms:modified xsi:type="dcterms:W3CDTF">2013-11-03T17:32:39Z</dcterms:modified>
  <cp:revision>95</cp:revision>
  <dc:subject/>
  <dc:title>Translating Scientific and Technical texts into Spanish</dc:title>
</cp:coreProperties>
</file>