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574-76A6-4EF5-9B9F-C3511811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804-A8CF-4EDB-8795-AB4C1F9C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167-BB44-4FAA-87C9-3FD9AB84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D52-23B5-4327-939E-C74E9890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743-218E-4358-A1BD-7CC7A15D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6A5-9EA0-49FF-917B-09DEEA2A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436-1952-4BEF-A936-46D699E4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BA3-118F-48BD-A7F7-FF4715C2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198A-842D-4C02-A0DB-973B86DF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F83-9DC9-43DB-8C9B-A6008D05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E36-94F3-4C6E-8232-0F77DA6D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804-40E4-4E53-BC65-E3D1E959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C306-6C41-405C-A88E-26770DE8382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ing Scientific and Technical texts into Spanish (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rof. Sergio Font Milián, Ph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oday’s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9:55:34Z</dcterms:created>
  <dc:creator>Sergio</dc:creator>
  <dc:description/>
  <dc:language>en-US</dc:language>
  <cp:lastModifiedBy>*</cp:lastModifiedBy>
  <dcterms:modified xsi:type="dcterms:W3CDTF">2013-11-03T17:34:00Z</dcterms:modified>
  <cp:revision>13</cp:revision>
  <dc:subject/>
  <dc:title>Translating Scientific and Technical texts into Spanish</dc:title>
</cp:coreProperties>
</file>