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E286-39EA-439C-808E-276C9F48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3C32-9C72-431B-B157-47BDD481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85E0-8E7A-46FA-A409-E6D3D90E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478E-812C-4FC3-96CC-0F195833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E3F6-0ED5-4ECB-BC5C-04DE9E7B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AF61-B354-4C96-9201-17E81CCF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A35-8524-46FD-9F0E-949C4D0B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A036-A40E-4D8E-AF8F-02A8476C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024D-EBB5-4018-AD88-B9466AA5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539D-E43F-4CCC-A8B7-FF0DDF83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E5F1-CBDA-4548-8B1B-78498E49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BCEC-0C54-4DDF-86A1-14B8F712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D938-D2FE-41E4-A5E0-53F9F713981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V photo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2643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395280" y="1800000"/>
            <a:ext cx="8497800" cy="123516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53966" dir="27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Century Gothic"/>
              </a:rPr>
              <a:t>The curriculum vitae (CV)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99800" y="4797360"/>
            <a:ext cx="6927480" cy="70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99"/>
                </a:solidFill>
                <a:latin typeface="Century Gothic"/>
              </a:rPr>
              <a:t>Gilberto Díaz-Santos, Ph.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95280" y="1197000"/>
          <a:ext cx="8280360" cy="4479840"/>
        </p:xfrm>
        <a:graphic>
          <a:graphicData uri="http://schemas.openxmlformats.org/drawingml/2006/table">
            <a:tbl>
              <a:tblPr/>
              <a:tblGrid>
                <a:gridCol w="1333440"/>
                <a:gridCol w="1754280"/>
                <a:gridCol w="2787480"/>
                <a:gridCol w="2405160"/>
              </a:tblGrid>
              <a:tr h="17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g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ea of special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stitution, 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itle of cour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stitution, 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7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osition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job 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part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stitution, 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136"/>
          <p:cNvSpPr/>
          <p:nvPr/>
        </p:nvSpPr>
        <p:spPr>
          <a:xfrm>
            <a:off x="250920" y="260280"/>
            <a:ext cx="8642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Order in presenting data -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Education &amp;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16000" y="1052640"/>
          <a:ext cx="8820000" cy="944280"/>
        </p:xfrm>
        <a:graphic>
          <a:graphicData uri="http://schemas.openxmlformats.org/drawingml/2006/table">
            <a:tbl>
              <a:tblPr/>
              <a:tblGrid>
                <a:gridCol w="1079280"/>
                <a:gridCol w="1297080"/>
                <a:gridCol w="2519280"/>
                <a:gridCol w="39243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.En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chanical engineer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olytechnic University of Holgu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216000" y="2401920"/>
          <a:ext cx="8845560" cy="1243080"/>
        </p:xfrm>
        <a:graphic>
          <a:graphicData uri="http://schemas.openxmlformats.org/drawingml/2006/table">
            <a:tbl>
              <a:tblPr/>
              <a:tblGrid>
                <a:gridCol w="1151640"/>
                <a:gridCol w="216000"/>
                <a:gridCol w="3846240"/>
                <a:gridCol w="3631680"/>
              </a:tblGrid>
              <a:tr h="17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crosoft Office 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chool of Tourism, Varad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50920" y="3841920"/>
          <a:ext cx="8713800" cy="1242720"/>
        </p:xfrm>
        <a:graphic>
          <a:graphicData uri="http://schemas.openxmlformats.org/drawingml/2006/table">
            <a:tbl>
              <a:tblPr/>
              <a:tblGrid>
                <a:gridCol w="1403280"/>
                <a:gridCol w="1865160"/>
                <a:gridCol w="3121200"/>
                <a:gridCol w="2324160"/>
              </a:tblGrid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3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pt. of human resourc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ubataxi, Cienfue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72" name="Rectangle 106"/>
          <p:cNvSpPr/>
          <p:nvPr/>
        </p:nvSpPr>
        <p:spPr>
          <a:xfrm>
            <a:off x="250920" y="260280"/>
            <a:ext cx="8642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Order in presenting data -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Education &amp;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50920" y="5354640"/>
          <a:ext cx="8713800" cy="1243080"/>
        </p:xfrm>
        <a:graphic>
          <a:graphicData uri="http://schemas.openxmlformats.org/drawingml/2006/table">
            <a:tbl>
              <a:tblPr/>
              <a:tblGrid>
                <a:gridCol w="1584360"/>
                <a:gridCol w="1296720"/>
                <a:gridCol w="2664000"/>
                <a:gridCol w="3168720"/>
              </a:tblGrid>
              <a:tr h="169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3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ur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tensive care un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ira García Hospital, Hav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250920" y="18792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Abbreviations indicating degrees ea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-38160" y="907920"/>
            <a:ext cx="87868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en-US" sz="3200" spc="-1" strike="noStrike">
                <a:solidFill>
                  <a:srgbClr val="a50021"/>
                </a:solidFill>
                <a:latin typeface="Century Gothic"/>
              </a:rPr>
              <a:t>B.A.</a:t>
            </a:r>
            <a:r>
              <a:rPr b="0" i="1" lang="en-US" sz="32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i="1" lang="en-US" sz="3200" spc="-1" strike="noStrike">
                <a:solidFill>
                  <a:srgbClr val="a50021"/>
                </a:solidFill>
                <a:latin typeface="Century Gothic"/>
              </a:rPr>
              <a:t>B.Ed.</a:t>
            </a:r>
            <a:r>
              <a:rPr b="0" i="1" lang="en-US" sz="32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i="1" lang="en-US" sz="3200" spc="-1" strike="noStrike">
                <a:solidFill>
                  <a:srgbClr val="a50021"/>
                </a:solidFill>
                <a:latin typeface="Century Gothic"/>
              </a:rPr>
              <a:t>B.S.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or</a:t>
            </a:r>
            <a:r>
              <a:rPr b="1" i="1" lang="en-US" sz="3200" spc="-1" strike="noStrike">
                <a:solidFill>
                  <a:srgbClr val="a50021"/>
                </a:solidFill>
                <a:latin typeface="Century Gothic"/>
              </a:rPr>
              <a:t> B.Sc.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i="1" lang="en-US" sz="3200" spc="-1" strike="noStrike">
                <a:solidFill>
                  <a:srgbClr val="a50021"/>
                </a:solidFill>
                <a:latin typeface="Century Gothic"/>
              </a:rPr>
              <a:t>B.Eng.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(Bachelor of Arts, Bachelor of Education, Bachelor of Science, Bachelor of Engineer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-36360" y="2852640"/>
            <a:ext cx="88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en-US" sz="3200" spc="-1" strike="noStrike">
                <a:solidFill>
                  <a:srgbClr val="a50021"/>
                </a:solidFill>
                <a:latin typeface="Century Gothic"/>
              </a:rPr>
              <a:t>M.A.</a:t>
            </a:r>
            <a:r>
              <a:rPr b="0" i="1" lang="en-US" sz="32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i="1" lang="en-US" sz="3200" spc="-1" strike="noStrike">
                <a:solidFill>
                  <a:srgbClr val="a50021"/>
                </a:solidFill>
                <a:latin typeface="Century Gothic"/>
              </a:rPr>
              <a:t>M.Ed.</a:t>
            </a:r>
            <a:r>
              <a:rPr b="0" i="1" lang="en-US" sz="32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i="1" lang="en-US" sz="3200" spc="-1" strike="noStrike">
                <a:solidFill>
                  <a:srgbClr val="a50021"/>
                </a:solidFill>
                <a:latin typeface="Century Gothic"/>
              </a:rPr>
              <a:t>M.S.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or</a:t>
            </a:r>
            <a:r>
              <a:rPr b="1" i="1" lang="en-US" sz="3200" spc="-1" strike="noStrike">
                <a:solidFill>
                  <a:srgbClr val="a50021"/>
                </a:solidFill>
                <a:latin typeface="Century Gothic"/>
              </a:rPr>
              <a:t> M.Sc.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i="1" lang="en-US" sz="3200" spc="-1" strike="noStrike">
                <a:solidFill>
                  <a:srgbClr val="a50021"/>
                </a:solidFill>
                <a:latin typeface="Century Gothic"/>
              </a:rPr>
              <a:t>M.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a50021"/>
                </a:solidFill>
                <a:latin typeface="Century Gothic"/>
              </a:rPr>
              <a:t> M.B.A.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(Master of Arts, Master of Education, Master of Science, Doctor of Medicine, Master of Business Administra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-36360" y="5444640"/>
            <a:ext cx="8856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en-US" sz="3200" spc="-1" strike="noStrike">
                <a:solidFill>
                  <a:srgbClr val="a50021"/>
                </a:solidFill>
                <a:latin typeface="Century Gothic"/>
              </a:rPr>
              <a:t>Ph.D.</a:t>
            </a:r>
            <a:r>
              <a:rPr b="0" i="1" lang="en-US" sz="32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i="1" lang="en-US" sz="3200" spc="-1" strike="noStrike">
                <a:solidFill>
                  <a:srgbClr val="a50021"/>
                </a:solidFill>
                <a:latin typeface="Century Gothic"/>
              </a:rPr>
              <a:t>D.Ed.</a:t>
            </a:r>
            <a:r>
              <a:rPr b="0" i="1" lang="en-US" sz="32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(Doctor of Philosophy, Doctor of Edu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538200" y="27360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Abbreviations and expressions of excellence in grad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216000" y="1484640"/>
            <a:ext cx="853272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en-US" sz="3200" spc="-1" strike="noStrike">
                <a:solidFill>
                  <a:srgbClr val="a50021"/>
                </a:solidFill>
                <a:latin typeface="Century Gothic"/>
              </a:rPr>
              <a:t>summa cum laude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: with the highest hon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en-US" sz="3200" spc="-1" strike="noStrike">
                <a:solidFill>
                  <a:srgbClr val="a50021"/>
                </a:solidFill>
                <a:latin typeface="Century Gothic"/>
              </a:rPr>
              <a:t>magna cum laude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: with great hon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en-US" sz="3200" spc="-1" strike="noStrike">
                <a:solidFill>
                  <a:srgbClr val="a50021"/>
                </a:solidFill>
                <a:latin typeface="Century Gothic"/>
              </a:rPr>
              <a:t>cum laude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: with hon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hon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ith hon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663480" y="524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611280" y="4748040"/>
            <a:ext cx="8064360" cy="1921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1984 B.Eng. (hons) Mechanical Engineering, Polytechnic University of Holgu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CV photo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264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684360" y="1886040"/>
            <a:ext cx="8207280" cy="280620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Other pieces of inform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Chronological CVs on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324000" y="1003320"/>
            <a:ext cx="8569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5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ain conference presentations: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itles of presentations you have given at important events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24000" y="3196800"/>
            <a:ext cx="83516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5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ublications: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ooks or articles that you have publish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212760" y="259560"/>
            <a:ext cx="83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Typical information in chronological C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324000" y="4797360"/>
            <a:ext cx="8496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5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eviews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: books, articles or theses that you have been asked to review or refe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395280" y="1413000"/>
          <a:ext cx="8424720" cy="115884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“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itle of presentation”, name of event, institution, date, 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95280" y="2781360"/>
          <a:ext cx="8424720" cy="115884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“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itle of article”, name of publication, volume, number, date, 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0" name="Rectangle 47"/>
          <p:cNvSpPr/>
          <p:nvPr/>
        </p:nvSpPr>
        <p:spPr>
          <a:xfrm>
            <a:off x="250920" y="260280"/>
            <a:ext cx="8642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Order in presenting data -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Presentations &amp;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68360" y="4365720"/>
          <a:ext cx="8351640" cy="201132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265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“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chnothrillers and English for Science and Technology”, 19th Conference on Language and Literature, Oxford University, April 1998, U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95280" y="1413000"/>
          <a:ext cx="8424720" cy="115884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“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itle of presentation”, name of event, institution, date, 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95280" y="2781360"/>
          <a:ext cx="8424720" cy="115884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“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itle of article”, name of publication, volume, number, date, 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4" name="Rectangle 14"/>
          <p:cNvSpPr/>
          <p:nvPr/>
        </p:nvSpPr>
        <p:spPr>
          <a:xfrm>
            <a:off x="250920" y="260280"/>
            <a:ext cx="8642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Order in presenting data -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Presentations &amp;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4365720"/>
          <a:ext cx="8351640" cy="201132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201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“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chnothrillers and English for Science and Technology”,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ternational ESP Journal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vol. 19, 2000, Elsevier Science Ltd., UK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CV skills"/>
          <p:cNvPicPr/>
          <p:nvPr/>
        </p:nvPicPr>
        <p:blipFill>
          <a:blip r:embed="rId1"/>
          <a:stretch/>
        </p:blipFill>
        <p:spPr>
          <a:xfrm>
            <a:off x="203040" y="333360"/>
            <a:ext cx="8761680" cy="59911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539640" y="1886040"/>
            <a:ext cx="8207640" cy="280620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Other pieces of inform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Functional CV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49480" y="260280"/>
            <a:ext cx="62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rofessional accomplish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8"/>
          <p:cNvGrpSpPr/>
          <p:nvPr/>
        </p:nvGrpSpPr>
        <p:grpSpPr>
          <a:xfrm>
            <a:off x="117360" y="4291560"/>
            <a:ext cx="8775720" cy="2427120"/>
            <a:chOff x="117360" y="4291560"/>
            <a:chExt cx="8775720" cy="2427120"/>
          </a:xfrm>
        </p:grpSpPr>
        <p:sp>
          <p:nvSpPr>
            <p:cNvPr id="100" name="Rectangle 4"/>
            <p:cNvSpPr/>
            <p:nvPr/>
          </p:nvSpPr>
          <p:spPr>
            <a:xfrm>
              <a:off x="289080" y="4797360"/>
              <a:ext cx="860400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 algn="just">
                <a:lnSpc>
                  <a:spcPct val="125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entury Gothic"/>
                </a:rPr>
                <a:t>Served as production editor for quarterly telecommunications newsletter (2008-present)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5"/>
            <p:cNvSpPr/>
            <p:nvPr/>
          </p:nvSpPr>
          <p:spPr>
            <a:xfrm>
              <a:off x="117360" y="4291560"/>
              <a:ext cx="332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entury Gothic"/>
                </a:rPr>
                <a:t>Writing/edit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7"/>
          <p:cNvGrpSpPr/>
          <p:nvPr/>
        </p:nvGrpSpPr>
        <p:grpSpPr>
          <a:xfrm>
            <a:off x="233280" y="980280"/>
            <a:ext cx="8693280" cy="2963160"/>
            <a:chOff x="233280" y="980280"/>
            <a:chExt cx="8693280" cy="2963160"/>
          </a:xfrm>
        </p:grpSpPr>
        <p:sp>
          <p:nvSpPr>
            <p:cNvPr id="103" name="Rectangle 3"/>
            <p:cNvSpPr/>
            <p:nvPr/>
          </p:nvSpPr>
          <p:spPr>
            <a:xfrm>
              <a:off x="250920" y="1413000"/>
              <a:ext cx="8675640" cy="25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 algn="just">
                <a:lnSpc>
                  <a:spcPct val="125000"/>
                </a:lnSpc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entury Gothic"/>
                </a:rPr>
                <a:t>Coordinated and supervised conference facilities of 4 major international events (Pedagogía 2003, Expolingua 2003, Universidad 2004, and FITRANS 2004).</a:t>
              </a:r>
              <a:r>
                <a:rPr b="0" lang="es-ES" sz="32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233280" y="980280"/>
              <a:ext cx="290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entury Gothic"/>
                </a:rPr>
                <a:t>Managem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630360" y="1131480"/>
            <a:ext cx="7902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 CV enumerates a person's background and career in order to establish credentials for a position (job, studies, etc.) which involves the selection of a limited number of candidates among many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24000" y="404280"/>
            <a:ext cx="828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24000" y="1327320"/>
          <a:ext cx="8064360" cy="4255920"/>
        </p:xfrm>
        <a:graphic>
          <a:graphicData uri="http://schemas.openxmlformats.org/drawingml/2006/table">
            <a:tbl>
              <a:tblPr/>
              <a:tblGrid>
                <a:gridCol w="4033800"/>
                <a:gridCol w="4030560"/>
              </a:tblGrid>
              <a:tr h="373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eneral (professional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skill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serv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on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manag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ific (</a:t>
                      </a: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b-relate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lingual note-ta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68360" y="66348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omputer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9640" y="388980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Performing simple database queries to extract or select records according to specified cri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39640" y="142452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Creating and modifying complex Microsoft Office docu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539640" y="27072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Managing e-mail and distribution l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539640" y="560124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Troubleshooting of basic technical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468360" y="663480"/>
            <a:ext cx="47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ustomer service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539640" y="138492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Delivering excellent service at all points of contact.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75560" y="2635920"/>
            <a:ext cx="626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Building strong relationshi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584280" y="3427920"/>
            <a:ext cx="780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Obtaining and evaluating feedback from custo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468360" y="66348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inancial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71520" y="3065040"/>
            <a:ext cx="83041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5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Producing financial plans to support activities for  department or comp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96720" y="4803480"/>
            <a:ext cx="8568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5000"/>
              </a:lnSpc>
              <a:buClr>
                <a:srgbClr val="000000"/>
              </a:buClr>
              <a:buFont typeface="Century Gothic"/>
              <a:buChar char="•"/>
              <a:tabLst>
                <a:tab algn="l" pos="449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Interpreting financial data for decision-m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68360" y="1445760"/>
            <a:ext cx="8136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5000"/>
              </a:lnSpc>
              <a:buClr>
                <a:srgbClr val="000000"/>
              </a:buClr>
              <a:buFont typeface="Century Gothic"/>
              <a:buChar char="•"/>
              <a:tabLst>
                <a:tab algn="l" pos="449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Managing payment processes and docu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67280" y="663480"/>
            <a:ext cx="386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ther skills for l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541440" y="116820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449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Dri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41440" y="217224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449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Speaking foreign langu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41440" y="296460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449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Typ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541440" y="38282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449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Swim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541440" y="4796640"/>
            <a:ext cx="698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449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Handling and maintenance of electronic equip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79280" y="766800"/>
          <a:ext cx="8748720" cy="5975280"/>
        </p:xfrm>
        <a:graphic>
          <a:graphicData uri="http://schemas.openxmlformats.org/drawingml/2006/table">
            <a:tbl>
              <a:tblPr/>
              <a:tblGrid>
                <a:gridCol w="4248360"/>
                <a:gridCol w="450036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hronological C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background and career orient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unctional C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skills and potential orient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3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5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duca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5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ork experi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5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sent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5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ublic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5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wa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5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her ski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5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fessional accomplish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5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Job-related skills Employment hist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5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du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5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her ski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27" name="Rectangle 13"/>
          <p:cNvSpPr/>
          <p:nvPr/>
        </p:nvSpPr>
        <p:spPr>
          <a:xfrm>
            <a:off x="-47880" y="112680"/>
            <a:ext cx="557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entury Gothic"/>
              </a:rPr>
              <a:t>How information is presen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V skills"/>
          <p:cNvPicPr/>
          <p:nvPr/>
        </p:nvPicPr>
        <p:blipFill>
          <a:blip r:embed="rId1"/>
          <a:stretch/>
        </p:blipFill>
        <p:spPr>
          <a:xfrm>
            <a:off x="203040" y="333360"/>
            <a:ext cx="8761680" cy="59911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539640" y="2213640"/>
            <a:ext cx="8207640" cy="215100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A special feature in the language of any CV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10"/>
          <p:cNvGrpSpPr/>
          <p:nvPr/>
        </p:nvGrpSpPr>
        <p:grpSpPr>
          <a:xfrm>
            <a:off x="471600" y="237960"/>
            <a:ext cx="7916760" cy="1595160"/>
            <a:chOff x="471600" y="237960"/>
            <a:chExt cx="7916760" cy="1595160"/>
          </a:xfrm>
        </p:grpSpPr>
        <p:sp>
          <p:nvSpPr>
            <p:cNvPr id="131" name="Rectangle 4"/>
            <p:cNvSpPr/>
            <p:nvPr/>
          </p:nvSpPr>
          <p:spPr>
            <a:xfrm>
              <a:off x="471600" y="237960"/>
              <a:ext cx="284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Computer skil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5"/>
            <p:cNvSpPr/>
            <p:nvPr/>
          </p:nvSpPr>
          <p:spPr>
            <a:xfrm>
              <a:off x="539640" y="76428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 algn="just">
                <a:lnSpc>
                  <a:spcPct val="100000"/>
                </a:lnSpc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entury Gothic"/>
                </a:rPr>
                <a:t>Managing e-mail and distribution list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1"/>
          <p:cNvGrpSpPr/>
          <p:nvPr/>
        </p:nvGrpSpPr>
        <p:grpSpPr>
          <a:xfrm>
            <a:off x="138240" y="3384000"/>
            <a:ext cx="8754840" cy="1809360"/>
            <a:chOff x="138240" y="3384000"/>
            <a:chExt cx="8754840" cy="1809360"/>
          </a:xfrm>
        </p:grpSpPr>
        <p:sp>
          <p:nvSpPr>
            <p:cNvPr id="134" name="Rectangle 6"/>
            <p:cNvSpPr/>
            <p:nvPr/>
          </p:nvSpPr>
          <p:spPr>
            <a:xfrm>
              <a:off x="289080" y="3881160"/>
              <a:ext cx="860400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 algn="just">
                <a:lnSpc>
                  <a:spcPct val="125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entury Gothic"/>
                </a:rPr>
                <a:t>Served as production editor for quarterly telecommunications newsletter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7"/>
            <p:cNvSpPr/>
            <p:nvPr/>
          </p:nvSpPr>
          <p:spPr>
            <a:xfrm>
              <a:off x="138240" y="3384000"/>
              <a:ext cx="292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entury Gothic"/>
                </a:rPr>
                <a:t>Writing/edi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8"/>
          <p:cNvSpPr/>
          <p:nvPr/>
        </p:nvSpPr>
        <p:spPr>
          <a:xfrm>
            <a:off x="539640" y="185652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entury Gothic"/>
              </a:rPr>
              <a:t>I can manage e-mail and electronic lists for the distribution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324000" y="521532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entury Gothic"/>
              </a:rPr>
              <a:t>I served as the production editor for a quarterly newsletter of tele-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611280" y="1441440"/>
            <a:ext cx="8064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 CV is not written in grammatically correct sentences, but in sentences where some linguistic elements have been deleted (gapped). This makes the CV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more readable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and less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 egocentric.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539640" y="443880"/>
            <a:ext cx="828036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228600"/>
                <a:tab algn="l" pos="45720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linguistic elements most likely to be gapped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45720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rst person pronouns  (</a:t>
            </a:r>
            <a:r>
              <a:rPr b="1" i="1" lang="en-US" sz="3200" spc="-1" strike="noStrike">
                <a:solidFill>
                  <a:srgbClr val="a50021"/>
                </a:solidFill>
                <a:latin typeface="Century Gothic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Century Gothic"/>
              </a:rPr>
              <a:t> , </a:t>
            </a:r>
            <a:r>
              <a:rPr b="1" i="1" lang="en-US" sz="3200" spc="-1" strike="noStrike">
                <a:solidFill>
                  <a:srgbClr val="a50021"/>
                </a:solidFill>
                <a:latin typeface="Century Gothic"/>
              </a:rPr>
              <a:t>we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45720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uxiliary verbs  (</a:t>
            </a:r>
            <a:r>
              <a:rPr b="1" i="1" lang="en-US" sz="3200" spc="-1" strike="noStrike">
                <a:solidFill>
                  <a:srgbClr val="a50021"/>
                </a:solidFill>
                <a:latin typeface="Century Gothic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i="1" lang="en-US" sz="3200" spc="-1" strike="noStrike">
                <a:solidFill>
                  <a:srgbClr val="a50021"/>
                </a:solidFill>
                <a:latin typeface="Century Gothic"/>
              </a:rPr>
              <a:t>have</a:t>
            </a:r>
            <a:r>
              <a:rPr b="0" i="1" lang="en-US" sz="32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i="1" lang="en-US" sz="3200" spc="-1" strike="noStrike">
                <a:solidFill>
                  <a:srgbClr val="a50021"/>
                </a:solidFill>
                <a:latin typeface="Century Gothic"/>
              </a:rPr>
              <a:t>modal verbs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45720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rticles  (</a:t>
            </a:r>
            <a:r>
              <a:rPr b="1" i="1" lang="en-US" sz="3200" spc="-1" strike="noStrike">
                <a:solidFill>
                  <a:srgbClr val="a50021"/>
                </a:solidFill>
                <a:latin typeface="Century Gothic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i="1" lang="en-US" sz="3200" spc="-1" strike="noStrike">
                <a:solidFill>
                  <a:srgbClr val="a50021"/>
                </a:solidFill>
                <a:latin typeface="Century Gothic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45720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lative clause elements  (</a:t>
            </a:r>
            <a:r>
              <a:rPr b="1" i="1" lang="en-US" sz="3200" spc="-1" strike="noStrike">
                <a:solidFill>
                  <a:srgbClr val="a50021"/>
                </a:solidFill>
                <a:latin typeface="Century Gothic"/>
              </a:rPr>
              <a:t>that</a:t>
            </a:r>
            <a:r>
              <a:rPr b="0" i="1" lang="en-US" sz="32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i="1" lang="en-US" sz="3200" spc="-1" strike="noStrike">
                <a:solidFill>
                  <a:srgbClr val="a50021"/>
                </a:solidFill>
                <a:latin typeface="Century Gothic"/>
              </a:rPr>
              <a:t>which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45720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ertain prepositional phr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45720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ome sentences/phrases are reduced to attributive noun grou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395280" y="1193040"/>
            <a:ext cx="828036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5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o people who are offering you an employment, a study cours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o people (you have met or not) or organizations you would like to work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o prepare yourself for a job/studies-related inter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324000" y="228240"/>
            <a:ext cx="790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You may need to write/submit a C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324000" y="1717200"/>
            <a:ext cx="8569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riginal sentence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50021"/>
                </a:solidFill>
                <a:latin typeface="Century Gothic"/>
              </a:rPr>
              <a:t>I can speak Spanish, French, and German</a:t>
            </a:r>
            <a:r>
              <a:rPr b="0" i="1" lang="en-US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324000" y="404280"/>
            <a:ext cx="828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Examples of gapped sentences in CV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250920" y="4117320"/>
            <a:ext cx="86421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apped sentence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50021"/>
                </a:solidFill>
                <a:latin typeface="Century Gothic"/>
              </a:rPr>
              <a:t>Languages spoken: Spanish, French, Ger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395280" y="4172040"/>
            <a:ext cx="8353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apped sentence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50021"/>
                </a:solidFill>
                <a:latin typeface="Century Gothic"/>
              </a:rPr>
              <a:t>Designed web pages for Cuban radio networks (2000-200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24000" y="404280"/>
            <a:ext cx="828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Examples of gapped sentences in CV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24000" y="1268280"/>
            <a:ext cx="84960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riginal sentence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50021"/>
                </a:solidFill>
                <a:latin typeface="Century Gothic"/>
              </a:rPr>
              <a:t>Between years 2000 and 2001, I was asked to design several web pages for Cuban radio networks</a:t>
            </a:r>
            <a:r>
              <a:rPr b="0" i="1" lang="en-US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79280" y="766800"/>
          <a:ext cx="8748720" cy="5975280"/>
        </p:xfrm>
        <a:graphic>
          <a:graphicData uri="http://schemas.openxmlformats.org/drawingml/2006/table">
            <a:tbl>
              <a:tblPr/>
              <a:tblGrid>
                <a:gridCol w="4248360"/>
                <a:gridCol w="450036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hronological C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background and career orient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unctional C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skills and potential orient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3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5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duca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5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ork experi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5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sent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5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ublic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5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wa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5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her ski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5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fessional accomplish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5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Job-related skills Employment hist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5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du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5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her ski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47" name="Rectangle 76"/>
          <p:cNvSpPr/>
          <p:nvPr/>
        </p:nvSpPr>
        <p:spPr>
          <a:xfrm>
            <a:off x="-47880" y="112680"/>
            <a:ext cx="557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entury Gothic"/>
              </a:rPr>
              <a:t>How information is presen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79360" y="266760"/>
            <a:ext cx="24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Century Gothic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24000" y="83664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Find in the dictionary the meaning of the following words. Compare the meanings in each p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57280" y="2637000"/>
            <a:ext cx="6549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participate - facili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find - imp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work with - collaborate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stimulate - sugg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make good changes - revital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250920" y="188280"/>
            <a:ext cx="504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 CV and its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250920" y="836640"/>
            <a:ext cx="8497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epending on its purpose and audience, a CV will highlight the candidate's professional life different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50920" y="5070240"/>
            <a:ext cx="8424720" cy="1312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unctional CVs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focus on the skills or expertise required for a certain jo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250920" y="2948040"/>
            <a:ext cx="8497800" cy="19213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ronological CVs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show a career more comprehensively. They are useful for academic or management pos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V photo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2643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539640" y="2297520"/>
            <a:ext cx="8207640" cy="19832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Typical inform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Any C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199440" y="259560"/>
            <a:ext cx="76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Typical information in any kind of C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24000" y="909000"/>
            <a:ext cx="83516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ersonal/contact information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ull name (write your family name in BLOCK CAPITALS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itle(s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office address or home add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phon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e-mail add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216000" y="518796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formation such as date of birth, gender, race or marital status need not  b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395280" y="980640"/>
            <a:ext cx="842472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ducation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: recent school, college or postgraduate courses presented in reverse chronological or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199440" y="259560"/>
            <a:ext cx="76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Typical information in any kind of C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95280" y="3176280"/>
            <a:ext cx="820728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Work experience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: Details of paid and unpaid jobs, dates and responsibilities also presented in reverse chronological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50920" y="26028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Reverse chronological order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Dates and facts are organized starting with the most recent ev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Chronology in CV"/>
          <p:cNvPicPr/>
          <p:nvPr/>
        </p:nvPicPr>
        <p:blipFill>
          <a:blip r:embed="rId1"/>
          <a:stretch/>
        </p:blipFill>
        <p:spPr>
          <a:xfrm>
            <a:off x="900000" y="1960560"/>
            <a:ext cx="7993080" cy="470844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5"/>
          <p:cNvSpPr/>
          <p:nvPr/>
        </p:nvSpPr>
        <p:spPr>
          <a:xfrm>
            <a:off x="324000" y="2421000"/>
            <a:ext cx="287280" cy="936720"/>
          </a:xfrm>
          <a:prstGeom prst="downArrow">
            <a:avLst>
              <a:gd name="adj1" fmla="val 50000"/>
              <a:gd name="adj2" fmla="val 815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324000" y="3860640"/>
            <a:ext cx="287280" cy="936720"/>
          </a:xfrm>
          <a:prstGeom prst="downArrow">
            <a:avLst>
              <a:gd name="adj1" fmla="val 50000"/>
              <a:gd name="adj2" fmla="val 815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324000" y="5445000"/>
            <a:ext cx="287280" cy="936720"/>
          </a:xfrm>
          <a:prstGeom prst="downArrow">
            <a:avLst>
              <a:gd name="adj1" fmla="val 50000"/>
              <a:gd name="adj2" fmla="val 815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99440" y="259560"/>
            <a:ext cx="76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Typical information in any kind of C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24000" y="2708280"/>
            <a:ext cx="849600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wards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: awards received, specifying dates,  names of the awards and granting institu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1125000"/>
            <a:ext cx="842472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ffices and main responsibilities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: positions of leade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0:17:26Z</dcterms:created>
  <dc:creator>Lisandra</dc:creator>
  <dc:description/>
  <dc:language>en-US</dc:language>
  <cp:lastModifiedBy>*</cp:lastModifiedBy>
  <dcterms:modified xsi:type="dcterms:W3CDTF">2013-11-03T17:34:30Z</dcterms:modified>
  <cp:revision>62</cp:revision>
  <dc:subject/>
  <dc:title>Slide 1</dc:title>
</cp:coreProperties>
</file>