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FA4A-5400-463C-9BBE-B1AD49E2EB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0800-3504-4574-BB96-F9D7F19E13C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E12-2E85-48C8-934C-63534CFA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2BB-C832-45A1-AEE8-F9DBE721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D5C-D691-4F2C-86FB-B8826B5E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0C0-F4D1-4580-9092-BBE8EF3F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BCFE-E4D5-429F-9D92-3F9234C0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A54B-2BEB-4503-BB1B-18141857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909C-A6BB-462F-B601-1200BF20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8BE4-C94B-4734-8631-ADBC93B2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FCF1-D4FD-41B3-AD29-4BB8A122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F6BA-21EC-4483-8426-480AC4BC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AD6A-EB42-42E6-9E70-37DD9D0D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DF9-B441-48A5-BCA3-5D355E6C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1B00-E712-4937-898B-ED406547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90DE-9C05-4083-AC28-6A9B0664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BE9B-FF17-42F6-BB58-DFAF77D2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3EE8-E0A0-4302-B7BC-76AC92B5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1862-596E-4BD9-B136-0C1CA4EB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2D0-C8B1-49D2-B2F1-C934E2F5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E02-CD23-4D9D-8D39-210CC978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7AA-7549-4611-B5B7-AC052E46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631-6F73-49CA-9BF4-2B13FAD7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D7D-EBD4-48B1-812D-AB523852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89E-11FF-4E6B-A8F3-677E0804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733-AA04-458C-8DFA-4C534AA7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C9DA-7533-4816-94A8-89CEF1485E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ECAD-8427-4063-B27D-8B61BFA6B73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listed_emai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1763640" y="3284640"/>
            <a:ext cx="738036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908000" y="494172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0000"/>
                </a:solidFill>
                <a:latin typeface="Arial"/>
              </a:rPr>
              <a:t>English for emai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9640" y="0"/>
            <a:ext cx="8604360" cy="692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547640" y="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Arial"/>
              </a:rPr>
              <a:t>English for ema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763640" y="3284640"/>
            <a:ext cx="738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763640" y="3213000"/>
            <a:ext cx="7380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I. Enríquez, PhD ; E. Garbey ,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English Language TV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ome useful and commonly used acronyms and abbreviati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&amp;: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&amp; + : and/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m: in the mo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t: appoin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ap: as soon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the mo: at the mo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: for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e: in other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 abbreviations</a:t>
            </a:r>
            <a:r>
              <a:rPr b="0" lang="es-A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s: p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m: in the after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: regarding/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k: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r: year/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x: than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a: Thanks in ad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Q: Frequently aske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U: See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YI: For you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 abbrev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gds: R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eg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TW: By the w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fo: Inform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wd: Forward, which means that you send the same email to another colleag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: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: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U: Are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: Request, when you want someone to do something for y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B: You write this as a close, to wish someone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4"/>
          <p:cNvSpPr txBox="1"/>
          <p:nvPr/>
        </p:nvSpPr>
        <p:spPr>
          <a:xfrm>
            <a:off x="1258920" y="1341360"/>
            <a:ext cx="705816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cises 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tch the vocabulary used in formal emails with the less formal vocabulary below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8893080" cy="266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answer, to ask, to get in touch with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help, to need, OK, to put off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be sorry, to set up, to te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209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convenient  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assistance  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to inform     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to reply       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to regret     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to contact   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to postpone = 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to arrange    =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. to enquire    =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. to require    =     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209080" cy="6191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convenient   =    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assistance   =     hel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to inform      =     to t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to reply        =     to 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to regret      =     to be sor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to contact    =     to get in touch w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to postpone =     to put o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to arrange    =     to set 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. to enquire    =     to 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. to require    =     to n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plete the email with words from the li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convenient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 to inform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to reply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to conta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to postp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to arrange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enquire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. to require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emails-viewed"/>
          <p:cNvPicPr/>
          <p:nvPr/>
        </p:nvPicPr>
        <p:blipFill>
          <a:blip r:embed="rId1"/>
          <a:stretch/>
        </p:blipFill>
        <p:spPr>
          <a:xfrm>
            <a:off x="0" y="0"/>
            <a:ext cx="9144000" cy="66024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 flipV="1">
            <a:off x="0" y="1915920"/>
            <a:ext cx="9144000" cy="72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1197000"/>
            <a:ext cx="9144000" cy="4970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79280" y="1125360"/>
            <a:ext cx="8964720" cy="58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ar Mr. Davi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'm writing to ____about your products. Our company has diversified . Apart from what we've traded, we now ___ products for the golfers. Could we ___ a meeting with your sales reps to ____us about your products? Next week would be ____for us. Please ____ my assistant, directly.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st regards,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Zed Hollan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emails-viewed"/>
          <p:cNvPicPr/>
          <p:nvPr/>
        </p:nvPicPr>
        <p:blipFill>
          <a:blip r:embed="rId1"/>
          <a:stretch/>
        </p:blipFill>
        <p:spPr>
          <a:xfrm>
            <a:off x="0" y="0"/>
            <a:ext cx="9144000" cy="6602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 flipV="1">
            <a:off x="0" y="1915920"/>
            <a:ext cx="9144000" cy="72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1197000"/>
            <a:ext cx="9144000" cy="4970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79280" y="1125360"/>
            <a:ext cx="896472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ar Mr Davi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'm writ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enquir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bout your products. Our company has diversified . Apart from what we've traded, we now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quir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products for the golfers. Could w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rang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a meeting with your sales rep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infor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us about your products? Next week would 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venien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for us. Pleas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ac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my assistant, directly.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st regards, 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Zed Holla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listed_emails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03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0"/>
          <p:cNvSpPr/>
          <p:nvPr/>
        </p:nvSpPr>
        <p:spPr>
          <a:xfrm>
            <a:off x="2195640" y="5084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English con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1763640" y="4076640"/>
            <a:ext cx="738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908000" y="4005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stepclarkjr@hotmail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979640" y="335772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dianagr@infomed.sld.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763640" y="465300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andrabr@yahoo.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00"/>
                </a:solidFill>
                <a:latin typeface="Arial"/>
              </a:rPr>
              <a:t>Complete the table with the phrases be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65167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Arial"/>
              </a:rPr>
              <a:t>More F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you be able to help…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hesitate if you require further assi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d appreciate a reply asa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pleased to sen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732360" y="2492280"/>
            <a:ext cx="2238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Arial"/>
              </a:rPr>
              <a:t>Less F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50920" y="1197000"/>
            <a:ext cx="8713800" cy="1079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sending you …,   b. if you need any help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Please answer ASAP,  d. Can you hel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00"/>
                </a:solidFill>
                <a:latin typeface="Arial"/>
              </a:rPr>
              <a:t>Complete the table with the phrases be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651672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Arial"/>
              </a:rPr>
              <a:t>More F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you be able to help…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hesitate if you require further assi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d appreciate a reply asa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am pleased to sen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732360" y="2349360"/>
            <a:ext cx="2238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AR" sz="3600" spc="-1" strike="noStrike" u="sng">
                <a:solidFill>
                  <a:srgbClr val="ffffff"/>
                </a:solidFill>
                <a:uFillTx/>
                <a:latin typeface="Arial"/>
              </a:rPr>
              <a:t>Less F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1 -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2- 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3 -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4 - 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50920" y="1197000"/>
            <a:ext cx="8713800" cy="1079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sending you …,   b. if you need any help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Please answer ASAP,  d. Can you hel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scramble the words below and use them to complete the ga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8642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answer ________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send the price list in the _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_____ is being process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you ______ me …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 you for your 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24000" y="1484280"/>
            <a:ext cx="8640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*snde  *antttmahce  *apsa   * eqyuirn   *rqtseue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scramble the words below and use them to complete the ga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8642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answer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s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send the price list in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ttach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You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eque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s being process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 Can you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e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e …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Thank you for your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nqui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24000" y="1484280"/>
            <a:ext cx="8640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 *attachment  *asap   * enquiry   *reque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ad the email below and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 find informal languag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write the words the   abbreviations stand f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 Mark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'm coming over to Brighton 4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ference in 2 wks &amp; w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ndering if  U could sort ou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where for me to stay? I don'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much information about hotel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you help me pl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ly AS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st wish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 Mark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'm coming over to Brighton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erence i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w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eek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a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ndering if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uld sort ou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where for me to stay? I do no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much information about hotel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help m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eas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ly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s soon as possib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t wish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listed_emai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1763640" y="4076640"/>
            <a:ext cx="738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2484360" y="51577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908000" y="39337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stepclarkjr@hotmail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68360" y="0"/>
            <a:ext cx="8675640" cy="692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55640" y="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Write an email. Use the content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79280" y="404640"/>
            <a:ext cx="8785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Use the notes below to write an email to a client to set up a mee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econd meeting to finalize terms and conditions next we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ree possible ti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uesday 15/4 9 a.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ednesday 16/4 any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ursday 17/4 afternoon any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eed information on the conference schedules  (booking ends tomorrow no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324000" y="260280"/>
            <a:ext cx="864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Now look at the client's diary and write a respon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nday: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uesday: Meeting the executive bo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9-11 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ednesday: Visiting convention center all 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ursday: Meeting colleagues 10-12 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rida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aturda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unday: Camping with family and frie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ke a  cross to represent how much you agree or disagr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- You need the same language skills to write an email as you do to write a le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- if you can speak English well, you can write good ema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- Accuracy is still very important when writing ema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- If you need an answer straight away, it is better to use the phone than to send an em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sson dealt with the language used f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ing emails ,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of the common abbreviations an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ronyms in em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emails-viewed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530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179280" y="4221000"/>
            <a:ext cx="87138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324000" y="4292640"/>
            <a:ext cx="8569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Just a brief message to tell u we arrived safe and s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ove, Doro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1258920" y="2060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afe &amp; 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324000" y="2205000"/>
            <a:ext cx="8208720" cy="287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900000" y="3933720"/>
            <a:ext cx="2664000" cy="216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afe &amp; 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ch the words on the left with the Spanish definitions on the r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31669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Attac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Deleted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Draf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For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In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Out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Re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Send/rece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Sent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3280" y="981000"/>
            <a:ext cx="4043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4572000" y="1557360"/>
            <a:ext cx="4319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. Asu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. Enviar/Recib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. Respues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. Elementos envi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. Enviar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. Elementos Bor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. Ficha de Sal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. Borr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. Ficha de Ent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. Anex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ints on email wri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Arial"/>
              </a:rPr>
              <a:t>Subject line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It is short and gives information about the content of the messa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Arial"/>
              </a:rPr>
              <a:t>Opening sentence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To explain the reason why you are wri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rmal: I'm writing to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riendly and informal: Just a quick note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n advantage of emails is that they are quick and direct. Most emails have the following struc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ints on email wri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Arial"/>
              </a:rPr>
              <a:t>Salutation: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It can be formal or inform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rmal: Dear Mr, Mrs, M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ss formal: Dear Lar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formal: Hi/Hello Mary ( or just the na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ery informal: No salu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Arial"/>
              </a:rPr>
              <a:t>Main text or body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usually brief to explain the details of the messag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Very often emails-especially those from English speakers - can contain a lot of acronyms and abbreviati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ints on email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Arial"/>
              </a:rPr>
              <a:t>Conclusion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To tell the reader what kind of response, if any, you expe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riendly ending, can be used in formal and informal emails: Looking forward to your rep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formal ending to indicate a reply is necessary: Hope to hear from you so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ints on email wr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Arial"/>
              </a:rPr>
              <a:t>Clos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: Like the salutation, this can be formal or vey inform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ery formal: Yours sincer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rmal and informal (very commonly used): Regards/Best wish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riendly, informal: Bye/All the Best/B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en writing to close colleagues: Name only (or initial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21:34:27Z</dcterms:created>
  <dc:creator>Colossus User</dc:creator>
  <dc:description/>
  <dc:language>en-US</dc:language>
  <cp:lastModifiedBy>*</cp:lastModifiedBy>
  <dcterms:modified xsi:type="dcterms:W3CDTF">2013-11-03T17:35:13Z</dcterms:modified>
  <cp:revision>97</cp:revision>
  <dc:subject/>
  <dc:title>Diapositiva 1</dc:title>
</cp:coreProperties>
</file>