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0D9-0C62-4E9D-9FA3-3DDF4D7D34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995-7E6F-4FB9-B19A-BC03580580A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4CE-311F-4F1B-84A1-E73549AF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B62-1569-4EFC-B876-EEEA7A3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002-61DB-4157-8888-DF54AAC7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8B0-40DB-4BD8-A2E0-43E057E2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810-D6F2-4186-AD1E-43B5FCBB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2E33-4D8F-4014-8F20-455FF3C1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D90-5100-47D9-9431-3ECA7799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4080-02FE-42EB-854E-57A35F11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FBFF-B777-434C-83D9-7F19D3AE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BBC5-15F2-419D-AD41-6ACECCE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C482-303A-42BF-9B2D-6E97E13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DF9-AA21-47D4-B8D5-91F364D7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1A93-66B3-4E80-BC8F-45E9466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9DCF-C6A6-48C4-8BF5-A382F6CC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5755-3C82-42C8-AB92-7B74926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A05-D2D4-462A-85CB-AFDECA88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9385-A24D-474A-8D4D-B647355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048-6EC8-45E2-ABF8-4C785B4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C26-E3F6-4274-ABC9-229ECEC5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2BE-3AA3-431E-B7C2-2E89893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030-86C9-4FA0-A21B-D92B7E9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765-C1A5-41EB-AD6F-E8BD346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154-DF44-4A84-91E9-6300DDD0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C62-1A2E-41EC-889D-17D7F5E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89AF-EC41-430E-A5AA-A2D84827B5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BC70-C62E-4FD7-8E05-C415C196DD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sted_emai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763640" y="3284640"/>
            <a:ext cx="7380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08000" y="494172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nglish for emai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9640" y="0"/>
            <a:ext cx="8604360" cy="69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547640" y="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English for em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763640" y="3284640"/>
            <a:ext cx="738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763640" y="3213000"/>
            <a:ext cx="738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. Enríquez, PhD ; E. Garbey ,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nglish Language TV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me useful and commonly used acronyms and abbreviati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amp;: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amp; + : and/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: in the mo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t: appoi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ap: as soon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the mo: at the mo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: fo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e: in o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abbreviations</a:t>
            </a: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s: p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m: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: regarding/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k: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r: year/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x: tha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a: Thanks in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Q: Frequently aske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: Se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YI: For you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abbrev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gds: R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g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TW: By the 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o: Inform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d: Forward, which means that you send the same email to another collea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: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: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: Ar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: Request, when you want someone to do something for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B: You write this as a close, to wish someone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1258920" y="1341360"/>
            <a:ext cx="705816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ses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tch the vocabulary used in formal emails with the less formal vocabulary bel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893080" cy="266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answer, to ask, to get in touch with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help, to need, OK, to put off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be sorry, to set up, to t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0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assistance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inform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reply  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regret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contact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to postpone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arrang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to enquir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. to requir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09080" cy="619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 =    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assistance   =     he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inform      =     to t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reply        =     to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regret      =     to be 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contact    =     to get in touch 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to postpone =     to put o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arrange    =     to set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to enquire    =     to 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. to require    =     to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 the email with words from the li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 to inform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repl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cont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postp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arrang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enqui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requi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emails-viewed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 flipV="1">
            <a:off x="0" y="1915920"/>
            <a:ext cx="9144000" cy="72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1197000"/>
            <a:ext cx="9144000" cy="4970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9280" y="1125360"/>
            <a:ext cx="8964720" cy="58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r Mr. Dav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'm writing to ____about your products. Our company has diversified . Apart from what we've traded, we now ___ products for the golfers. Could we ___ a meeting with your sales reps to ____us about your products? Next week would be ____for us. Please ____ my assistant, directly.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st regards,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Zed Holla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mails-viewed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 flipV="1">
            <a:off x="0" y="1915920"/>
            <a:ext cx="9144000" cy="72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1197000"/>
            <a:ext cx="9144000" cy="4970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79280" y="1125360"/>
            <a:ext cx="89647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r Mr Dav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'm writ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enqui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bout your products. Our company has diversified . Apart from what we've traded, we now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qui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oducts for the golfers. Could w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rang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 meeting with your sales rep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infor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us about your products? Next week would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nien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for us. Plea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c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y assistant, directly.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st regards,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Zed Hol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listed_email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0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2195640" y="5084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glish con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763640" y="4076640"/>
            <a:ext cx="738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08000" y="40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tepclarkjr@hotmail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979640" y="3357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anagr@infomed.sld.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63640" y="465300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andrabr@yahoo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Arial"/>
              </a:rPr>
              <a:t>Complete the table with the phrases be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65167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More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help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hesitate if you require further as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d appreciate a reply as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pleased to sen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732360" y="2492280"/>
            <a:ext cx="2238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Less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0920" y="1197000"/>
            <a:ext cx="87138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sending you …,   b. if you need any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lease answer ASAP,  d. Can you hel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Arial"/>
              </a:rPr>
              <a:t>Complete the table with the phrases be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65167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More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help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hesitate if you require further as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d appreciate a reply as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pleased to sen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732360" y="2349360"/>
            <a:ext cx="2238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Less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1 -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2- 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3 -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4 - 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50920" y="1197000"/>
            <a:ext cx="87138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sending you …,   b. if you need any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lease answer ASAP,  d. Can you hel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cramble the words below and use them to complete the g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answer 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send the price list in the 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_____ is being proc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______ me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 for your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1484280"/>
            <a:ext cx="8640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*snde  *antttmahce  *apsa   * eqyuirn   *rqtseue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cramble the words below and use them to complete the g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answer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send the price list i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ttach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You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qu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being proc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Can you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e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hank you for you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qui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24000" y="1484280"/>
            <a:ext cx="8640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 *attachment  *asap   * enquiry   *reque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the email below and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 find informal languag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write the words the   abbreviations stand f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 Mark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m coming over to Brighton 4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erence in 2 wks &amp;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ing if  U could sort 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where for me to stay? I do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much information about hotel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help me pl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ly AS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t wis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 Mark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'm coming over to Brighton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erence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eek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ndering if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ld sort ou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where for me to stay? I do no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much information about hote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help m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a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s soon as possib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t wish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listed_emai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763640" y="4076640"/>
            <a:ext cx="738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484360" y="5157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908000" y="3933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tepclarkjr@hotmail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68360" y="0"/>
            <a:ext cx="8675640" cy="69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5640" y="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Write an email. Use the content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404640"/>
            <a:ext cx="878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Use the notes below to write an email to a client to set up a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cond meeting to finalize terms and conditions next we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ree possible ti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uesday 15/4 9 a.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ednesday 16/4 any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ursday 17/4 afternoon any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eed information on the conference schedules  (booking ends tomorrow no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324000" y="26028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Now look at the client's diary and write a respon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day: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uesday: Meeting the executive bo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9-11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ednesday: Visiting convention center all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ursday: Meeting colleagues 10-12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d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aturd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unday: Camping with family and frie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 cross to represent how much you agree or disag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- You need the same language skills to write an email as you do to write a l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- if you can speak English well, you can write good em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- Accuracy is still very important when writing em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- If you need an answer straight away, it is better to use the phone than to send an e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dealt with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ing emails ,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of the common abbreviations an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ronyms in em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emails-viewed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530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179280" y="4221000"/>
            <a:ext cx="87138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4000" y="429264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Just a brief message to tell u we arrived safe and s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ove, Dor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258920" y="2060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fe &amp;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24000" y="2205000"/>
            <a:ext cx="8208720" cy="287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900000" y="3933720"/>
            <a:ext cx="2664000" cy="2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afe &amp;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ch the words on the left with the Spanish definitions on the r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31669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Deleted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D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n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Out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Re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Send/re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S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3280" y="981000"/>
            <a:ext cx="404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0" y="1557360"/>
            <a:ext cx="4319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. Asu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. Enviar/Recib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. Respue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. Elementos envi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. Enviar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. Elementos Bor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. Ficha de Sa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. Borr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. Ficha de Ent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. An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Subject line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It is short and gives information about the content of the mess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Opening sentence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To explain the reason why you are wri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: I'm writing t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 and informal: Just a quick note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 advantage of emails is that they are quick and direct. Most emails have the following stru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Salutation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It can be formal or inform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: Dear Mr, Mrs, M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ss formal: Dear La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formal: Hi/Hello Mary ( or just the na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y informal: No salu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Main text or body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usually brief to explain the details of the messa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ery often emails-especially those from English speakers - can contain a lot of acronyms and abbreviati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To tell the reader what kind of response, if any, you exp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 ending, can be used in formal and informal emails: Looking forward to your rep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formal ending to indicate a reply is necessary: Hope to hear from you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Clos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Like the salutation, this can be formal or vey inform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y formal: Yours sincer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 and informal (very commonly used): Regards/Best wis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, informal: Bye/All the Best/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en writing to close colleagues: Name only (or initial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21:34:27Z</dcterms:created>
  <dc:creator>Colossus User</dc:creator>
  <dc:description/>
  <dc:language>en-US</dc:language>
  <cp:lastModifiedBy>*</cp:lastModifiedBy>
  <dcterms:modified xsi:type="dcterms:W3CDTF">2013-11-03T17:35:13Z</dcterms:modified>
  <cp:revision>97</cp:revision>
  <dc:subject/>
  <dc:title>Diapositiva 1</dc:title>
</cp:coreProperties>
</file>