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941B-F22F-40D1-88FB-A092DCE65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DF9E-542F-4537-AF49-0C0D8A8AD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240D-58D8-460D-B792-A8B76AD03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3D4-9E7C-4638-AECC-72D83FE4FD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2A8-C905-43E3-8D61-CC98D5D908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5FC-214A-4A07-938C-F96671D95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61B5-8AD3-475E-B1EA-A23584BCE6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D160-918C-47A5-8DB9-1A86632AB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19B-722F-4349-945B-86B6D6EE7F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492B-17A5-41AD-9AA4-75EA85255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A4D-8CC9-4738-B1B6-0C13277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55E-7AB0-4F90-95E3-7F807035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B7C-C4E0-4D4B-B3CC-3DFC2971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DAC-1E0D-4BB6-AB1A-DB9B38B5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F1E4-2A3E-4B43-A839-E8DA0F9C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6E6-5082-4CC8-9A6C-185F7F05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5D8F-753A-43F2-B1BB-EA101FFB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4150-6849-4C29-934C-B46F495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C1A8-BD72-4C00-BD84-7B0E46A7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86E6-47AB-4976-A4EA-809C1E1B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1AAF-0205-4021-A749-3ED9A01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616-B7E0-4089-B049-2BC5F334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0B9-855D-4041-826B-E86DB32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FD32-A8F2-4AC1-96FB-970D226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9CBB-337C-4423-9D2A-C0D70180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B883-E1EC-468B-834C-CED7D965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88A9-FA60-461B-8148-957DC521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F85-79A0-4B81-A4F9-EDE572F8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CAC-2853-492B-87C1-124D20C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17F-3C21-4042-B85D-401905AF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188-2C4B-415F-A77E-A1B14319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EF9-9E95-474A-8EB9-B002123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CEE-DF48-4A02-84FB-5F9B291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E51-DDEF-44B6-8AA3-AC15D88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5B1-A19B-45C6-9108-3FE3F8CD9B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F5E-E6FE-4110-92E8-C970235028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556000" y="1844640"/>
            <a:ext cx="587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otiating a de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Doing Busines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43480" y="54608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643280" y="515772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77840" y="587700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f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. Garbey Savigne, Cert TEB, M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Sha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G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mpetitiv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Installment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Cost-eff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79640" y="1699920"/>
            <a:ext cx="324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. Plaz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b. Rent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. Accion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. Mercancí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. Competitiv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 flipV="1">
            <a:off x="3564000" y="2133360"/>
            <a:ext cx="2016000" cy="1942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 flipV="1">
            <a:off x="3995640" y="2924280"/>
            <a:ext cx="1584360" cy="1728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2700360" y="2205000"/>
            <a:ext cx="2808360" cy="10796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635280" y="3500280"/>
            <a:ext cx="1944720" cy="1081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2556000" y="2924280"/>
            <a:ext cx="2952720" cy="10094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rehension task 1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ook at the video excerpt.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swer the ques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sue are they going to discuss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oes Bill need the goo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sue are they going to discuss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livery (they have already covered price and packing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oes he need the goo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 needs them for next mon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ch the number of the document with it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defini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right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50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Bill of lad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Commercial inv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Air wayb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Insurance certific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8000" y="1484280"/>
            <a:ext cx="579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statement of the insurance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A document of title for air trans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(i) evidence of a contract for transport of goods (ii) receipt for goods shipped (iii) a document of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A claim for payment of g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ch the number of the document with it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defini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right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50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Bill of lad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Commercial inv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Air wayb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Insurance certific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48000" y="1483920"/>
            <a:ext cx="579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statement of the insurance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A document of title for air trans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(i) evidence of a contract for transport of goods (ii) receipt for goods shipped (iii) a document of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A claim for payment of g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3132000" y="2492280"/>
            <a:ext cx="360360" cy="144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556000" y="3429000"/>
            <a:ext cx="107928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700360" y="2060280"/>
            <a:ext cx="792000" cy="331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2771640" y="3141720"/>
            <a:ext cx="720720" cy="10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rehension task 2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ook at the video excerpt .Answer the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What is Bill's intention when he said: “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hat about if we get you a 3,5% discount from the quoted pric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. Has Mr. Rodriguez rejected Bill's proposal when he stated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: “How about a 5 %?”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. What does Mr. Rodriguez mean when he said: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ear with me, though we do not normally go with that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rehension task 2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sible a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 Bill is making a proposal, trying to  negotiat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. No. he hasn't. He is bargai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. He means it is very likely he will accept the proposa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rehension task 3.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ook at the video excerpt. 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swer the questions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2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ments in the dialogue indicate the follow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 It will be an excep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We have reached an agree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rehension task 3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ossible answ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03328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ments in the dialogue indicate the follow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 It will be an excep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e do not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normally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 go with that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We have reached an agree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Yes, it is a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deal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English words with their Spanish equivalents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74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D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Comply with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Dam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Null and voi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7280" y="1915920"/>
            <a:ext cx="47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a. Daños y perjuic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b. Nulo y sin val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c. Respetar, conformarse co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d. Demand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e. Pacto, Negoc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looks at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ing business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ing intercultural aware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English words with their Spanish equivalents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74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D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Comply with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Dam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Null and voi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7280" y="1915920"/>
            <a:ext cx="47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a. Daños y perjuic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b. Nulo y sin val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c. Respetar, conformarse co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d. Demand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e. Pacto, Negoc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979640" y="2492280"/>
            <a:ext cx="2448000" cy="280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3276720" y="3213000"/>
            <a:ext cx="122400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V="1">
            <a:off x="3059280" y="2491920"/>
            <a:ext cx="1368360" cy="180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2124000" y="4365720"/>
            <a:ext cx="2303640" cy="358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V="1">
            <a:off x="3635280" y="3068280"/>
            <a:ext cx="865440" cy="2521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dition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1. Here the speaker sees the consequences as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l pos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n't sel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ur goods, we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n lo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 2. Here the speaker sees the consequence as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mote pos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w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pai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arlier,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uld g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us a discount, wouldn'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3. Here the speaker sees the consequence is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pos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d agre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w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uld have reach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d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ords and expressions that also introduce conditional sent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d/providing that,  so long 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ean “if and only if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case…   in the event that…    in the case o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xpressions indicate that a future event may or may not happ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word means “if no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e conditionals sentences using the type sugges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VENTS       CONSEQUENCES       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abs    /   Terms of reference             2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f we got new labs, we would change the terms of refer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 Higher demand/ Increase export team. 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Sales fall / Change marketing strategy   1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Learn  about their culture / Change 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siness strategy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this cartoon impl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negotiating culture"/>
          <p:cNvPicPr/>
          <p:nvPr/>
        </p:nvPicPr>
        <p:blipFill>
          <a:blip r:embed="rId1"/>
          <a:stretch/>
        </p:blipFill>
        <p:spPr>
          <a:xfrm>
            <a:off x="179280" y="1327320"/>
            <a:ext cx="896472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se are the possible conditionals sentences using the type suggest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8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 If we had a higher demand, we could  increase the export team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In case the sales fall, we should change our marketing strategy.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. If we had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learned abou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ir cultur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 we would have changed our business strategy.</a:t>
            </a: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o business worldwide it isn't enough just to understand and apply a universal business model. You also have to understand the culture of the people you are dealing wi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siness between people from different  cultures may show different attitudes to time, the role of silence, and relationship between superiors and subordin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wareness and knowledge of these differences will help to reduce the risk of misunderstandings and conflicts in international negoti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behave differently according to their cultures, how do we express in English such behavi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430200" y="0"/>
          <a:ext cx="8713800" cy="6583320"/>
        </p:xfrm>
        <a:graphic>
          <a:graphicData uri="http://schemas.openxmlformats.org/drawingml/2006/table">
            <a:tbl>
              <a:tblPr/>
              <a:tblGrid>
                <a:gridCol w="2846520"/>
                <a:gridCol w="2963880"/>
                <a:gridCol w="290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near-Act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lti-Act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act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e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ati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e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ctu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punctu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ctu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emotion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etly carin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b-orient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-orient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-oriente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limited body langua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unlimited body langua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subtle body langua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negot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process in which two or more individuals participate voluntarily sharing interests and conflicts and the final aim is to reach a d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833040"/>
            <a:ext cx="91440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f a Japanese business person nods his/her  head, it probably mea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) I understand     b) Yes      c) I am inte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n a welcome cocktail in Middle Eastern countries, which hand does one use to accept or pass fo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) Right hand   b)  Left hand    c) Either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 distinguished Korean business partner comes in and hands you his calling card with his name in the traditional Korean order. Park Chul Su. How do you address hi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) Mr. Park        b) Mr. Chul         c) Mr. 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sson dealt with the language us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ing business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intercultural awar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lden Rules in Negotiation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-571680" y="928800"/>
            <a:ext cx="352908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.PREPARE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well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ther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90560" y="1915920"/>
            <a:ext cx="4753080" cy="338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oals (ideal – walk away) and your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T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ternativ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tiat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ment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7442400">
            <a:off x="4627440" y="6108480"/>
            <a:ext cx="1641240" cy="457200"/>
          </a:xfrm>
          <a:custGeom>
            <a:avLst/>
            <a:gdLst>
              <a:gd name="textAreaLeft" fmla="*/ 287280 w 1641240"/>
              <a:gd name="textAreaRight" fmla="*/ 1190160 w 16412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 rot="753600">
            <a:off x="3979800" y="1068120"/>
            <a:ext cx="1641600" cy="457200"/>
          </a:xfrm>
          <a:custGeom>
            <a:avLst/>
            <a:gdLst>
              <a:gd name="textAreaLeft" fmla="*/ 287280 w 1641600"/>
              <a:gd name="textAreaRight" fmla="*/ 1190160 w 1641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lden Rules in Negot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716360" y="1125360"/>
            <a:ext cx="4427640" cy="2519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3. IMP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c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havior (Be open to avoi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eadlock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4427640" cy="31687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and review progress at interv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the do’s and don’ts in negot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 rot="8401800">
            <a:off x="4787640" y="4365360"/>
            <a:ext cx="1728720" cy="74448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lden Rules in Negoti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is negotiable except principles    and nee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f compromising, get something in retur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 open to suggestions.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nergy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at does </a:t>
            </a:r>
            <a:r>
              <a:rPr b="1" i="1" lang="en-GB" sz="44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stand for?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ngth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kness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ortunities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r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11280" y="3357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at does </a:t>
            </a:r>
            <a:r>
              <a:rPr b="1" i="1" lang="en-GB" sz="4400" spc="-1" strike="noStrike">
                <a:solidFill>
                  <a:srgbClr val="ffffff"/>
                </a:solidFill>
                <a:latin typeface="Arial"/>
              </a:rPr>
              <a:t>STEP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stand for?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433692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ia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hnica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omic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for Negot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981000"/>
          <a:ext cx="9144000" cy="5719680"/>
        </p:xfrm>
        <a:graphic>
          <a:graphicData uri="http://schemas.openxmlformats.org/drawingml/2006/table">
            <a:tbl>
              <a:tblPr/>
              <a:tblGrid>
                <a:gridCol w="2627280"/>
                <a:gridCol w="651672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t me outline our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cording to our agenda 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ing proposa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 you did (this), we would do (that)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return, we could/would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ing 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would be difficult for u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sounds fine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ying 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need to discuss this with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'll have to think about tha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iz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e, can we agree that…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word on the left with its Spanish definition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Sha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G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mpetitiv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Installment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Cost-eff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79640" y="1699920"/>
            <a:ext cx="324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. Plaz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b. Rent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. Accion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. Mercancí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. Competitiv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00:27:27Z</dcterms:created>
  <dc:creator>Garbey</dc:creator>
  <dc:description/>
  <dc:language>en-US</dc:language>
  <cp:lastModifiedBy>*</cp:lastModifiedBy>
  <dcterms:modified xsi:type="dcterms:W3CDTF">2013-11-03T17:36:31Z</dcterms:modified>
  <cp:revision>152</cp:revision>
  <dc:subject/>
  <dc:title>Negotiating a deal (Meetings)</dc:title>
</cp:coreProperties>
</file>