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A78F-E97E-478D-B1DB-466FF94E2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8C61-DFEE-410F-9D78-4B81181FF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F553-41D0-48AC-98C8-378CB8A31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89E5-2E8D-4081-848F-9ADA8ABAB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4302B-96E5-4F36-8DD4-9C17F64D1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A5350-8C55-4E6C-8238-3AE61ED38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F70EE-A002-4D50-A5B1-5F314094A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8AD54-C07D-4E1E-AC01-64E157CC0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1C2AF-E7C8-4AE6-BDC7-4394DE73E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0D2CF-E387-4C75-88C0-4BBFF7D8A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38D92-5F98-4281-B528-5D1551451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5BE0-38B5-402C-917E-602B663FB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ABD9B-0F3F-4424-BBFC-9D433DCCC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28289-C7A3-4635-8570-396D98E1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BE6A6-72EB-4007-BA8A-AFD9DCC31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E6F37-23F4-4FD5-9D5E-717256A65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3E298-C81D-42EA-A4CB-839962331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A876-C3F5-4D97-B4C5-057A6CD7D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E42C-C39A-45F0-AAC4-04D234C02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8842-71C0-4269-815F-E5E549C76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6CFE-0D03-451E-8338-54A4ECF94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874B-D060-4C2F-957E-6D7DE2212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CC7D-6672-4BB1-954E-81543E76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9115-8330-41BC-BF55-78F95D0C7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3EFA9-3092-4A81-8DA9-D2690C90E663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6F396-CE6D-4702-975D-551B50F24555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Negotiating a deal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(Telephoning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0560" y="2924280"/>
            <a:ext cx="8569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f. E. Garbey Savigne, Cert TEB, M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(Negotiating) At hom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A: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addy, I promise…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: Yes, Certainl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nks, Daddy</a:t>
            </a: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103280" y="1642680"/>
            <a:ext cx="5040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B: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K, if you do,                                    you may phone Lee but you must call her up late at night when phone rates are cheaper, is that righ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755640" y="90792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14-year old gir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5076720" y="907920"/>
            <a:ext cx="31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Fath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42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egotiation can not work unless communication is clea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isunderstandings in offices, homes, and companies bring phrases such a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“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I thought you meant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“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is not what you said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y are telephoning skills necessa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280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rst, the phone call normally comes when the person is in the middle of something els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condly, there is no body language  to help the person understand what the caller is trying to sa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makes a good phone call in busin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f you keep the customer happ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f you succeed  in persuading the custome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f you pass the needed information to your business partner accuratel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29840" y="-3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ow to make a good phone ca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250920" y="1052640"/>
            <a:ext cx="2376360" cy="1081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u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5364000" y="4653000"/>
            <a:ext cx="3384720" cy="1224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giv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eas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your c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124000" y="5516640"/>
            <a:ext cx="2952720" cy="1152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r partn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ys hel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250920" y="4437000"/>
            <a:ext cx="2952720" cy="936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e yoursel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5651640" y="2924280"/>
            <a:ext cx="3311280" cy="122544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h of yo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ha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10"/>
          <p:cNvSpPr/>
          <p:nvPr/>
        </p:nvSpPr>
        <p:spPr>
          <a:xfrm>
            <a:off x="6227640" y="1268280"/>
            <a:ext cx="2664000" cy="107964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y bye 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ish the c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1"/>
          <p:cNvSpPr/>
          <p:nvPr/>
        </p:nvSpPr>
        <p:spPr>
          <a:xfrm>
            <a:off x="250920" y="2565360"/>
            <a:ext cx="3241440" cy="1152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r partner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the ph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Line 12"/>
          <p:cNvSpPr/>
          <p:nvPr/>
        </p:nvSpPr>
        <p:spPr>
          <a:xfrm>
            <a:off x="1476360" y="2133720"/>
            <a:ext cx="0" cy="358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Line 13"/>
          <p:cNvSpPr/>
          <p:nvPr/>
        </p:nvSpPr>
        <p:spPr>
          <a:xfrm>
            <a:off x="1332000" y="3789360"/>
            <a:ext cx="0" cy="503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Line 14"/>
          <p:cNvSpPr/>
          <p:nvPr/>
        </p:nvSpPr>
        <p:spPr>
          <a:xfrm>
            <a:off x="1403280" y="5516640"/>
            <a:ext cx="432000" cy="647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Line 15"/>
          <p:cNvSpPr/>
          <p:nvPr/>
        </p:nvSpPr>
        <p:spPr>
          <a:xfrm flipV="1">
            <a:off x="5219640" y="6093000"/>
            <a:ext cx="792360" cy="288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Line 16"/>
          <p:cNvSpPr/>
          <p:nvPr/>
        </p:nvSpPr>
        <p:spPr>
          <a:xfrm flipV="1">
            <a:off x="6948360" y="4149360"/>
            <a:ext cx="0" cy="431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Line 17"/>
          <p:cNvSpPr/>
          <p:nvPr/>
        </p:nvSpPr>
        <p:spPr>
          <a:xfrm flipV="1">
            <a:off x="6948360" y="2420640"/>
            <a:ext cx="0" cy="431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anguage Checklist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elephon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250920" y="1628280"/>
            <a:ext cx="8686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roducing yoursel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llo, this is … from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ood morning, my name is...Calling from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aying what you wa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´d like to speak to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s…there, please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aving mess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uld you give him/her a messag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an I leave a messag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anguage Checklist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elephon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79280" y="1341000"/>
            <a:ext cx="8785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aying someone is not avail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 am sorry, Ms X is not avail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orry, he/she is away/not in/in a meet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king a mess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ould you like to leave a messag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an I take a messag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ffering to help in other way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an anyone else help you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ould you like to speak to his/her assista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uld I have your phone numb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8000" y="836640"/>
            <a:ext cx="84358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sten to the way we say these phone numb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754390    9800547   5142906   584997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, say your office, mobile and home numbers to a partn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611280" y="2708280"/>
            <a:ext cx="7632720" cy="1944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In English people usually say numb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individual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People in the UK say “oh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People in the USA say “zero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Hints on telephon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7138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the phone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ing three time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answering the external call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ay your company nam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followed by ‘Good morning/afternoon”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y to get details on the call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void putting  the person on hold for more than 17 second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Hints on telephon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8930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rite down all details and  arrange a face-to- face meeting. These are the words to keep the contact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“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f something unexpected happens an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 need to contact you, where should I phone you?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y to keep your phone calls short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ime is money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 not forget to say: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'Thanks for calling'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Arial"/>
              </a:rPr>
              <a:t>Aim of the less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lesson looks at the language  and tactics which can be used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negotiations , 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telephoni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496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rite how to do these things using 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if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250560" y="124128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a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ne Italy / dial 119 39 fir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If you want to phone Italy, dial 119 39 fir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 Need a phone number / call directory assista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______________________________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 Get the number wrong / call the operat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_______________________________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 Have all the area codes right / dial dire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______________________________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496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rite how to do these things using 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if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250560" y="124128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a.  </a:t>
            </a:r>
            <a:r>
              <a:rPr b="0" i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If you want to phone Italy, dial 119 39 fir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.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If you need a phone number, call the directory assistance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.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If you get the number wrong, please call the operator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.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If you have all the area codes right, then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   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dial dire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Look at the video excerpt (with no sound) Try to guess what they are talking abou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85480" y="171468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e they talking about a new diary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e they speculating on the latest fashion trend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e they setting up a meeting?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mprehension task 1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isten to the dialogue now.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nswer the question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68360" y="2637000"/>
            <a:ext cx="8424720" cy="34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. Is the caller phoning a friend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. Who does the caller ask to speak to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. Was the caller successful? If not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y not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mprehension task 1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Answ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, he is no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. He wants to speak to Mr. Rodriguez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. Yes, he was. He managed to set up a meeting with Mr. Rodriguez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nts on telephoning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00040" y="8571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the phone ring three times. ___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answering the external call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y your company name followed by ‘Good morning/afternoon”. 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y to get details on the caller.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oid putting  the person on hold for more than 17 seconds.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Hints on telephon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8930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rite down all details and  arrange a face-to- face meeting. These are the words to keep the contact:___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“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f something unexpected happens 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 need to contact you, where should I phone you?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y to keep your phone calls short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ime is money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___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 not forget to say: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'Thanks for calling'.___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Hints on telephon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-360" y="1571400"/>
            <a:ext cx="87138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the phone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ing three time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 _X__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answering the external call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ay your company nam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followed by ‘Good morning/afternoon”. ____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y to get details on the caller._X__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void putting  the person on hold for more than 17 seconds.__X__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Hints on telephon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8930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rite down all details and  arrange a face-to- face meeting. These are the words to keep the contact: __X_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“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f something unexpected happens an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 need to contact you, where should I phone you?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y to keep your phone calls short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ime is money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_X__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 not forget to say: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'Thanks for calling'.___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language  and tactics used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negotiations and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telephoni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egotiating) At a sho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much do you  want for thi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: Oh, come on, i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'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 dented. I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'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l give you 25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42447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B: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is a unique                                   antique, isn't it?                                             I can let it go for 75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46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46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 Really? I might                                           consider a serious                                          offer but 25 really is no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755640" y="90792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ustom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5076720" y="907920"/>
            <a:ext cx="31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hopkeep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4"/>
          <p:cNvSpPr/>
          <p:nvPr/>
        </p:nvSpPr>
        <p:spPr>
          <a:xfrm>
            <a:off x="611280" y="47628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CKNOWLEDGEMENT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539640" y="1773360"/>
            <a:ext cx="8209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ur gratitude and thanks to the INCOMEX, the Foreign Trade Institute, staff and students, especially to Professors Jorge Luis Yong and Adonis Romer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(Negotiating) At a sho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A: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ll, I could go up to 40 but I would never pay anything like 75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: What about 45</a:t>
            </a: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3164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: That's a hard bargain,  young lady,    60 cash, right now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ilen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755640" y="90792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ustom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5076720" y="907920"/>
            <a:ext cx="31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hopkeep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(Negotiating) At a sho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;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50, that's the highest  I will go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3164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B: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K. You can have it  for that, it's a dea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755640" y="90792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Custom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5076720" y="907920"/>
            <a:ext cx="31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Shopkeep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at is a negotiation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6836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long do negotiations often las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many people are usually involved in a negotiatio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 people negotiate under a threat or do they do it voluntarily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s there any relation between the parties involved in a negotiatio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the final aim of any negotiatio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at is a negotiation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process in which two or more individuals participate voluntarily sharing interests and conflicts and the final aim is to reach a deal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egotiating) At home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285840" y="178560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A: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y I make a long distance call to Kyoto now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: It is  Lee's birthday  and she is my best frien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319280" y="1714320"/>
            <a:ext cx="4824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B: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'm afraid you may        not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: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It's rather expensive and besides, you haven't  done  your school work  yet  and you haven't  studied. 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755640" y="90792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14-year old gir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076720" y="907920"/>
            <a:ext cx="31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ath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(Negotiating) At hom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A: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about if I do my homework now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: I swear I will study  hard tomorrow, morning and afternoon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00360" y="1599840"/>
            <a:ext cx="4824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B: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, when are you                                          going to study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: OK, If you say so, but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755640" y="90792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14-year old gir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5076720" y="907920"/>
            <a:ext cx="31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ath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4T12:50:24Z</dcterms:created>
  <dc:creator>Garbey</dc:creator>
  <dc:description/>
  <dc:language>en-US</dc:language>
  <cp:lastModifiedBy>*</cp:lastModifiedBy>
  <dcterms:modified xsi:type="dcterms:W3CDTF">2013-11-03T17:37:12Z</dcterms:modified>
  <cp:revision>96</cp:revision>
  <dc:subject/>
  <dc:title>Negotiating a deal</dc:title>
</cp:coreProperties>
</file>