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D80-5C8F-48C4-A080-A035C9EC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BEB-672F-49CC-A32B-E4DE41E8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21C-A000-4F6B-8664-BFF29A3E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CDA-22ED-4114-92DE-AE8791A0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2399-F1CE-4D76-924D-59A62020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B858-3679-4E13-9050-7CCE5664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4E78-64AD-4C6C-BEBD-01A34058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BAD1-C8DE-4950-B44C-DC7E4A0E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0476-4F54-450F-8053-33A3B734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CC95-1C12-414C-9143-E6102037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268F-AF4F-40D3-9138-230AAA51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D32-948F-4E99-B926-3CACA874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99E6-A358-4112-86DA-BADDEBC9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0E86-1E48-40C4-9147-F9C361E9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1E97-74E3-4C21-9591-52FDE798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DB9B-0809-40CD-BAFF-C7DAC500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3309-B577-4288-9889-434075CD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4F92-4F65-4FFA-A753-11EEA8BE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B06-2B5A-4620-A5D8-F012845D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C31-63D0-4A65-A4C2-8DE8B5B5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4BC-70DF-446A-99C9-AE087592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1FC-B1F9-4337-83AF-8B0B3754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634-C027-4097-ADAA-052D586B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1CA-5C2F-4B20-B3CB-266A0283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6F8E-B066-483E-A64B-3C9139352AA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DB2E-ECBB-47AD-B391-DE33C106E97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egotiating a dea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Telephoning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0560" y="292428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f. E. Garbey Savigne, Cert TEB, M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(Negotiating) At ho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dy, I promise…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: Yes, Certain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s, Daddy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03280" y="1642680"/>
            <a:ext cx="50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K, if you do,                                    you may phone Lee but you must call her up late at night when phone rates are cheaper, is that righ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755640" y="9079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14-year old gir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076720" y="9079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gotiation can not work unless communication is cl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sunderstandings in offices, homes, and companies bring phrases such 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I thought you mean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s not what you sai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are telephoning skills neces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rst, the phone call normally comes when the person is in the middle of something els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ly, there is no body language  to help the person understand what the caller is trying to s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makes a good phone call in busi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keep the customer happ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succeed  in persuading the custo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pass the needed information to your business partner accurate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984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w to make a good phone c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50920" y="1052640"/>
            <a:ext cx="2376360" cy="10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5364000" y="4653000"/>
            <a:ext cx="3384720" cy="1224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g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a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your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124000" y="5516640"/>
            <a:ext cx="2952720" cy="1152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part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s he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250920" y="4437000"/>
            <a:ext cx="2952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your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5651640" y="2924280"/>
            <a:ext cx="3311280" cy="1225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of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6227640" y="1268280"/>
            <a:ext cx="2664000" cy="1079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 bye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250920" y="2565360"/>
            <a:ext cx="3241440" cy="1152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partne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the 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1476360" y="2133720"/>
            <a:ext cx="0" cy="358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1332000" y="378936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1403280" y="5516640"/>
            <a:ext cx="43200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5219640" y="6093000"/>
            <a:ext cx="79236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 flipV="1">
            <a:off x="6948360" y="4149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 flipV="1">
            <a:off x="6948360" y="2420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nguage Checklis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lepho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62828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ing your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llo, this is … from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od morning, my name is...Calling from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ying what you w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´d like to speak t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…there, pleas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ving mes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ld you give him/her a mess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n I leave a mess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nguage Checklis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lepho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ying someone is not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am sorry, Ms X is not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rry, he/she is away/not in/in a mee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ing a mes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you like to leave a mess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n I take a mess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ering to help in other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n anyone else help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you like to speak to his/her assist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ld I have your phone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 to the way we say these phon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754390    9800547   5142906   584997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say your office, mobile and home numbers to a part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11280" y="2708280"/>
            <a:ext cx="763272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In English people usually say numb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individ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People in the UK say “oh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People in the USA say “zer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ints on telephon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phon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ng three tim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nswering the external call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y your company na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llowed by ‘Good morning/afternoon”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to get details on the call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void putting  the person on hold for more than 17 secon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ints on telephon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down all details and  arrange a face-to- face meeting. These are the words to keep the contac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f something unexpected happens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 need to contact you, where should I phone you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to keep your phone calls shor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me is money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forget to say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'Thanks for calling'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Aim of the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lesson looks at the language  and tactics which can be us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negotiations , 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elephon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rite how to do these things using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f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50560" y="1241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 Italy / dial 119 39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f you want to phone Italy, dial 119 39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Need a phone number / call directory assi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Get the number wrong / call the oper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Have all the area codes right / dial di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rite how to do these things using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f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50560" y="124128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f you want to phone Italy, dial 119 39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f you need a phone number, call the directory assistanc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f you get the number wrong, please call the operato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f you have all the area codes right, t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dial di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Look at the video excerpt (with no sound) Try to guess what they are talking abou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5480" y="17146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they talking about a new diar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they speculating on the latest fashion trend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they setting up a meeting?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rehension task 1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sten to the dialogue now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swer the ques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637000"/>
            <a:ext cx="842472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Is the caller phoning a frie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Who does the caller ask to speak 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Was the caller successful? If no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not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rehension task 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Answ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, he is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He wants to speak to Mr. Rodriguez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Yes, he was. He managed to set up a meeting with Mr. Rodriguez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nts on telephoning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0040" y="857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phone ring three times. ___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nswering the external ca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 your company name followed by ‘Good morning/afternoon”. 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get details on the caller.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putting  the person on hold for more than 17 seconds.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ints on telephon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down all details and  arrange a face-to- face meeting. These are the words to keep the contact: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f something unexpected happens 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 need to contact you, where should I phone you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to keep your phone calls shor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me is money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forget to say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'Thanks for calling'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ints on telephon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157140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 the phon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ng three tim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_X__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answering the external call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y your company na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llowed by ‘Good morning/afternoon”. 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to get details on the caller._X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void putting  the person on hold for more than 17 seconds.__X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ints on telephon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down all details and  arrange a face-to- face meeting. These are the words to keep the contact: __X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f something unexpected happens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 need to contact you, where should I phone you?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to keep your phone calls shor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me is money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_X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forget to say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'Thanks for calling'.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nguage  and tactics us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negotiations an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elephon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gotiating) At a 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uch do you  want for thi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: Oh, come on,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'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dented. 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'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l give you 25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4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t is a unique                                   antique, isn't it?                                             I can let it go for 7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 Really? I might                                           consider a serious                                          offer but 25 really is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755640" y="9079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sto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076720" y="9079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opkeep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611280" y="476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KNOWLEDGEMEN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39640" y="177336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gratitude and thanks to the INCOMEX, the Foreign Trade Institute, staff and students, especially to Professors Jorge Luis Yong and Adonis Romer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(Negotiating) At a 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, I could go up to 40 but I would never pay anything like 75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: What about 45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: That's a hard bargain,  young lady,    60 cash, right now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l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55640" y="9079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sto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076720" y="9079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opkeep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(Negotiating) At a 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0, that's the highest  I will g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K. You can have it  for that, it's a de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755640" y="9079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usto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076720" y="9079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hopkeep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a negoti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long do negotiations often la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people are usually involved in a negoti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people negotiate under a threat or do they do it voluntaril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there any relation between the parties involved in a negoti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nal aim of any negoti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a negotia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process in which two or more individuals participate voluntarily sharing interests and conflicts and the final aim is to reach a dea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gotiating) At home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85840" y="17856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 I make a long distance call to Kyoto now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: It is  Lee's birthday  and she is my best frie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19280" y="1714320"/>
            <a:ext cx="482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m afraid you may        not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t's rather expensive and besides, you haven't  done  your school work  yet  and you haven't  studied.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55640" y="9079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4-year old gir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076720" y="9079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(Negotiating) At ho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bout if I do my homework n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: I swear I will study  hard tomorrow, morning and afterno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00360" y="1599840"/>
            <a:ext cx="482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, when are you                                          going to stud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: OK, If you say so, but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5640" y="9079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4-year old gir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076720" y="90792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2:50:24Z</dcterms:created>
  <dc:creator>Garbey</dc:creator>
  <dc:description/>
  <dc:language>en-US</dc:language>
  <cp:lastModifiedBy>*</cp:lastModifiedBy>
  <dcterms:modified xsi:type="dcterms:W3CDTF">2013-11-03T17:37:12Z</dcterms:modified>
  <cp:revision>96</cp:revision>
  <dc:subject/>
  <dc:title>Negotiating a deal</dc:title>
</cp:coreProperties>
</file>