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4A8-CFE9-4F0A-9DF4-CD9EC4CB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BB3-6C4D-453F-BC86-51E70277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971-7D10-4CF6-9380-D5622540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B20-D1D1-49D2-9D6A-51C71648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7570-1095-4070-B1D6-C3F79035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069A-EA4E-4D73-A6F2-6048F874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2F2F-CADE-429A-80AA-CE8B04B0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7D81-EC44-49DF-9C2B-F7470A87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1433-37A5-40B3-B1EF-01592191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5BC1-D925-4016-8C9C-1CC442BE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5FD-56BA-456C-B548-E8E8F55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C36-E341-4CEE-8F3C-97B5019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E91E-1848-4B40-AA59-6598963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39B5-618F-4978-BEA1-E0F6ED66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8DD2-F733-4AD2-A5FF-FDEAEFC2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C7CF-1D89-4FFB-BAAE-341680D2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F82D-A8F0-4C13-AEC9-AB7081A8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5EB-3757-46AD-96A3-B6F80510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A97-76D4-46CB-ADE9-975D0B39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A12-A25C-4C6F-B369-6FEEC462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3E6-EEC6-4FC2-9696-3E6E7555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C6A-1A60-4826-A632-975C9830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889-2B07-43B4-9D3A-357B2F1D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871-A7D9-4F87-B99A-43C40C9B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F8BA-E542-4DF3-9B3A-9BF999B7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45A7-25A1-4064-9D26-9CF283F81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840" y="277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Especially for Healthcare perso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14240" y="1571760"/>
            <a:ext cx="1785960" cy="1428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3559320" cy="2571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643200" y="1643040"/>
            <a:ext cx="1214640" cy="1571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6143760" y="1500120"/>
            <a:ext cx="1785960" cy="2040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5"/>
          <a:stretch/>
        </p:blipFill>
        <p:spPr>
          <a:xfrm>
            <a:off x="5072040" y="3643200"/>
            <a:ext cx="3214800" cy="2183040"/>
          </a:xfrm>
          <a:prstGeom prst="rect">
            <a:avLst/>
          </a:prstGeom>
          <a:ln w="0">
            <a:noFill/>
          </a:ln>
        </p:spPr>
      </p:pic>
      <p:sp>
        <p:nvSpPr>
          <p:cNvPr id="168" name="3 CuadroTexto"/>
          <p:cNvSpPr/>
          <p:nvPr/>
        </p:nvSpPr>
        <p:spPr>
          <a:xfrm>
            <a:off x="500040" y="592920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f. E Garbey Savigne, BEd, Cert TEB, 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se Progress notes me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786880" cy="4786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On examination Oriented by (time, person and plac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oor respiratory movement.   pulse 80/min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Blood Pressure 140/92   Heart Sounds norm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ain with nausea. Edema up to kn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reatment Frusemide 20 milligram Intrave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6 Conector recto"/>
          <p:cNvSpPr/>
          <p:nvPr/>
        </p:nvSpPr>
        <p:spPr>
          <a:xfrm>
            <a:off x="9858240" y="1285920"/>
            <a:ext cx="914400" cy="914400"/>
          </a:xfrm>
          <a:prstGeom prst="line">
            <a:avLst/>
          </a:prstGeom>
          <a:ln w="9360">
            <a:solidFill>
              <a:srgbClr val="2d6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10"/>
          <p:cNvGrpSpPr/>
          <p:nvPr/>
        </p:nvGrpSpPr>
        <p:grpSpPr>
          <a:xfrm>
            <a:off x="152280" y="304920"/>
            <a:ext cx="8991360" cy="2338200"/>
            <a:chOff x="152280" y="304920"/>
            <a:chExt cx="8991360" cy="2338200"/>
          </a:xfrm>
        </p:grpSpPr>
        <p:sp>
          <p:nvSpPr>
            <p:cNvPr id="200" name="AutoShape 11"/>
            <p:cNvSpPr/>
            <p:nvPr/>
          </p:nvSpPr>
          <p:spPr>
            <a:xfrm>
              <a:off x="152280" y="304920"/>
              <a:ext cx="8991360" cy="23382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12"/>
            <p:cNvSpPr/>
            <p:nvPr/>
          </p:nvSpPr>
          <p:spPr>
            <a:xfrm>
              <a:off x="289800" y="311400"/>
              <a:ext cx="8719200" cy="2294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13"/>
            <p:cNvSpPr/>
            <p:nvPr/>
          </p:nvSpPr>
          <p:spPr>
            <a:xfrm>
              <a:off x="367200" y="2001960"/>
              <a:ext cx="8601480" cy="577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14"/>
            <p:cNvSpPr/>
            <p:nvPr/>
          </p:nvSpPr>
          <p:spPr>
            <a:xfrm>
              <a:off x="367200" y="330120"/>
              <a:ext cx="8601480" cy="57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Text Box 8"/>
          <p:cNvSpPr/>
          <p:nvPr/>
        </p:nvSpPr>
        <p:spPr>
          <a:xfrm>
            <a:off x="990720" y="30481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85840" y="285840"/>
            <a:ext cx="88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hension task 1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 the video clip and select the appropriate op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00040" y="2500200"/>
            <a:ext cx="8072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  nurse is asking Daniel if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_ he had his shower and sha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_ he is a ru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_ he had any pin and plates  in his bod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152280" y="304920"/>
            <a:ext cx="8991360" cy="2338200"/>
            <a:chOff x="152280" y="304920"/>
            <a:chExt cx="8991360" cy="2338200"/>
          </a:xfrm>
        </p:grpSpPr>
        <p:sp>
          <p:nvSpPr>
            <p:cNvPr id="210" name="AutoShape 11"/>
            <p:cNvSpPr/>
            <p:nvPr/>
          </p:nvSpPr>
          <p:spPr>
            <a:xfrm>
              <a:off x="152280" y="304920"/>
              <a:ext cx="8991360" cy="23382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12"/>
            <p:cNvSpPr/>
            <p:nvPr/>
          </p:nvSpPr>
          <p:spPr>
            <a:xfrm>
              <a:off x="289800" y="311400"/>
              <a:ext cx="8719200" cy="2294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13"/>
            <p:cNvSpPr/>
            <p:nvPr/>
          </p:nvSpPr>
          <p:spPr>
            <a:xfrm>
              <a:off x="367200" y="2001960"/>
              <a:ext cx="8601480" cy="577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14"/>
            <p:cNvSpPr/>
            <p:nvPr/>
          </p:nvSpPr>
          <p:spPr>
            <a:xfrm>
              <a:off x="367200" y="330120"/>
              <a:ext cx="8601480" cy="57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Text Box 8"/>
          <p:cNvSpPr/>
          <p:nvPr/>
        </p:nvSpPr>
        <p:spPr>
          <a:xfrm>
            <a:off x="990720" y="30481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85840" y="285840"/>
            <a:ext cx="88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hension task 1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 the video clip and select the appropriate op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500040" y="2500200"/>
            <a:ext cx="8072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  nurse is asking Daniel if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x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had his shower and shav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 he is a ru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x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had any pin and plates  in his bod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228600" y="0"/>
            <a:ext cx="8915040" cy="1500120"/>
            <a:chOff x="228600" y="0"/>
            <a:chExt cx="8915040" cy="1500120"/>
          </a:xfrm>
        </p:grpSpPr>
        <p:sp>
          <p:nvSpPr>
            <p:cNvPr id="220" name="AutoShape 11"/>
            <p:cNvSpPr/>
            <p:nvPr/>
          </p:nvSpPr>
          <p:spPr>
            <a:xfrm>
              <a:off x="228600" y="0"/>
              <a:ext cx="8915040" cy="15001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12"/>
            <p:cNvSpPr/>
            <p:nvPr/>
          </p:nvSpPr>
          <p:spPr>
            <a:xfrm>
              <a:off x="365040" y="3960"/>
              <a:ext cx="8645400" cy="1472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13"/>
            <p:cNvSpPr/>
            <p:nvPr/>
          </p:nvSpPr>
          <p:spPr>
            <a:xfrm>
              <a:off x="441720" y="1088640"/>
              <a:ext cx="8528400" cy="37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14"/>
            <p:cNvSpPr/>
            <p:nvPr/>
          </p:nvSpPr>
          <p:spPr>
            <a:xfrm>
              <a:off x="441720" y="15840"/>
              <a:ext cx="8528400" cy="37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Text Box 8"/>
          <p:cNvSpPr/>
          <p:nvPr/>
        </p:nvSpPr>
        <p:spPr>
          <a:xfrm>
            <a:off x="990720" y="30481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142920" y="1571760"/>
            <a:ext cx="900108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Nurse: How´s the pain n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Daniel:________________, it´s not half as bad as it was bef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Nurse: Now, is there anyone you need to contact, anyone you need to speak 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Daniel: ________________ she will be coming in to pick me up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2" descr="medico-paciente-2-2"/>
          <p:cNvPicPr/>
          <p:nvPr/>
        </p:nvPicPr>
        <p:blipFill>
          <a:blip r:embed="rId1"/>
          <a:stretch/>
        </p:blipFill>
        <p:spPr>
          <a:xfrm>
            <a:off x="7500960" y="571500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228" name="13 Rectángulo"/>
          <p:cNvSpPr/>
          <p:nvPr/>
        </p:nvSpPr>
        <p:spPr>
          <a:xfrm>
            <a:off x="857160" y="2858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Daniel´s answer to  the questions that  Mary, the nurse as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0"/>
          <p:cNvGrpSpPr/>
          <p:nvPr/>
        </p:nvGrpSpPr>
        <p:grpSpPr>
          <a:xfrm>
            <a:off x="228600" y="0"/>
            <a:ext cx="8915040" cy="1500120"/>
            <a:chOff x="228600" y="0"/>
            <a:chExt cx="8915040" cy="1500120"/>
          </a:xfrm>
        </p:grpSpPr>
        <p:sp>
          <p:nvSpPr>
            <p:cNvPr id="231" name="AutoShape 11"/>
            <p:cNvSpPr/>
            <p:nvPr/>
          </p:nvSpPr>
          <p:spPr>
            <a:xfrm>
              <a:off x="228600" y="0"/>
              <a:ext cx="8915040" cy="15001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AutoShape 12"/>
            <p:cNvSpPr/>
            <p:nvPr/>
          </p:nvSpPr>
          <p:spPr>
            <a:xfrm>
              <a:off x="365040" y="3960"/>
              <a:ext cx="8645400" cy="1472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13"/>
            <p:cNvSpPr/>
            <p:nvPr/>
          </p:nvSpPr>
          <p:spPr>
            <a:xfrm>
              <a:off x="441720" y="1088640"/>
              <a:ext cx="8528400" cy="37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utoShape 14"/>
            <p:cNvSpPr/>
            <p:nvPr/>
          </p:nvSpPr>
          <p:spPr>
            <a:xfrm>
              <a:off x="441720" y="15840"/>
              <a:ext cx="8528400" cy="37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Text Box 8"/>
          <p:cNvSpPr/>
          <p:nvPr/>
        </p:nvSpPr>
        <p:spPr>
          <a:xfrm>
            <a:off x="990720" y="30481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142920" y="1500120"/>
            <a:ext cx="900108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Nurse: How´s the pain n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Daniel: 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uch better thank you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, it´s not half as bad as it was bef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Nurse: Now, is there anyone you need to contact , anyone you need to speak 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Daniel: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st my girlfriend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,  she will be coming in to pick me up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2" descr="medico-paciente-2-2"/>
          <p:cNvPicPr/>
          <p:nvPr/>
        </p:nvPicPr>
        <p:blipFill>
          <a:blip r:embed="rId1"/>
          <a:stretch/>
        </p:blipFill>
        <p:spPr>
          <a:xfrm>
            <a:off x="7500960" y="571500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239" name="13 Rectángulo"/>
          <p:cNvSpPr/>
          <p:nvPr/>
        </p:nvSpPr>
        <p:spPr>
          <a:xfrm>
            <a:off x="857160" y="2858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Daniel´s answer to  the questions that  Mary, the nurse as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152280" y="0"/>
            <a:ext cx="8991360" cy="3285720"/>
            <a:chOff x="152280" y="0"/>
            <a:chExt cx="8991360" cy="3285720"/>
          </a:xfrm>
        </p:grpSpPr>
        <p:sp>
          <p:nvSpPr>
            <p:cNvPr id="242" name="AutoShape 11"/>
            <p:cNvSpPr/>
            <p:nvPr/>
          </p:nvSpPr>
          <p:spPr>
            <a:xfrm>
              <a:off x="152280" y="0"/>
              <a:ext cx="8991360" cy="3285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12"/>
            <p:cNvSpPr/>
            <p:nvPr/>
          </p:nvSpPr>
          <p:spPr>
            <a:xfrm>
              <a:off x="289800" y="9000"/>
              <a:ext cx="8719200" cy="322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13"/>
            <p:cNvSpPr/>
            <p:nvPr/>
          </p:nvSpPr>
          <p:spPr>
            <a:xfrm>
              <a:off x="367200" y="2385000"/>
              <a:ext cx="8601480" cy="81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14"/>
            <p:cNvSpPr/>
            <p:nvPr/>
          </p:nvSpPr>
          <p:spPr>
            <a:xfrm>
              <a:off x="367200" y="35280"/>
              <a:ext cx="8601480" cy="81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Text Box 8"/>
          <p:cNvSpPr/>
          <p:nvPr/>
        </p:nvSpPr>
        <p:spPr>
          <a:xfrm>
            <a:off x="500040" y="3286080"/>
            <a:ext cx="86439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 Do you have any problems with your sk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 Have you got any rash or itch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  Is this a life-long hab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. Do you have any allergi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85840" y="35712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better treatment, patients are asked questions about their bodily functions. Here are some questions about skin problems. Find the question that does not f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10"/>
          <p:cNvGrpSpPr/>
          <p:nvPr/>
        </p:nvGrpSpPr>
        <p:grpSpPr>
          <a:xfrm>
            <a:off x="152280" y="0"/>
            <a:ext cx="8991360" cy="3285720"/>
            <a:chOff x="152280" y="0"/>
            <a:chExt cx="8991360" cy="3285720"/>
          </a:xfrm>
        </p:grpSpPr>
        <p:sp>
          <p:nvSpPr>
            <p:cNvPr id="251" name="AutoShape 11"/>
            <p:cNvSpPr/>
            <p:nvPr/>
          </p:nvSpPr>
          <p:spPr>
            <a:xfrm>
              <a:off x="152280" y="0"/>
              <a:ext cx="8991360" cy="3285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289800" y="9000"/>
              <a:ext cx="8719200" cy="322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367200" y="2385000"/>
              <a:ext cx="8601480" cy="81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4"/>
            <p:cNvSpPr/>
            <p:nvPr/>
          </p:nvSpPr>
          <p:spPr>
            <a:xfrm>
              <a:off x="367200" y="35280"/>
              <a:ext cx="8601480" cy="81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500040" y="3286080"/>
            <a:ext cx="86439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 Do you have any problems with your sk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 Have you got any rash or itch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  Is this a life-long habit?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X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. Do you have any allergi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285840" y="35712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better treatment, patients are asked questions about their bodily functions. Here are some questions about skin problems. Find the question that does not f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10"/>
          <p:cNvGrpSpPr/>
          <p:nvPr/>
        </p:nvGrpSpPr>
        <p:grpSpPr>
          <a:xfrm>
            <a:off x="152280" y="0"/>
            <a:ext cx="8991360" cy="2143080"/>
            <a:chOff x="152280" y="0"/>
            <a:chExt cx="8991360" cy="2143080"/>
          </a:xfrm>
        </p:grpSpPr>
        <p:sp>
          <p:nvSpPr>
            <p:cNvPr id="260" name="AutoShape 11"/>
            <p:cNvSpPr/>
            <p:nvPr/>
          </p:nvSpPr>
          <p:spPr>
            <a:xfrm>
              <a:off x="152280" y="0"/>
              <a:ext cx="8991360" cy="21430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2"/>
            <p:cNvSpPr/>
            <p:nvPr/>
          </p:nvSpPr>
          <p:spPr>
            <a:xfrm>
              <a:off x="289800" y="5760"/>
              <a:ext cx="8719200" cy="21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3"/>
            <p:cNvSpPr/>
            <p:nvPr/>
          </p:nvSpPr>
          <p:spPr>
            <a:xfrm>
              <a:off x="367200" y="1555560"/>
              <a:ext cx="8601480" cy="528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14"/>
            <p:cNvSpPr/>
            <p:nvPr/>
          </p:nvSpPr>
          <p:spPr>
            <a:xfrm>
              <a:off x="367200" y="23040"/>
              <a:ext cx="8601480" cy="531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Text Box 8"/>
          <p:cNvSpPr/>
          <p:nvPr/>
        </p:nvSpPr>
        <p:spPr>
          <a:xfrm>
            <a:off x="285840" y="2143080"/>
            <a:ext cx="86439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 Do you ever have palpita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 Do you ever have diarrhea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Are you ever aware of your heart beating fa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. Do you have any chest pain or chest discomfo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0" y="28584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 are some questions about cardiology problems. Find the question that does not f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152280" y="0"/>
            <a:ext cx="8991360" cy="2143080"/>
            <a:chOff x="152280" y="0"/>
            <a:chExt cx="8991360" cy="2143080"/>
          </a:xfrm>
        </p:grpSpPr>
        <p:sp>
          <p:nvSpPr>
            <p:cNvPr id="268" name="AutoShape 11"/>
            <p:cNvSpPr/>
            <p:nvPr/>
          </p:nvSpPr>
          <p:spPr>
            <a:xfrm>
              <a:off x="152280" y="0"/>
              <a:ext cx="8991360" cy="21430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AutoShape 12"/>
            <p:cNvSpPr/>
            <p:nvPr/>
          </p:nvSpPr>
          <p:spPr>
            <a:xfrm>
              <a:off x="289800" y="5760"/>
              <a:ext cx="8719200" cy="21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367200" y="1555560"/>
              <a:ext cx="8601480" cy="528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utoShape 14"/>
            <p:cNvSpPr/>
            <p:nvPr/>
          </p:nvSpPr>
          <p:spPr>
            <a:xfrm>
              <a:off x="367200" y="23040"/>
              <a:ext cx="8601480" cy="531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Text Box 8"/>
          <p:cNvSpPr/>
          <p:nvPr/>
        </p:nvSpPr>
        <p:spPr>
          <a:xfrm>
            <a:off x="285840" y="2143080"/>
            <a:ext cx="86439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 Do you ever have palpita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 Do you ever have diarrhea?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_x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Are you ever aware of your heart beating fa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. Do you have any chest pain or chest discomfo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0" y="28584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 are some questions about cardiology problems. Find the question that does not f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10"/>
          <p:cNvGrpSpPr/>
          <p:nvPr/>
        </p:nvGrpSpPr>
        <p:grpSpPr>
          <a:xfrm>
            <a:off x="152280" y="0"/>
            <a:ext cx="8991360" cy="1857240"/>
            <a:chOff x="152280" y="0"/>
            <a:chExt cx="8991360" cy="1857240"/>
          </a:xfrm>
        </p:grpSpPr>
        <p:sp>
          <p:nvSpPr>
            <p:cNvPr id="276" name="AutoShape 11"/>
            <p:cNvSpPr/>
            <p:nvPr/>
          </p:nvSpPr>
          <p:spPr>
            <a:xfrm>
              <a:off x="152280" y="0"/>
              <a:ext cx="8991360" cy="18572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289800" y="5040"/>
              <a:ext cx="8719200" cy="182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367200" y="1347840"/>
              <a:ext cx="8601480" cy="458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AutoShape 14"/>
            <p:cNvSpPr/>
            <p:nvPr/>
          </p:nvSpPr>
          <p:spPr>
            <a:xfrm>
              <a:off x="367200" y="19800"/>
              <a:ext cx="8601480" cy="46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0" y="28584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ch the medical words with the colloquial wor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42560" y="2214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D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85840" y="2906280"/>
            <a:ext cx="40399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DYSP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3. MICT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4. SPU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5. S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28760" y="2214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LLOQUI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3280" y="2906280"/>
            <a:ext cx="404208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. 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. PASS W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. PHLE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. BREATHING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. SHORTNESS OF BR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im of th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5480" y="1599840"/>
            <a:ext cx="86439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will look at the language used 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es and healthcare personnel at work,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review health-related issues through exerci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10"/>
          <p:cNvGrpSpPr/>
          <p:nvPr/>
        </p:nvGrpSpPr>
        <p:grpSpPr>
          <a:xfrm>
            <a:off x="152280" y="0"/>
            <a:ext cx="8991360" cy="1857240"/>
            <a:chOff x="152280" y="0"/>
            <a:chExt cx="8991360" cy="1857240"/>
          </a:xfrm>
        </p:grpSpPr>
        <p:sp>
          <p:nvSpPr>
            <p:cNvPr id="288" name="AutoShape 11"/>
            <p:cNvSpPr/>
            <p:nvPr/>
          </p:nvSpPr>
          <p:spPr>
            <a:xfrm>
              <a:off x="152280" y="0"/>
              <a:ext cx="8991360" cy="18572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2"/>
            <p:cNvSpPr/>
            <p:nvPr/>
          </p:nvSpPr>
          <p:spPr>
            <a:xfrm>
              <a:off x="289800" y="5040"/>
              <a:ext cx="8719200" cy="182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AutoShape 13"/>
            <p:cNvSpPr/>
            <p:nvPr/>
          </p:nvSpPr>
          <p:spPr>
            <a:xfrm>
              <a:off x="367200" y="1347840"/>
              <a:ext cx="8601480" cy="458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367200" y="19800"/>
              <a:ext cx="8601480" cy="46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0" y="3571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ch the medical words with the colloquial wo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42560" y="2214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D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85840" y="2906280"/>
            <a:ext cx="40399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DYSP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3. MICT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4. SPU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5. S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857480" y="19998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LLOQUI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29040" y="2928600"/>
            <a:ext cx="521496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. BREATHING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. SHORTNESS OF BR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. PASS W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. PHLEG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. 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152280" y="0"/>
            <a:ext cx="8991360" cy="1857240"/>
            <a:chOff x="152280" y="0"/>
            <a:chExt cx="8991360" cy="1857240"/>
          </a:xfrm>
        </p:grpSpPr>
        <p:sp>
          <p:nvSpPr>
            <p:cNvPr id="300" name="AutoShape 11"/>
            <p:cNvSpPr/>
            <p:nvPr/>
          </p:nvSpPr>
          <p:spPr>
            <a:xfrm>
              <a:off x="152280" y="0"/>
              <a:ext cx="8991360" cy="18572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12"/>
            <p:cNvSpPr/>
            <p:nvPr/>
          </p:nvSpPr>
          <p:spPr>
            <a:xfrm>
              <a:off x="289800" y="5040"/>
              <a:ext cx="8719200" cy="182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13"/>
            <p:cNvSpPr/>
            <p:nvPr/>
          </p:nvSpPr>
          <p:spPr>
            <a:xfrm>
              <a:off x="367200" y="1347840"/>
              <a:ext cx="8601480" cy="458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14"/>
            <p:cNvSpPr/>
            <p:nvPr/>
          </p:nvSpPr>
          <p:spPr>
            <a:xfrm>
              <a:off x="367200" y="19800"/>
              <a:ext cx="8601480" cy="46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214200" y="42876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ch the diseases (medical name) and the colloquial na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42560" y="2214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D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85840" y="2906280"/>
            <a:ext cx="40399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UR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MYO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3. RUB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4.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5. DIABETES MELL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28760" y="2214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LLOQUI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142880" y="2906280"/>
            <a:ext cx="500076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. SHORT-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.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.SUG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. I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. GERMAN MEA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6858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Tick the  information provi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152280" y="0"/>
            <a:ext cx="8991360" cy="1857240"/>
            <a:chOff x="152280" y="0"/>
            <a:chExt cx="8991360" cy="1857240"/>
          </a:xfrm>
        </p:grpSpPr>
        <p:sp>
          <p:nvSpPr>
            <p:cNvPr id="312" name="AutoShape 11"/>
            <p:cNvSpPr/>
            <p:nvPr/>
          </p:nvSpPr>
          <p:spPr>
            <a:xfrm>
              <a:off x="152280" y="0"/>
              <a:ext cx="8991360" cy="18572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AutoShape 12"/>
            <p:cNvSpPr/>
            <p:nvPr/>
          </p:nvSpPr>
          <p:spPr>
            <a:xfrm>
              <a:off x="289800" y="5040"/>
              <a:ext cx="8719200" cy="182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AutoShape 13"/>
            <p:cNvSpPr/>
            <p:nvPr/>
          </p:nvSpPr>
          <p:spPr>
            <a:xfrm>
              <a:off x="367200" y="1347840"/>
              <a:ext cx="8601480" cy="458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AutoShape 14"/>
            <p:cNvSpPr/>
            <p:nvPr/>
          </p:nvSpPr>
          <p:spPr>
            <a:xfrm>
              <a:off x="367200" y="19800"/>
              <a:ext cx="8601480" cy="46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9"/>
          <p:cNvSpPr/>
          <p:nvPr/>
        </p:nvSpPr>
        <p:spPr>
          <a:xfrm>
            <a:off x="838080" y="457200"/>
            <a:ext cx="723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285840" y="3571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ch the diseases (medical name) and the colloquial na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42560" y="2214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D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85840" y="2906280"/>
            <a:ext cx="40399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UR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MYO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3. RUB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4.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5. DIABETES MELL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28760" y="2214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LLOQUI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43240" y="2857320"/>
            <a:ext cx="478656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. I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. SHORT-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. GERMAN MEA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.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.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our people are describing their   jobs.         Who might have said what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analyzing the blood samples now”.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r child  has any problem when speaking, come to me”.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, lay down to perform the MRI ordered by the Doc”.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blood type is B+, I am heading for the transfusio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”.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our people are describing their jobs.  Here you have who said them.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92844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analyzing the blood samples now”.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Lab technici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r child  has any problem when speaking, come to me”.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peech therap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, lay down to perform the CT-scan ordered by the Doc”.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CT-Scan oper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blood type is B+, I am heading for the transfusion”.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ransfusion medicine specia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Finally, what advise was given by the announcer at the end of the video clip? Tick (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√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 ) the ones mentioned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715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stablish trust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Use both verbal and non-verbal language skills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augh as much as possible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larify immediately if you do not understand anything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isten actively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void making eye contact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Finally, what advise was given by the announcer at the end ? Tick (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√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 ) the ones mentioned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715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stablish trust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√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Use both verbal and non-verbal language skills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√_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augh as much as possible  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larify immediately if you do not understand anything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√_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isten actively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√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void making eye contact  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Homework for healthcare personn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2560" y="714240"/>
            <a:ext cx="9001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these Progress notes mean? Exp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udson William, 65, headaches for 4 month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Wt loss. , No appetite. Swea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: 110/min irreg.  BP: 160/105   t: 98.5 F    HS 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ystems: CNS: nad     GUS: pr  Prostate enlarged, 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amily antecedents: Wife died 4/12 ago of Ca. ov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x Acute retention due to  prostate hypertrop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R      digoxin  0.25 mg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etformin  500 mg t.i.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, send your comments to our emai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clarkjr@hot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3 Forma libre"/>
          <p:cNvSpPr/>
          <p:nvPr/>
        </p:nvSpPr>
        <p:spPr>
          <a:xfrm>
            <a:off x="428760" y="4572000"/>
            <a:ext cx="314280" cy="20628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4 Conector recto"/>
          <p:cNvSpPr/>
          <p:nvPr/>
        </p:nvSpPr>
        <p:spPr>
          <a:xfrm flipH="1">
            <a:off x="499680" y="4643280"/>
            <a:ext cx="214200" cy="285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Homework for all stu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6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Write  your  comments about the following statement in no more than 75 wo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es not only help to cure people but they also heal their soul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, send your comments to our emai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clarkjr@hot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im of th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5480" y="1599840"/>
            <a:ext cx="86439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looked at the language used 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es and healthcare personnel at work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veloped some health-related skil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444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What questions may a nurse ask a patient to confirm his or her feelings about 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00040" y="2214360"/>
            <a:ext cx="8429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Location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Onset)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Type)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Duration)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Radiation)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j0216658"/>
          <p:cNvPicPr/>
          <p:nvPr/>
        </p:nvPicPr>
        <p:blipFill>
          <a:blip r:embed="rId1"/>
          <a:stretch/>
        </p:blipFill>
        <p:spPr>
          <a:xfrm>
            <a:off x="7215120" y="4714920"/>
            <a:ext cx="13827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does this picture impl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6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What questions may a nurse ask a patient to confirm his or her feelings about 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19285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Location)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re is the p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Onset)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it sta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Type)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kind of pain is it? Is it an acute pain? or is it a burning p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Duration)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How long does it la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Radiation)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How far does it sprea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j0216658"/>
          <p:cNvPicPr/>
          <p:nvPr/>
        </p:nvPicPr>
        <p:blipFill>
          <a:blip r:embed="rId1"/>
          <a:stretch/>
        </p:blipFill>
        <p:spPr>
          <a:xfrm>
            <a:off x="7786800" y="4890960"/>
            <a:ext cx="1357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Rectángulo"/>
          <p:cNvSpPr/>
          <p:nvPr/>
        </p:nvSpPr>
        <p:spPr>
          <a:xfrm>
            <a:off x="428760" y="193356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Rachel, 56 year-old housewife, admitted  to the ward with a diagnosis of Pneumonia. She’s sitting on her chair, breathing heavily. She says she can’t breathe well if she lies down. Her temperature is 101.3 °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Read the report and  write the system and the medical term involved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5 Rectángulo"/>
          <p:cNvSpPr/>
          <p:nvPr/>
        </p:nvSpPr>
        <p:spPr>
          <a:xfrm>
            <a:off x="1571760" y="51436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ystem:_________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erm: 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Rectángulo"/>
          <p:cNvSpPr/>
          <p:nvPr/>
        </p:nvSpPr>
        <p:spPr>
          <a:xfrm>
            <a:off x="571680" y="17146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Rachel, 56 year-old housewife, admitted  to the ward with a diagnosis of Pneumonia. She’s sitting on her chair, breathing heavily. She says she can’t breathe well if she lies down. Her temperature is 101.3 °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Read the report and  write the system and the medical term involved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5 Rectángulo"/>
          <p:cNvSpPr/>
          <p:nvPr/>
        </p:nvSpPr>
        <p:spPr>
          <a:xfrm>
            <a:off x="1571760" y="471492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ystem: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spir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erm: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yspnea, Pyre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Rectángulo"/>
          <p:cNvSpPr/>
          <p:nvPr/>
        </p:nvSpPr>
        <p:spPr>
          <a:xfrm>
            <a:off x="714240" y="192888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) Lionel, 68 year old retired driver, treated for fluid retention. His ankles and legs are very swollen. His pulse is 104/ minute and st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Read the report and  write the system and the medical term involved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5 Rectángulo"/>
          <p:cNvSpPr/>
          <p:nvPr/>
        </p:nvSpPr>
        <p:spPr>
          <a:xfrm>
            <a:off x="1785960" y="4429080"/>
            <a:ext cx="56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ystem: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erm: 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Rectángulo"/>
          <p:cNvSpPr/>
          <p:nvPr/>
        </p:nvSpPr>
        <p:spPr>
          <a:xfrm>
            <a:off x="714240" y="192888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) Lionel, 68 year old retired driver, treated for fluid retention. His ankles and legs are very swollen. His pulse is 104/ minute and st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Read the report and  write the system and the medical term involved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5 Rectángulo"/>
          <p:cNvSpPr/>
          <p:nvPr/>
        </p:nvSpPr>
        <p:spPr>
          <a:xfrm>
            <a:off x="1785960" y="4429080"/>
            <a:ext cx="56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ystem: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ardiovascula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erm: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achycar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What do these Progress notes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858160" cy="404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O/E   Oriented by 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oor resp. movt.   p 80/min   BP 140/92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HS normal.  Pain c  nausea. Edema up to kn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   Frusemide 20 mg 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4 Conector recto"/>
          <p:cNvSpPr/>
          <p:nvPr/>
        </p:nvSpPr>
        <p:spPr>
          <a:xfrm>
            <a:off x="3571920" y="3429000"/>
            <a:ext cx="2142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6 Conector recto"/>
          <p:cNvSpPr/>
          <p:nvPr/>
        </p:nvSpPr>
        <p:spPr>
          <a:xfrm>
            <a:off x="9858240" y="1285920"/>
            <a:ext cx="914400" cy="914400"/>
          </a:xfrm>
          <a:prstGeom prst="line">
            <a:avLst/>
          </a:prstGeom>
          <a:ln w="9360">
            <a:solidFill>
              <a:srgbClr val="2d6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8 Forma libre"/>
          <p:cNvSpPr/>
          <p:nvPr/>
        </p:nvSpPr>
        <p:spPr>
          <a:xfrm>
            <a:off x="714240" y="4214880"/>
            <a:ext cx="314640" cy="206280"/>
          </a:xfrm>
          <a:prstGeom prst="pi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12 Conector recto"/>
          <p:cNvSpPr/>
          <p:nvPr/>
        </p:nvSpPr>
        <p:spPr>
          <a:xfrm flipH="1">
            <a:off x="714240" y="4285440"/>
            <a:ext cx="214560" cy="142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00:27:27Z</dcterms:created>
  <dc:creator>Garbey</dc:creator>
  <dc:description/>
  <dc:language>en-US</dc:language>
  <cp:lastModifiedBy>*</cp:lastModifiedBy>
  <dcterms:modified xsi:type="dcterms:W3CDTF">2013-11-03T17:38:24Z</dcterms:modified>
  <cp:revision>453</cp:revision>
  <dc:subject/>
  <dc:title>Negotiating a deal (Meetings)</dc:title>
</cp:coreProperties>
</file>