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1.png" ContentType="image/png"/>
  <Override PartName="/ppt/media/image12.png" ContentType="image/png"/>
  <Override PartName="/ppt/media/image36.png" ContentType="image/png"/>
  <Override PartName="/ppt/media/image37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EDB-5483-44C3-AD4F-CAF7B29F4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170-488E-4864-BB60-BCB7D749E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FE3-B081-40A0-BFBD-580BA988FE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E48C-7F83-433E-A187-7D8960A11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252-8420-48CD-8B87-19CC5069D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169E-9A1D-4E12-9F1E-5D4CFDC964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60C0-F93B-4B48-8EF6-4D39050DBB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078-CEF4-48FA-AD28-2731D1B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D11-DF26-455A-91F2-E20DD49A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8B5-AF8A-47A2-BAB2-D7BE1C1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D8E-4EB4-419B-A5E6-CE55F07F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758-715C-42CF-966C-6EAFF971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5FB-F8EB-4988-8FBC-125E7F52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88CB-8628-41B0-BF60-E33BA1FB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0B22-3EBE-459B-AD07-CF667FF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C08-5577-49BA-9A33-F548E13E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092F-7BA5-4374-B651-F3E72341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8BF-C095-4126-94FA-AA2FC4E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5FB-132F-4AA5-BAFF-5EDCF54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975B-3C0F-47AB-9884-65B9D09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415-EF81-489A-9194-4D2C2AF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23AA-A1D4-4AD5-B775-C3D684C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B50-0EBF-44F4-BBFA-78D2623E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D3A-DF69-41A3-AA00-45768763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E70-4AAC-4EA0-8708-AD3937B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B0A-8969-4FF0-BB10-F1F44BF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83A-E5F5-4557-8741-40F4D57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E38-23CD-4FCF-99B2-BF43141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0DC-9B76-4BFF-904A-8512A3A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1DE-95FA-4400-87B4-648902C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933-A419-4669-BB39-D3CC295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146-21A4-4433-95D7-76F912C0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B5E-E16D-4BA4-AC19-B483227CC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Eduardo\Mis documentos\NEWS\images Finns.jpg"/>
          <p:cNvPicPr/>
          <p:nvPr/>
        </p:nvPicPr>
        <p:blipFill>
          <a:blip r:embed="rId1"/>
          <a:stretch/>
        </p:blipFill>
        <p:spPr>
          <a:xfrm>
            <a:off x="285840" y="1214280"/>
            <a:ext cx="4286160" cy="300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Eduardo\Mis documentos\NEWS\images info tech.jpg"/>
          <p:cNvPicPr/>
          <p:nvPr/>
        </p:nvPicPr>
        <p:blipFill>
          <a:blip r:embed="rId2"/>
          <a:stretch/>
        </p:blipFill>
        <p:spPr>
          <a:xfrm>
            <a:off x="5000760" y="1214280"/>
            <a:ext cx="3000240" cy="221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Documents and Settings\Eduardo\Mis documentos\NEWS\images physio1.jpg"/>
          <p:cNvPicPr/>
          <p:nvPr/>
        </p:nvPicPr>
        <p:blipFill>
          <a:blip r:embed="rId3"/>
          <a:stretch/>
        </p:blipFill>
        <p:spPr>
          <a:xfrm>
            <a:off x="5072040" y="3643200"/>
            <a:ext cx="2981520" cy="171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Eduardo\Mis documentos\NEWS\imagesfood1.jpg"/>
          <p:cNvPicPr/>
          <p:nvPr/>
        </p:nvPicPr>
        <p:blipFill>
          <a:blip r:embed="rId4"/>
          <a:stretch/>
        </p:blipFill>
        <p:spPr>
          <a:xfrm>
            <a:off x="214200" y="4357800"/>
            <a:ext cx="4357800" cy="9284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HEALTH CARE  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7 Título"/>
          <p:cNvSpPr/>
          <p:nvPr/>
        </p:nvSpPr>
        <p:spPr>
          <a:xfrm>
            <a:off x="357120" y="5715000"/>
            <a:ext cx="85010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f. E Garbey Savigne, BEd, Cert TEB, 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s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929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adiologist, number 2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eech therapist, number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ptician, number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utritionist, number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b technician , number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ysiotherapist, number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  </a:t>
            </a:r>
            <a:br>
              <a:rPr sz="3600"/>
            </a:b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Read the following dialogue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2560" y="6426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g is treating Tim, a young base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ayer who broke his le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Can you stretch your right leg u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I´ll try… How is t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Very good. Bend your knee, pl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 Sure. Is it O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Well done. A bit more…Does it hu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Ouch! It hurts. I can´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I am sure you will be all right, O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 these question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9001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 Meg praise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gic word does she use to instruct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she say to reassure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  </a:t>
            </a:r>
            <a:br>
              <a:rPr sz="3600"/>
            </a:b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Read the dialogue again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2560" y="6426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g is treating Tim, a young base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ayer who has broken his le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Can you stretch your right leg u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I´ll try… How is t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Very good. Bend your knee, pl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 Sure. Is it O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Well done. A bit more…Does it hu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: Ouch! It hurts. I can´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g: I am sure you will be all right, O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2560" y="1000080"/>
            <a:ext cx="9001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 Meg praise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8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8400" indent="-6984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gic word does she use to instruct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8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8400" indent="-6984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she say to reassure the pati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3 Rectángulo"/>
          <p:cNvSpPr/>
          <p:nvPr/>
        </p:nvSpPr>
        <p:spPr>
          <a:xfrm>
            <a:off x="322560" y="1785960"/>
            <a:ext cx="45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es, she do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4 Rectángulo"/>
          <p:cNvSpPr/>
          <p:nvPr/>
        </p:nvSpPr>
        <p:spPr>
          <a:xfrm>
            <a:off x="1293840" y="3429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5 Rectángulo"/>
          <p:cNvSpPr/>
          <p:nvPr/>
        </p:nvSpPr>
        <p:spPr>
          <a:xfrm>
            <a:off x="1071720" y="528624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am sure you will be all right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Language for Instructions, Praise and Reassur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14200" y="1571760"/>
          <a:ext cx="8929800" cy="5072040"/>
        </p:xfrm>
        <a:graphic>
          <a:graphicData uri="http://schemas.openxmlformats.org/drawingml/2006/table">
            <a:tbl>
              <a:tblPr/>
              <a:tblGrid>
                <a:gridCol w="3041640"/>
                <a:gridCol w="5888160"/>
              </a:tblGrid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ting the pati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nd your knees, plea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y to lift your arms higher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ti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ll d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y good!!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´s much bett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sur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ti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ou mustn´t worry about i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am sure you will be all righ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 course it i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hange the following commands to polite reques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00120"/>
            <a:ext cx="8400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 o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d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your a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your breath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 the following commands to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lite reques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00120"/>
            <a:ext cx="8400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 o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ease, turn o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ould you mind lying dow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your a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ll you raise your arm, pl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your breath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ould you please hold your breath 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has to do with 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785880"/>
            <a:ext cx="328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and Diete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Hygiene and 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form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Optometry and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7760" y="714240"/>
            <a:ext cx="5286240" cy="6143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aract, myop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statistics, fig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od, life style, eating patter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n, health campaig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-712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has to do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3840" y="714240"/>
            <a:ext cx="7215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and Dietetic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Hygien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Optometry and Optic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7 Rectángulo"/>
          <p:cNvSpPr/>
          <p:nvPr/>
        </p:nvSpPr>
        <p:spPr>
          <a:xfrm>
            <a:off x="5000760" y="6429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Food, life styl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ting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8 Rectángulo"/>
          <p:cNvSpPr/>
          <p:nvPr/>
        </p:nvSpPr>
        <p:spPr>
          <a:xfrm>
            <a:off x="457200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Infection, health campaig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9 Rectángulo"/>
          <p:cNvSpPr/>
          <p:nvPr/>
        </p:nvSpPr>
        <p:spPr>
          <a:xfrm>
            <a:off x="4572000" y="40006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Medical statistics, fig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4732920" y="5929200"/>
            <a:ext cx="387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taract, myo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929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will look at the language used     for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ing about  the health care technology job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ing about health care technologists and other personnel at work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ing about the words, expressions  and idioms related to health preven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77560"/>
            <a:ext cx="9001080" cy="15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Name the colors of the following words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s fast as you can. Don´t read the words but say what color they are</a:t>
            </a:r>
            <a:r>
              <a:rPr b="0" i="1" lang="es-ES" sz="4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3 Rectángulo"/>
          <p:cNvSpPr/>
          <p:nvPr/>
        </p:nvSpPr>
        <p:spPr>
          <a:xfrm>
            <a:off x="785880" y="2786040"/>
            <a:ext cx="7572240" cy="27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BROWN 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LUE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WHITE  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s-ES" sz="3200" spc="-1" strike="noStrike">
                <a:solidFill>
                  <a:srgbClr val="7f7f7f"/>
                </a:solidFill>
                <a:latin typeface="Arial"/>
              </a:rPr>
              <a:t>LL</a:t>
            </a:r>
            <a:r>
              <a:rPr b="1" lang="es-ES" sz="3200" spc="-1" strike="noStrike">
                <a:solidFill>
                  <a:srgbClr val="92d050"/>
                </a:solidFill>
                <a:latin typeface="Arial"/>
              </a:rPr>
              <a:t>O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GREEN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ORANGE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6666ff"/>
                </a:solidFill>
                <a:latin typeface="Arial"/>
              </a:rPr>
              <a:t>RED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c000"/>
                </a:solidFill>
                <a:latin typeface="Arial"/>
              </a:rPr>
              <a:t>BLACK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bined imaging of the 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3 Marcador de contenido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572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142920"/>
          <a:ext cx="9144000" cy="6500880"/>
        </p:xfrm>
        <a:graphic>
          <a:graphicData uri="http://schemas.openxmlformats.org/drawingml/2006/table">
            <a:tbl>
              <a:tblPr/>
              <a:tblGrid>
                <a:gridCol w="2301840"/>
                <a:gridCol w="684216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 COMMON  IMAGING TECHNIQU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R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is type of scan uses </a:t>
                      </a: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waves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to produce images  and is used  for imaging fluid-filled structures  such as the </a:t>
                      </a: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l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1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T-SC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 form of </a:t>
                      </a: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adionuclide scanning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 It produces images that show the function of cells. It can show the pattern of activities of </a:t>
                      </a: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rain cells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LT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SC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-rays beams are used to create detailed cross-sectional </a:t>
                      </a: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mage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3840" y="999720"/>
            <a:ext cx="8472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reasons for your 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CT scan operator has problems with the patients 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r. Kent likes the operator´s work 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r. Kent criticizes the operator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he operator likes what the nurses do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re is part of a conversation between a CT-scan operator and Mr. Kent, the director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214280"/>
            <a:ext cx="87152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´m pleased with your work this y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anks Mr. K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get on very well with the patients. That´s good. But there´s one thing that worries me. Sometimes you lose your temper with the nur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y´re always teasing me, and I don´t lik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, I agree. But you shouldn´t have shouted at them.  Don´t you agr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3840" y="999720"/>
            <a:ext cx="8472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reasons for your 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CT scan operator has problems with the patient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r. Kent likes the operator´s work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r. Kent criticizes the operato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he operator likes what the nurses d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 Imagen" descr=""/>
          <p:cNvPicPr/>
          <p:nvPr/>
        </p:nvPicPr>
        <p:blipFill>
          <a:blip r:embed="rId1"/>
          <a:stretch/>
        </p:blipFill>
        <p:spPr>
          <a:xfrm>
            <a:off x="2357280" y="1643040"/>
            <a:ext cx="4000680" cy="4857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8688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´s the message of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Y NO TO DRU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3857760" cy="3714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428760" y="3714840"/>
            <a:ext cx="2286000" cy="2714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5500800" y="2214720"/>
            <a:ext cx="221436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00"/>
                </a:solidFill>
                <a:latin typeface="Arial"/>
              </a:rPr>
              <a:t>CEDRO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13840" y="5000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ject  known as  the Academy Development Centre on Drug Dependency belonging to the Havana Medical Sciences Univers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in 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velop and organize scientific activities related to drug dependency preven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fundamental social roles: research, teaching and prevention in and from the academy on drug dependency iss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287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health care personnel, social workers and educators must work hard to prevent our young people from using dru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doctors, nurses and health technologists should know the language used by drug addicts to understand and to know how to proce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Health Care technology care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helor of Science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and Diete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giene and 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3429000" y="2643120"/>
            <a:ext cx="2031840" cy="1462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4"/>
          <a:stretch/>
        </p:blipFill>
        <p:spPr>
          <a:xfrm>
            <a:off x="6143760" y="2214720"/>
            <a:ext cx="2071440" cy="1928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5"/>
          <a:stretch/>
        </p:blipFill>
        <p:spPr>
          <a:xfrm>
            <a:off x="642960" y="2500200"/>
            <a:ext cx="2047680" cy="1214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6"/>
          <a:stretch/>
        </p:blipFill>
        <p:spPr>
          <a:xfrm>
            <a:off x="5929200" y="4643280"/>
            <a:ext cx="2000520" cy="197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7"/>
          <a:stretch/>
        </p:blipFill>
        <p:spPr>
          <a:xfrm>
            <a:off x="1714680" y="4629240"/>
            <a:ext cx="1438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 slang language used by drug addicts when talking to healthcare personn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4722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Hit : Undesirable effect after taking a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nk up: To inject a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e: Any narc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ked: Addicted to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dler: Seller of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ed on: Under the influence of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nguage used to express effect of drugs ta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4722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g, Buzz, Flush: sensation after inj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mbed: high on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zz: effect induced by taking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ke out: to lose conscious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ove: having a good time on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h: the euphoric effect of a drug on the u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ecked: high on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I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8472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reak one´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o over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l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elibe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easer – problem or puzz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listen very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eep a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y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something – watch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´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: Let´s be honest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g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ossed: hope for lu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: do not t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I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5480" y="642960"/>
            <a:ext cx="87152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pletely; all over th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o stay calm in a difficult sit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elt sympathy: deepest sympat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tretch one´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o go for a w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ve seal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p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silent about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ul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ul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ith united eff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ine: To obey the rules of a pa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mb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p: mark of victory, satisf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68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Before you read, make a list of the things a hospital porter do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964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ad the text and decide if these statements are true (T) or false (F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2214720"/>
            <a:ext cx="89647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ers only open and close doors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ove around the hospital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collect waste and take it away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ers should be fit, polite and friendly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85840" y="1285560"/>
            <a:ext cx="8400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ers do more than just push food trolleys around the hospital. They transport patients by wheelchair or stretcher from the wards to other departments. They also move files, sampl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m are in charge of removing dead bodies to the mortuary, and lift and carry heavy equipments and furniture. They also dispose of all the was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964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ad the text and decide if these statements are true (T) or false (F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2214720"/>
            <a:ext cx="89647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ers only open and close doors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ove around the hospita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collect waste and take it away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ers should be fit, polite and friendly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does 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99720"/>
            <a:ext cx="2857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lp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 Paramed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 Hospit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ceptio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785680" y="642960"/>
            <a:ext cx="6357960" cy="6215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find somebody or to know anything about the hospital- just ask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to make quick decisions, and to administer life-saving procedures at the sc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ll me for information or advice, or to listen to a friendly voi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responsible for ward hygiene and the quality of patient´s foo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does 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85840" y="714240"/>
            <a:ext cx="8858160" cy="6143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need to find somebody or to know anything about the hospital- just ask me.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ospital  reception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to make quick decisions, and to administer life-saving procedures at the scene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aramed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all me for information or advice, or to listen to a friendly voice.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elpline  opera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responsible for ward hygiene and the quality of patient´s f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5154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formation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071720" y="1143000"/>
            <a:ext cx="2071440" cy="2214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00720" y="1071720"/>
            <a:ext cx="2071440" cy="2525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5000760" y="4143240"/>
            <a:ext cx="2143080" cy="2482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5"/>
          <a:stretch/>
        </p:blipFill>
        <p:spPr>
          <a:xfrm>
            <a:off x="1285920" y="4397400"/>
            <a:ext cx="27036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dealt with the language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ing about  the health care technology job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ing about health care technologists and other personnel at work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ing about the words, expressions  and idioms related to health preven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Bio-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 and Medical Radio Phys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214280" y="435780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714240" y="1143000"/>
            <a:ext cx="1789200" cy="1428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5"/>
          <a:stretch/>
        </p:blipFill>
        <p:spPr>
          <a:xfrm>
            <a:off x="3143160" y="928800"/>
            <a:ext cx="185760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6"/>
          <a:stretch/>
        </p:blipFill>
        <p:spPr>
          <a:xfrm>
            <a:off x="4202280" y="4429080"/>
            <a:ext cx="3298680" cy="229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7"/>
          <a:stretch/>
        </p:blipFill>
        <p:spPr>
          <a:xfrm>
            <a:off x="5572080" y="92880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ometry and Op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 Therapy and Phoniatry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714240" y="4429080"/>
            <a:ext cx="3100680" cy="171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4"/>
          <a:stretch/>
        </p:blipFill>
        <p:spPr>
          <a:xfrm>
            <a:off x="5143680" y="4214880"/>
            <a:ext cx="2643120" cy="238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500040" y="100008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6"/>
          <a:stretch/>
        </p:blipFill>
        <p:spPr>
          <a:xfrm>
            <a:off x="3000240" y="1214280"/>
            <a:ext cx="2162160" cy="50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7"/>
          <a:stretch/>
        </p:blipFill>
        <p:spPr>
          <a:xfrm>
            <a:off x="5857920" y="64296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ook at the pictures and 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e ready for question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357720" y="1785960"/>
            <a:ext cx="2214360" cy="250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Eduardo\Mis documentos\NEWS\imageslab1.jpg"/>
          <p:cNvPicPr/>
          <p:nvPr/>
        </p:nvPicPr>
        <p:blipFill>
          <a:blip r:embed="rId2"/>
          <a:stretch/>
        </p:blipFill>
        <p:spPr>
          <a:xfrm>
            <a:off x="3429000" y="450072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Eduardo\Mis documentos\NEWS\images physio.jpg"/>
          <p:cNvPicPr/>
          <p:nvPr/>
        </p:nvPicPr>
        <p:blipFill>
          <a:blip r:embed="rId3"/>
          <a:stretch/>
        </p:blipFill>
        <p:spPr>
          <a:xfrm>
            <a:off x="6143760" y="1785960"/>
            <a:ext cx="276840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Eduardo\Mis documentos\NEWS\imageseye1.jpg"/>
          <p:cNvPicPr/>
          <p:nvPr/>
        </p:nvPicPr>
        <p:blipFill>
          <a:blip r:embed="rId4"/>
          <a:stretch/>
        </p:blipFill>
        <p:spPr>
          <a:xfrm>
            <a:off x="6286680" y="4286160"/>
            <a:ext cx="2643120" cy="2455920"/>
          </a:xfrm>
          <a:prstGeom prst="rect">
            <a:avLst/>
          </a:prstGeom>
          <a:ln w="0">
            <a:noFill/>
          </a:ln>
        </p:spPr>
      </p:pic>
      <p:sp>
        <p:nvSpPr>
          <p:cNvPr id="206" name="9 Rectángulo"/>
          <p:cNvSpPr/>
          <p:nvPr/>
        </p:nvSpPr>
        <p:spPr>
          <a:xfrm>
            <a:off x="3240" y="1643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10 Rectángulo"/>
          <p:cNvSpPr/>
          <p:nvPr/>
        </p:nvSpPr>
        <p:spPr>
          <a:xfrm>
            <a:off x="2860560" y="1714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11 Rectángulo"/>
          <p:cNvSpPr/>
          <p:nvPr/>
        </p:nvSpPr>
        <p:spPr>
          <a:xfrm>
            <a:off x="5718240" y="178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12 Rectángulo"/>
          <p:cNvSpPr/>
          <p:nvPr/>
        </p:nvSpPr>
        <p:spPr>
          <a:xfrm>
            <a:off x="3240" y="4286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13 Rectángulo"/>
          <p:cNvSpPr/>
          <p:nvPr/>
        </p:nvSpPr>
        <p:spPr>
          <a:xfrm>
            <a:off x="2931840" y="43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14 Rectángulo"/>
          <p:cNvSpPr/>
          <p:nvPr/>
        </p:nvSpPr>
        <p:spPr>
          <a:xfrm>
            <a:off x="5789520" y="43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42960" y="178596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C:\Documents and Settings\Eduardo\Mis documentos\NEWS\imagesspeech1.jpg"/>
          <p:cNvPicPr/>
          <p:nvPr/>
        </p:nvPicPr>
        <p:blipFill>
          <a:blip r:embed="rId6"/>
          <a:stretch/>
        </p:blipFill>
        <p:spPr>
          <a:xfrm>
            <a:off x="500040" y="4500720"/>
            <a:ext cx="2500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ter watching the pictures 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 the question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tches the X-ray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have pronunciation problems, who do you go for advi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hecks your sight when you can not see wel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help you with your di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nalyzes samples in the la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help you with your rehabilit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2143440" cy="2500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Eduardo\Mis documentos\NEWS\imageslab1.jpg"/>
          <p:cNvPicPr/>
          <p:nvPr/>
        </p:nvPicPr>
        <p:blipFill>
          <a:blip r:embed="rId2"/>
          <a:stretch/>
        </p:blipFill>
        <p:spPr>
          <a:xfrm>
            <a:off x="3429000" y="450072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Eduardo\Mis documentos\NEWS\images physio.jpg"/>
          <p:cNvPicPr/>
          <p:nvPr/>
        </p:nvPicPr>
        <p:blipFill>
          <a:blip r:embed="rId3"/>
          <a:stretch/>
        </p:blipFill>
        <p:spPr>
          <a:xfrm>
            <a:off x="6215040" y="4500720"/>
            <a:ext cx="2768760" cy="2143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Documents and Settings\Eduardo\Mis documentos\NEWS\imageseye1.jpg"/>
          <p:cNvPicPr/>
          <p:nvPr/>
        </p:nvPicPr>
        <p:blipFill>
          <a:blip r:embed="rId4"/>
          <a:stretch/>
        </p:blipFill>
        <p:spPr>
          <a:xfrm>
            <a:off x="6286680" y="1000080"/>
            <a:ext cx="2643120" cy="2214720"/>
          </a:xfrm>
          <a:prstGeom prst="rect">
            <a:avLst/>
          </a:prstGeom>
          <a:ln w="0">
            <a:noFill/>
          </a:ln>
        </p:spPr>
      </p:pic>
      <p:sp>
        <p:nvSpPr>
          <p:cNvPr id="220" name="9 Rectángulo"/>
          <p:cNvSpPr/>
          <p:nvPr/>
        </p:nvSpPr>
        <p:spPr>
          <a:xfrm>
            <a:off x="3240" y="42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10 Rectángulo"/>
          <p:cNvSpPr/>
          <p:nvPr/>
        </p:nvSpPr>
        <p:spPr>
          <a:xfrm>
            <a:off x="304560" y="701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12 Rectángulo"/>
          <p:cNvSpPr/>
          <p:nvPr/>
        </p:nvSpPr>
        <p:spPr>
          <a:xfrm>
            <a:off x="3146400" y="701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13 Rectángulo"/>
          <p:cNvSpPr/>
          <p:nvPr/>
        </p:nvSpPr>
        <p:spPr>
          <a:xfrm>
            <a:off x="3074760" y="414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14 Rectángulo"/>
          <p:cNvSpPr/>
          <p:nvPr/>
        </p:nvSpPr>
        <p:spPr>
          <a:xfrm>
            <a:off x="8575560" y="50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5"/>
          <a:stretch/>
        </p:blipFill>
        <p:spPr>
          <a:xfrm>
            <a:off x="428760" y="4429080"/>
            <a:ext cx="2000160" cy="235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C:\Documents and Settings\Eduardo\Mis documentos\NEWS\imagesspeech1.jpg"/>
          <p:cNvPicPr/>
          <p:nvPr/>
        </p:nvPicPr>
        <p:blipFill>
          <a:blip r:embed="rId6"/>
          <a:stretch/>
        </p:blipFill>
        <p:spPr>
          <a:xfrm>
            <a:off x="3500280" y="1071720"/>
            <a:ext cx="2500560" cy="2071440"/>
          </a:xfrm>
          <a:prstGeom prst="rect">
            <a:avLst/>
          </a:prstGeom>
          <a:ln w="0">
            <a:noFill/>
          </a:ln>
        </p:spPr>
      </p:pic>
      <p:sp>
        <p:nvSpPr>
          <p:cNvPr id="227" name="11 Rectángulo"/>
          <p:cNvSpPr/>
          <p:nvPr/>
        </p:nvSpPr>
        <p:spPr>
          <a:xfrm>
            <a:off x="8734320" y="405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16 Rectángulo"/>
          <p:cNvSpPr/>
          <p:nvPr/>
        </p:nvSpPr>
        <p:spPr>
          <a:xfrm>
            <a:off x="582480" y="28584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log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17 Rectángulo"/>
          <p:cNvSpPr/>
          <p:nvPr/>
        </p:nvSpPr>
        <p:spPr>
          <a:xfrm>
            <a:off x="3825000" y="65160"/>
            <a:ext cx="17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18 Rectángulo"/>
          <p:cNvSpPr/>
          <p:nvPr/>
        </p:nvSpPr>
        <p:spPr>
          <a:xfrm>
            <a:off x="6626880" y="3571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19 Rectángulo"/>
          <p:cNvSpPr/>
          <p:nvPr/>
        </p:nvSpPr>
        <p:spPr>
          <a:xfrm>
            <a:off x="296640" y="378612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20 Rectángulo"/>
          <p:cNvSpPr/>
          <p:nvPr/>
        </p:nvSpPr>
        <p:spPr>
          <a:xfrm>
            <a:off x="3371400" y="385776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 technic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21 Rectángulo"/>
          <p:cNvSpPr/>
          <p:nvPr/>
        </p:nvSpPr>
        <p:spPr>
          <a:xfrm>
            <a:off x="6217200" y="364320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therap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00:27:27Z</dcterms:created>
  <dc:creator>Garbey</dc:creator>
  <dc:description/>
  <dc:language>en-US</dc:language>
  <cp:lastModifiedBy>*</cp:lastModifiedBy>
  <dcterms:modified xsi:type="dcterms:W3CDTF">2013-11-03T17:39:07Z</dcterms:modified>
  <cp:revision>375</cp:revision>
  <dc:subject/>
  <dc:title>Negotiating a deal (Meetings)</dc:title>
</cp:coreProperties>
</file>