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B38-DD7F-44C9-B283-510AFD3B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744-C316-4791-ACBD-1AE44A7D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C0B-897F-4C74-BD33-719888DA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D38-D401-4B18-8E14-D3341453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202-49EF-43BE-BA6D-1238E595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763-D079-434E-A81A-30E0ED11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7E1-65D9-41AA-9297-C96D5F6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15A-C25F-4D61-A687-41A216E7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7E9-6942-4983-81EC-92807242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7C1-4706-4CCF-8742-4D868F2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10E-2D6A-4631-BA4A-D7D3369B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956-9147-4D3D-BF8C-F7C0AB88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2E27-0C1E-42CC-B6FD-A7EF1CD6A21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Jose Marti and the rise of the  industrial age in the US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fessor Hilda Torres Belt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Ph.D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Maps United Satat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ff"/>
                </a:solidFill>
                <a:latin typeface="Arial"/>
              </a:rPr>
              <a:t>Fill in the blanks using the following words where appropriate:(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events, low, many, century, was, rights expansion, immigrants, country, Industrial, cities, men,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19th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 ______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1)in the USA there were three impor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________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2)that led to the  unprecedented growth of the cit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were:  th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________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3) to the West, the arrival  of many__________(4) from all over the world and the 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) Revolu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industrial cities emerged, particularly in the Northwest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_______(6);  in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 _________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7) like N. York, Philadelphia, and Bost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ssive groups of ________,( 8) women, and children were working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________ (9) hours in the factories  and they were paid ve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________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10) salaries .There ______(11)  no protection of labor 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gard for their lives. Trade unions started to struggle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_________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12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19th centur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1)in the USA there were three important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even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2)that led to the  unprecedented growth of the citi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were: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expansion (3)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the West, the arrival  of many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mmigrants (4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rom all over the world and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ndustria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5) Revolu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industrial cities emerged, particularly in the Northwest of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ountry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6); in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cities(7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ike New York, Philadelphia, and Bost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ive groups of immigrant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en (8)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women, and children were working  for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any (9)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urs in the factories  and they were paid very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lo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10) salaries .Ther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w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11)  no protection of labor or regard for their lives. Trade unions started to struggle for their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rights (12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Use the imperative form to fill in the blanks with the appropriate verbs from the list :</a:t>
            </a:r>
            <a:br>
              <a:rPr sz="2400"/>
            </a:b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(be (twice), show, select, ask, not-interrupt, 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, (you must) learn something about the topic of the interview. Th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______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 good setting to make the interviewee comfor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______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-ended questions to encourage the interviewee to add more information.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______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lite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. _______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r interest with a nod or a smi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______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critical in your manner and ____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______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that the interviewee’s  ideas and opinions can flow without pressure. You can ask for clarification l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ffff"/>
                </a:solidFill>
                <a:latin typeface="Arial"/>
              </a:rPr>
              <a:t>Rules for an oral interview.</a:t>
            </a: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, (you must 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ar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omething about the topic of the intervi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el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 good setting to make the interviewee comfor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sk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-ended questions to encourage the interviewee to add more information.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lite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. Show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r interest with a nod or a smi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critical in your manner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on’t  interru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o that the interviewee´s ideas and opinions can flow without pressure. You can ask for clarification l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While listening  answer the following  questions:</a:t>
            </a: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 prestigious Cuban intellectual  did Dr. Toledo  mention as  his  mento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Mention three  or four places visited by J. Marti in USA other than New York and Philadelph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What does the contrast between the figures of Lincoln and Cutting  symboliz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. In the interview Dr. Toledo emphasized that for J. Marti it was essential to keep the preparations for the war in silence. That he stressed the importance of  surprising the enemy . Why do you think it was s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r. Jose Antonio Portu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Ocala, San Agustín, Jacksonville, New Orleans, Atlanta, Tampa and Key W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Lincoln represented: justice, the unity of the country, the best traditions of the War of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ting:  violence, greed, expansion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o make the war quick and prevent suffer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mpede American intervention in the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GB" sz="3200" spc="-1" strike="noStrike">
                <a:solidFill>
                  <a:srgbClr val="ccffff"/>
                </a:solidFill>
                <a:latin typeface="Arial"/>
              </a:rPr>
              <a:t>Class Objectives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ti’s appraisal of US life and culture at the end of the 19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ti’s work in the USA  for Cuban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cademic skills:   Summarizing information and organizing an oral intervi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ffff"/>
                </a:solidFill>
                <a:latin typeface="Arial"/>
              </a:rPr>
              <a:t>Contents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istorical antecedents of second half of the 19th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ti’s appraisal of some of  the major events  in  19th century  U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erview :  Luis Toledo Sande ( Ph 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ti in the USA:  his work for Cuban Independen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Find equivalent /opposite proverbs  in English for the following Cuban proverbs</a:t>
            </a:r>
            <a:r>
              <a:rPr b="0" lang="es-ES" sz="36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la unión está la fuerza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ed we stand, divided we fal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hechos valen más que las palabra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ctions speak louder than word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ien siembra viento recoge tempestade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  you make your bed, so you   must li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amigos no están sólo para reír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friend in need is a friend indeed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unca es tarde para aprender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is never too late to lear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ffff"/>
                </a:solidFill>
                <a:latin typeface="Arial"/>
              </a:rPr>
              <a:t>Most important changes in the 19th centur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expansion to the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ndustrial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ive immigration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ffff"/>
                </a:solidFill>
                <a:latin typeface="Arial"/>
              </a:rPr>
              <a:t>Walt Whitman (1819-1892)</a:t>
            </a: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38120" y="9907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ranscendentalist writer who broke free from the traditional rhyme schemes and poetic rhythms of his epoch. The content of his poetry  was radical 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Most important poem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i="1" lang="en-GB" sz="2400" spc="-1" strike="noStrike">
                <a:solidFill>
                  <a:srgbClr val="ffffff"/>
                </a:solidFill>
                <a:latin typeface="Arial Narrow"/>
              </a:rPr>
              <a:t>¨Song of Myself” (</a:t>
            </a:r>
            <a:r>
              <a:rPr b="0" i="1" lang="en-GB" sz="2400" spc="-1" strike="noStrike">
                <a:solidFill>
                  <a:srgbClr val="ffffff"/>
                </a:solidFill>
                <a:latin typeface="Arial Narrow"/>
              </a:rPr>
              <a:t>1855)</a:t>
            </a:r>
            <a:r>
              <a:rPr b="1" i="1" lang="en-GB" sz="2400" spc="-1" strike="noStrike">
                <a:solidFill>
                  <a:srgbClr val="ffffff"/>
                </a:solidFill>
                <a:latin typeface="Arial Narrow"/>
              </a:rPr>
              <a:t>      “Leaves of Grass” (</a:t>
            </a:r>
            <a:r>
              <a:rPr b="0" i="1" lang="en-GB" sz="2400" spc="-1" strike="noStrike">
                <a:solidFill>
                  <a:srgbClr val="ffffff"/>
                </a:solidFill>
                <a:latin typeface="Arial Narrow"/>
              </a:rPr>
              <a:t>1855)</a:t>
            </a:r>
            <a:r>
              <a:rPr b="1" i="1" lang="en-GB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i="1" lang="en-GB" sz="2400" spc="-1" strike="noStrike">
                <a:solidFill>
                  <a:srgbClr val="ffffff"/>
                </a:solidFill>
                <a:latin typeface="Arial Narrow"/>
              </a:rPr>
              <a:t>“Crossing Brooklyn Ferry” “Democratic Vistas” (18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6672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gency FB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lang="es-ES" sz="3200" spc="-1" strike="noStrike">
                <a:solidFill>
                  <a:srgbClr val="ffffff"/>
                </a:solidFill>
                <a:latin typeface="Agency FB"/>
              </a:rPr>
              <a:t>About the content of Whitman’s poetry these three statements have been ma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gency FB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gency FB"/>
              </a:rPr>
              <a:t>He</a:t>
            </a:r>
            <a:r>
              <a:rPr b="0" lang="es-ES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gency FB"/>
              </a:rPr>
              <a:t>placed his romantic self at the center of the universe and   proclaimed the unity and vital force of all creation</a:t>
            </a:r>
            <a:r>
              <a:rPr b="0" lang="en-GB" sz="2800" spc="-1" strike="noStrike">
                <a:solidFill>
                  <a:srgbClr val="ffffff"/>
                </a:solidFill>
                <a:latin typeface="Agency FB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gency FB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gency FB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gency FB"/>
              </a:rPr>
              <a:t>But he  was also  a suffering 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In each of</a:t>
            </a:r>
            <a:r>
              <a:rPr b="1" lang="es-E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the following excerpts taken from “ Song of Myself” say which of these two characteristics are present , a or b?</a:t>
            </a:r>
            <a:r>
              <a:rPr b="0" lang="es-E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1.(…)“The mother of old, condemn’d for a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witch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, burnt with dry woo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her children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gazing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on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am the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hounded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slav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wince at the bite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of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dogs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am the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mash’d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fireman with breast-bone broken....”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1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2. (...) “I celebrate myself, and sing myself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And what I assume you shall assum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For every atom belonging to me as good belongs to you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3.(…)  “My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ties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and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ballasts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leave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skirt 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sierras, my palms cover conti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am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afoot 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with my vision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b)………………(a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1.(…)“The mother of old, condemn’d for a </a:t>
            </a:r>
            <a:r>
              <a:rPr b="1" lang="en-GB" sz="2800" spc="-1" strike="noStrike">
                <a:solidFill>
                  <a:srgbClr val="ffffff"/>
                </a:solidFill>
                <a:latin typeface="High Tower Text"/>
              </a:rPr>
              <a:t>witch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, burnt with dry woo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her children </a:t>
            </a:r>
            <a:r>
              <a:rPr b="1" lang="en-GB" sz="2800" spc="-1" strike="noStrike">
                <a:solidFill>
                  <a:srgbClr val="ffffff"/>
                </a:solidFill>
                <a:latin typeface="High Tower Text"/>
              </a:rPr>
              <a:t>gazing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on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I am the </a:t>
            </a:r>
            <a:r>
              <a:rPr b="1" lang="en-GB" sz="2800" spc="-1" strike="noStrike">
                <a:solidFill>
                  <a:srgbClr val="ffffff"/>
                </a:solidFill>
                <a:latin typeface="High Tower Text"/>
              </a:rPr>
              <a:t>hounded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slav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I </a:t>
            </a:r>
            <a:r>
              <a:rPr b="1" lang="en-GB" sz="2800" spc="-1" strike="noStrike">
                <a:solidFill>
                  <a:srgbClr val="ffffff"/>
                </a:solidFill>
                <a:latin typeface="High Tower Text"/>
              </a:rPr>
              <a:t>wince at the bite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of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dogs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I am the </a:t>
            </a:r>
            <a:r>
              <a:rPr b="1" lang="en-GB" sz="2800" spc="-1" strike="noStrike">
                <a:solidFill>
                  <a:srgbClr val="ffffff"/>
                </a:solidFill>
                <a:latin typeface="High Tower Text"/>
              </a:rPr>
              <a:t>mash’d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fireman with breast-bone broken...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(...) “I celebrate myself, and sing myself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And what I assume you shall assum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For every atom belonging to me as good belongs to you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3.(…)  “My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ties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and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ballasts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leave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skirt 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sierras, my palms cover conti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am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afoot 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with my vision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4:27:49Z</dcterms:created>
  <dc:creator>Hilda</dc:creator>
  <dc:description/>
  <dc:language>en-US</dc:language>
  <cp:lastModifiedBy>*</cp:lastModifiedBy>
  <dcterms:modified xsi:type="dcterms:W3CDTF">2013-11-03T17:40:05Z</dcterms:modified>
  <cp:revision>19</cp:revision>
  <dc:subject/>
  <dc:title>Jose Marti and the rise of the  industrial age in the USA</dc:title>
</cp:coreProperties>
</file>