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5D8-2376-4C53-9E47-4A6F67C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07F-F898-42BA-AF13-91D1CDE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780-6A30-497D-B2B0-6D964A6E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BFB-998F-47AA-A613-EB25931F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4F27-E1A8-4F50-935F-ACA82883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591-AA9E-4A89-A573-65034474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ED22-C537-4EBB-B0AC-F0AE43C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E6F7-2D0C-4CEE-898F-145F1F6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5A6-3B81-4BB2-B29F-F7010A1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723-DDEC-420C-A10E-7360ED72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E553-0475-42D6-B553-FFD423C8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E64-02F0-4F65-92A8-C498CBD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574A-099C-40E0-AEE2-FCBDB78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5458-4B0F-46A7-A2EB-1872500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AD4-3BBF-4537-8D6F-2892B2C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7EF-5E8F-4998-A24E-5CB71DF1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F4B1-F641-4C07-B4FB-935B07DF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C24-38B4-41F5-86E1-F8EC376E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ABB-1D16-4D64-A40F-7568D5B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7F0-80D3-4621-A238-A6E72C18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56E-7FF1-42A1-9EEC-424B72B3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5EE-6D07-4941-966C-7A784DD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104-0115-4987-A7D0-1EF6D7D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1CD-1C86-4624-973C-DE33B81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227-4CE7-4C45-817A-F7364C3C2F8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DD7E-CA39-4584-860A-4571669377E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American Revolution (1776-1781)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Ph.D. Hilda Torres Beltrán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askerville Old Face"/>
              </a:rPr>
              <a:t>Declaration of Independence</a:t>
            </a:r>
            <a:r>
              <a:rPr b="1" lang="en-US" sz="3200" spc="-1" strike="noStrike">
                <a:solidFill>
                  <a:srgbClr val="ffffff"/>
                </a:solidFill>
                <a:latin typeface="Baskerville Old Face"/>
              </a:rPr>
              <a:t> ( quotatio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GB" sz="3200" spc="-1" strike="noStrike">
                <a:solidFill>
                  <a:srgbClr val="ffffff"/>
                </a:solidFill>
                <a:latin typeface="Baskerville Old Face"/>
              </a:rPr>
              <a:t>We hold these truths to be self-eviden</a:t>
            </a:r>
            <a:r>
              <a:rPr b="1" lang="en-GB" sz="3200" spc="-1" strike="noStrike">
                <a:solidFill>
                  <a:srgbClr val="ffffff"/>
                </a:solidFill>
                <a:latin typeface="Baskerville Old Face"/>
              </a:rPr>
              <a:t>t:  that </a:t>
            </a:r>
            <a:r>
              <a:rPr b="1" i="1" lang="en-GB" sz="3200" spc="-1" strike="noStrike">
                <a:solidFill>
                  <a:srgbClr val="ffffff"/>
                </a:solidFill>
                <a:latin typeface="Baskerville Old Face"/>
              </a:rPr>
              <a:t>all men are created equal, that they are endowed by their creator with certain inalienable rights: that among these are life, liberty and the pursuit of happines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orge  Washington                Thomas  Jefferson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940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nlightenment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18th-century American Enlighte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as a movement marked by an emphasi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tionality rather than tradition, scient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quiry instead of unquestioning relig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gma, and representative governmen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f monarchy. Enlightenment thinkers and 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ere devoted to the ideals of justice, liberty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quality as the natural rights of 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verb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om Poor Richard Alman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914400" y="1549080"/>
            <a:ext cx="707724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“A  word to th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enoug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“Early to bed, and  early t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makes a 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lthy, wealthy, and  wis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“Diligence is  the Mother of Goo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uc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. “What maintains one  vice, woul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ing u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wo Childr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. “A  littl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gl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breed grea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schief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‘Bew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littl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en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a smal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a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n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great ship.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match the English and Spanish equivalents of  some of these proverbs.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42880" y="2284920"/>
            <a:ext cx="700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A. “Quilito a quilito se llega a un pes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. </a:t>
            </a: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“La suerte es loca y a cualquiera le toc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C. “A quien madruga,  Dios lo ayud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D. “El vicio crece como la mala hierba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E.  “Los errores cuestan car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F. “A buen entendedor, pocas palabras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“A  word to th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i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enough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. “A buen entendedor, pocas palabras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“Early to bed, and  early to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i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makes a man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lthy, wealthy, and  wis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. “A quien madruga,  Dios lo ayuda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“Diligence is  the Mother of Good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u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. “What maintains one  vice, would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ring u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wo Childre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. “El vicio crece como la mala hierba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. “A  littl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gle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breed great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schief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ffffff"/>
              </a:buClr>
              <a:buSzPct val="90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errores cuestan caro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‘Bewa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littl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ens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a small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ak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nk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great ship.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. “Quilito a quilito se llega a un pes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d equivalent /opposite proverbs  in English for the following Cuban proverb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unión está la fuerza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hechos valen más que las palabra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ien siembra viento recoge tempestades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migos no están sólo para reír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nca es tarde para aprender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unión está la fuerz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y hands make light work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ed we stand, divided we fal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hechos valen más que las palabra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tions speak louder than word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en siembra viento recoge tempestad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  you make your bed, so you   must li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amigos no están sólo para reírs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friend in need is a friend indee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nca es tarde para aprende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never too late to lear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ignificance of  some events for the American culture and tra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English  vocabulary, related to the social sciences, specifically  to US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ademic discourse : The work with famous quotations and the use of summaries and of cause and effect i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o-economic set up of the USA in the 18th century:  Causes of the American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racterization of the Revolution. Its Signific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njamin Franklyn: a man of hi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lly correct 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30040" y="1371600"/>
            <a:ext cx="846936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 of new terms that  avoid traditionally discrimin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nguage practices .(i.e. racist, sexist terms )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nori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 Native Americans, Afro Americans , Hispan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Latinos, Asian America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ople with disabilities: 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tally or  physically challen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oks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weight , slim/slender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senior citiz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are the colonization of the 13 colonies of North America with the colonization of C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447920"/>
          <a:ext cx="8229600" cy="5295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lon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ing pow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of coloniz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colon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-economic system of coloniz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dal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holic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of native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oc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14400"/>
          <a:ext cx="8229600" cy="581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lon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ing pow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colon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-economic system of coloniz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dal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holic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ita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of native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oc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ocide and displacemen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ll in the blanks to complete this sentence. But first,  read the phrases below to determine which is the cause and which is the eff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ue to/ Because of 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ca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________________________ of the Metropol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colonists 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eff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d to struggle/fight  for 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cial, political, and economic abuses/restr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cause of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social, political, and economic abuses/restric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of the Metropolis, the colonists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d to struggle/fight  for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e to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social, political, and economic abuses/restric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the Metropolis, the colonists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d to struggle/fight  for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50:50Z</dcterms:created>
  <dc:creator>Hilda</dc:creator>
  <dc:description/>
  <dc:language>en-US</dc:language>
  <cp:lastModifiedBy>*</cp:lastModifiedBy>
  <dcterms:modified xsi:type="dcterms:W3CDTF">2013-11-03T17:40:37Z</dcterms:modified>
  <cp:revision>32</cp:revision>
  <dc:subject/>
  <dc:title>The American Revolution (1716-1783)</dc:title>
</cp:coreProperties>
</file>