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642A-758D-45E1-B64D-E72A9C7CC72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D0A0-78A0-4F13-9E8D-26F61D2BFA15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E8D-C20F-4DB6-A07D-6EAA1596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B11-7CC2-48B2-A78F-7044027A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929-EC3B-4926-A7EA-A55B520A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B06-B447-4F34-ADB5-72FB1CFC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59A1-D5BC-4CE4-B25B-18CD72A5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2F7A-9D12-4216-BED4-E1858973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129D-E497-456E-9198-D378B299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A86D-0876-4095-8689-74ECB99E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7C15-05DA-4CA4-A87D-EAEC5000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C676-5351-46E0-987E-567B5BFF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87A0-A48C-4DC9-AFA8-43627180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A29-038E-4D2A-A116-C455CD9F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F0A2-8D75-40DC-BCDB-4E00FF01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0A06-B296-45F2-AE1D-723DA12B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7C39-8087-4975-BAE2-5450D407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7715-3159-42EE-968C-4194A166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ECB0-F393-4E18-9071-CBB73CA7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9B99-5B25-4E36-9D00-9D69061C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D5F-349B-4AF7-8070-94D9766F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A1F0-C432-4513-8DEE-8E76E217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7E2-16AB-4BC9-9EF0-A0A179DB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A366-8C4A-4D8E-9550-5501E3DC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A06C-2996-4BDF-A61A-B03FC44F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8C8-546E-46B8-82B6-492C3221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0109-EC24-4CC7-9CF1-46BCAAF7E862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FBB8-E8B3-4740-A528-B9C032DAC60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THE CULTURE OF THE ENGLISH-SPEAKING PEO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THE UNITED KINGDO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Prof. Ida María Ayala Rodríguez, Ph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alibri"/>
              </a:rPr>
              <a:t>Shakespeare’s Great Traged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42960" y="1928520"/>
            <a:ext cx="78580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Hamlet, Prince of Denmark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Macbeth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Othello, the Moor of Venic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King Lea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Romeo and Julie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Comedi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785520" y="1285560"/>
            <a:ext cx="76438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Calibri"/>
              </a:rPr>
              <a:t>The Comedy of Errors –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Calibri"/>
              </a:rPr>
              <a:t>La Comedia de Error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Calibri"/>
              </a:rPr>
              <a:t>The Taming of the Shrew –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Calibri"/>
              </a:rPr>
              <a:t>La fierecilla domada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s-ES" sz="2200" spc="-1" strike="noStrike">
                <a:solidFill>
                  <a:srgbClr val="ffffff"/>
                </a:solidFill>
                <a:latin typeface="Calibri"/>
              </a:rPr>
              <a:t>Two Gentlemen of Verona –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00"/>
                </a:solidFill>
                <a:latin typeface="Calibri"/>
              </a:rPr>
              <a:t>Los dos hidalgos de Veron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es-ES" sz="2200" spc="-1" strike="noStrike">
                <a:solidFill>
                  <a:srgbClr val="ffffff"/>
                </a:solidFill>
                <a:latin typeface="Calibri"/>
              </a:rPr>
              <a:t>Love’s Labor’s Lost –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s-ES" sz="2200" spc="-1" strike="noStrike">
                <a:solidFill>
                  <a:srgbClr val="ffff00"/>
                </a:solidFill>
                <a:latin typeface="Calibri"/>
              </a:rPr>
              <a:t>Trabajos de Amor perdidos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es-ES" sz="2200" spc="-1" strike="noStrike">
                <a:solidFill>
                  <a:srgbClr val="ffffff"/>
                </a:solidFill>
                <a:latin typeface="Calibri"/>
              </a:rPr>
              <a:t>Midsummer Night’s Dream –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s-ES" sz="2200" spc="-1" strike="noStrike">
                <a:solidFill>
                  <a:srgbClr val="ffff00"/>
                </a:solidFill>
                <a:latin typeface="Calibri"/>
              </a:rPr>
              <a:t>Sueño de una noche de verano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Calibri"/>
              </a:rPr>
              <a:t>The Merchant of Venice -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Calibri"/>
              </a:rPr>
              <a:t>El Mercader de Veneci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Comedi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71320" y="1356840"/>
            <a:ext cx="80722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Calibri"/>
              </a:rPr>
              <a:t>Much Ado About Nothing –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00"/>
                </a:solidFill>
                <a:latin typeface="Calibri"/>
              </a:rPr>
              <a:t>Mucho ruido y pocas nuec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Calibri"/>
              </a:rPr>
              <a:t>As You Like It –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00"/>
                </a:solidFill>
                <a:latin typeface="Calibri"/>
              </a:rPr>
              <a:t>Como gustes (Como </a:t>
            </a:r>
            <a:r>
              <a:rPr b="0" i="1" lang="es-ES" sz="2200" spc="-1" strike="noStrike">
                <a:solidFill>
                  <a:srgbClr val="ffff00"/>
                </a:solidFill>
                <a:latin typeface="Calibri"/>
              </a:rPr>
              <a:t>gustéi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s-ES" sz="2200" spc="-1" strike="noStrike">
                <a:solidFill>
                  <a:srgbClr val="ffffff"/>
                </a:solidFill>
                <a:latin typeface="Calibri"/>
              </a:rPr>
              <a:t>Twelfth Night –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00"/>
                </a:solidFill>
                <a:latin typeface="Calibri"/>
              </a:rPr>
              <a:t>La duodécima noche, o La noche de epifanía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Calibri"/>
              </a:rPr>
              <a:t>The Merry Wives of Windsor –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00"/>
                </a:solidFill>
                <a:latin typeface="Calibri"/>
              </a:rPr>
              <a:t>Las alegres Comadres de Windsor, Las Alegres   casadas de Winds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Calibri"/>
              </a:rPr>
              <a:t>All’s Well that Ends Well –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00"/>
                </a:solidFill>
                <a:latin typeface="Calibri"/>
              </a:rPr>
              <a:t>Lo que bien empieza, bien acaba, o A buen final no </a:t>
            </a:r>
            <a:r>
              <a:rPr b="0" i="1" lang="en-US" sz="2200" spc="-1" strike="noStrike">
                <a:solidFill>
                  <a:srgbClr val="ffff00"/>
                </a:solidFill>
                <a:latin typeface="Calibri"/>
              </a:rPr>
              <a:t> hay mal principio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Calibri"/>
              </a:rPr>
              <a:t>Measure for Measure –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00"/>
                </a:solidFill>
                <a:latin typeface="Calibri"/>
              </a:rPr>
              <a:t>Medida por medid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Tragicomedi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71680" y="1785960"/>
            <a:ext cx="76435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Pericl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Cymbelin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 Winter’s Tal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The Tempes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cerpt from Sonnet XVII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28440" y="1999800"/>
            <a:ext cx="742932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ll I compare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the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o a summer’s da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Thou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rt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lovely and more temperat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ugh winds do shake the darling buds of May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summer’s lease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a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ll too short a dat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t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thy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ternal summer shall not fade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071360" y="928440"/>
            <a:ext cx="71434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ou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personal pronoun, You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e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a form of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thou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used as a the object of a verb or preposi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- the second person singular possess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person singular of verb to b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a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person singular for the verb to ha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alibri"/>
              </a:rPr>
              <a:t>temperate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– warm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alibri"/>
              </a:rPr>
              <a:t>bud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– unopened flower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alibri"/>
              </a:rPr>
              <a:t>lease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– a period of time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05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57160" y="1714320"/>
            <a:ext cx="75009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protagoni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main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character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– the most important character in a novel, play, story or other work of fic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Monologu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– a speech uttered by one speaker, either to others or as if alone; in a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soliloqu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he speaker is supposed to be overheard while al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071360" y="2214360"/>
            <a:ext cx="714348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speake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– the person who speaks in the poem does not necessarily have to be the poet. It is called the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peake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an unknown person who speaks in the poem. It can be a woman, a man, a child, an objec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Figures of speech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28800" y="2000160"/>
            <a:ext cx="72864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Alliteration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-  The use of the same sound or sounds, especially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consonants,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at the beginning of several words that are close together. 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xamples: </a:t>
            </a: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te </a:t>
            </a: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ts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und of </a:t>
            </a: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lence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y a </a:t>
            </a: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And </a:t>
            </a:r>
            <a:r>
              <a:rPr b="0" lang="es-ES" sz="3000" spc="-1" strike="noStrike">
                <a:solidFill>
                  <a:srgbClr val="ffff00"/>
                </a:solidFill>
                <a:latin typeface="Calibri"/>
              </a:rPr>
              <a:t>l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ive a</a:t>
            </a:r>
            <a:r>
              <a:rPr b="0" lang="es-ES" sz="3000" spc="-1" strike="noStrike">
                <a:solidFill>
                  <a:srgbClr val="ffff00"/>
                </a:solidFill>
                <a:latin typeface="Calibri"/>
              </a:rPr>
              <a:t>l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one in the bee-</a:t>
            </a:r>
            <a:r>
              <a:rPr b="0" lang="es-ES" sz="3000" spc="-1" strike="noStrike">
                <a:solidFill>
                  <a:srgbClr val="ffff00"/>
                </a:solidFill>
                <a:latin typeface="Calibri"/>
              </a:rPr>
              <a:t>l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oud g</a:t>
            </a:r>
            <a:r>
              <a:rPr b="0" lang="es-ES" sz="3000" spc="-1" strike="noStrike">
                <a:solidFill>
                  <a:srgbClr val="ffff00"/>
                </a:solidFill>
                <a:latin typeface="Calibri"/>
              </a:rPr>
              <a:t>l</a:t>
            </a: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a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Figures of speech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1714680"/>
            <a:ext cx="640080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Calibri"/>
              </a:rPr>
              <a:t>Imagery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– is the use of vivid figurative language to represent objects, actions, or idea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Calibri"/>
              </a:rPr>
              <a:t>Metaphors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-an expression which describes a person or object by referring to something that is considered to have similar characteristics</a:t>
            </a:r>
            <a:r>
              <a:rPr b="0" i="1" lang="en-US" sz="27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Calibri"/>
              </a:rPr>
              <a:t>'The mind is an ocean',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700" spc="-1" strike="noStrike">
                <a:solidFill>
                  <a:srgbClr val="ffffff"/>
                </a:solidFill>
                <a:latin typeface="Calibri"/>
              </a:rPr>
              <a:t>'the city is a jungle', ‘you are my sunshine’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he United Kingdo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142920" y="428760"/>
            <a:ext cx="8839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Figures of speech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071800"/>
            <a:ext cx="6400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Simil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- an expression comparing two unlike things, always including the words `as' or `like'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'She walks in beauty, like the night...'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I wandered lonely as a cloud’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285920" y="2143080"/>
            <a:ext cx="6400800" cy="37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Out, out brief candle!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Life’s but a walking shadow, a poor player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at struts and frets his hour upon the stage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And then is heard no more. It is a tale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old by an idiot, full of sound and fury,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gnifying nothing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42960" y="571320"/>
            <a:ext cx="712944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untries where English is spoke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nited Kingdom (England, Scotland, Ireland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nited States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nada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ustralia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ew Zealand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outh Afric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Zimbabw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Jamaica, Barbados, St. Lucia, Trinidad and Tobago, and other Caribbean countries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</a:rPr>
              <a:t>Indo-European languag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8400" y="1285920"/>
            <a:ext cx="80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lbania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rmenia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alti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elt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ermanic – 1. West Germanic – Gothic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. North Germanic – Icelandic, Norwegian, Faroese, Danish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wedish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. East Germanic - English, Frisian, Dutch, Flemish, Low German, High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erman, Afrikaans, Yiddish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reek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lavic – Bulgarian, Russian, Polis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ndo-Irania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talic – Romance languag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mic Sans MS"/>
              </a:rPr>
              <a:t>Groups that inhabited the British </a:t>
            </a:r>
            <a:r>
              <a:rPr b="0" lang="es-ES" sz="4000" spc="-1" strike="noStrike">
                <a:solidFill>
                  <a:srgbClr val="ffffff"/>
                </a:solidFill>
                <a:latin typeface="Calibri"/>
              </a:rPr>
              <a:t>Islan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71320" y="1785960"/>
            <a:ext cx="81435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Celts – </a:t>
            </a:r>
            <a:r>
              <a:rPr b="0" i="1" lang="es-ES" sz="3200" spc="-1" strike="noStrike">
                <a:solidFill>
                  <a:srgbClr val="ffffff"/>
                </a:solidFill>
                <a:latin typeface="Comic Sans MS"/>
              </a:rPr>
              <a:t>law, feet, geese, m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Romans – </a:t>
            </a:r>
            <a:r>
              <a:rPr b="0" i="1" lang="es-ES" sz="3200" spc="-1" strike="noStrike">
                <a:solidFill>
                  <a:srgbClr val="ffffff"/>
                </a:solidFill>
                <a:latin typeface="Comic Sans MS"/>
              </a:rPr>
              <a:t>priest, altar, psal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Angles, Jutes Saxons  -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verb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o b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u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both, egg, sk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Normans - armor, court, amour, baron, noble, count, prince, duke ; pig – pork; cow – bee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ill in the blanks with the correct form of the following verbs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ecome – write – marry – be born – call – be staged- be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79297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lliam Shakespeare  ________on April 23, 1564, in Stratford-Upon- Avon. He _____________ and from the marriage three children________________. He _____________ an actor and shareholder in the Company The Chamberlain’s Men, later __________ King’s Men. He _________ plays, comedies, and poetr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s plays  ___________ in the most important theatre in London, The Globe. He ___________ one of the greatest playwrights and poets of the English language and of world literatu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Playwrigh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Shareholder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71720" y="499680"/>
            <a:ext cx="6207120" cy="42274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2"/>
          <a:stretch/>
        </p:blipFill>
        <p:spPr>
          <a:xfrm>
            <a:off x="1928880" y="1285920"/>
            <a:ext cx="44575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0040" y="857160"/>
            <a:ext cx="82152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illiam Shakespeare </a:t>
            </a: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was born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n April 23, 1565, in Stratford-Upon- Avon. He </a:t>
            </a: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married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d three children </a:t>
            </a: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were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born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. He </a:t>
            </a: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became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an actor in the company The Chamberlain’s Men, later </a:t>
            </a: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called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King’s Men. H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rote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plays (tragedies, comedies tragicomedies) and poetry. His plays </a:t>
            </a: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were staged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 the most important theatre in London, The Globe. He </a:t>
            </a: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is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one of the greatest playwrights and poets of the English language and of world literatur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Calibri"/>
              </a:rPr>
              <a:t>Playwright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– dramatis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Calibri"/>
              </a:rPr>
              <a:t>Shareholder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– one who owns shares of a company’s stock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William Shakespeare (1564-1616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42960" y="1928880"/>
            <a:ext cx="7858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istorical Tragedie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Henry VI, Richard III, Titus Andronicus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Henry IV (I and  II parts), Henry V, Richard II, Julius Caesar, Anthony and Cleopatra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Troilus  and Cressida, Coriolanus, Timon of Athens, Henry III, Henry 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23:16:13Z</dcterms:created>
  <dc:creator>IDA</dc:creator>
  <dc:description/>
  <dc:language>en-US</dc:language>
  <cp:lastModifiedBy>*</cp:lastModifiedBy>
  <dcterms:modified xsi:type="dcterms:W3CDTF">2013-11-03T17:41:21Z</dcterms:modified>
  <cp:revision>60</cp:revision>
  <dc:subject/>
  <dc:title>The United Kingdom </dc:title>
</cp:coreProperties>
</file>