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D645E-AA18-427A-BCA1-EA70E226D6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A305F-A8C8-4568-BFEC-522075116AD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8AD4-1406-49A2-BCAE-32BE4314A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CFBD-867F-4576-96B3-F1331C700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1FEF-A931-468C-9153-14363156C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2665-D5F2-420A-A88B-54FF80923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2DFE9-0A08-442E-BF74-1C45B73E7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8B08F-368F-4060-A6A0-34AEF882D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1D5E0-4954-420F-BB43-5ABFFEED0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FBB31-7F25-4BBF-A0B2-E16A2D68F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7D4F7-6D30-4468-B8A4-79394494A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152DB-050E-4758-B0B3-58B44FA8E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08AEA-5F33-4714-AEB9-16AD0C87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7F31-DD90-4B96-8C76-554011FFA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AA4CD-91C3-44CF-BA55-65D379CE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9D14E-D801-4036-A7D9-5B9ACC5E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537E2-248A-4BF3-B55A-D238A5E56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D1CA4-4EA9-4416-865A-851AF24A3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271E7-633F-409B-BD91-1CF37901A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1472-559E-45D7-A1D9-B0BA2F320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A655-1122-4EAC-BFF3-D44A2B718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CA9D-34B1-4862-820C-37CF0A7DD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0F14-866D-4725-970F-EA85B4BE9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8958-ED4E-41FA-B4FA-141A2F114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D7BB-4B6A-4A84-A22B-669A1026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7662-89D8-44E7-A97C-9E990E6C9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06578-37DE-4C96-AA14-2A6B7ABC2594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4C0B3-1348-4ED8-9307-C9AAD7883F58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English for Science and Technolog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042560" y="3860280"/>
            <a:ext cx="72327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ffffff"/>
                </a:solidFill>
                <a:latin typeface="Arial"/>
              </a:rPr>
              <a:t>Prof. Isora Enríquez O´Farrill PH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250560" y="549000"/>
            <a:ext cx="828036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3600" spc="-1" strike="noStrike">
                <a:solidFill>
                  <a:srgbClr val="ffff00"/>
                </a:solidFill>
                <a:latin typeface="Arial"/>
              </a:rPr>
              <a:t>Decomposition</a:t>
            </a: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 ≈ Descomposició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3600" spc="-1" strike="noStrike">
                <a:solidFill>
                  <a:srgbClr val="ffff00"/>
                </a:solidFill>
                <a:latin typeface="Arial"/>
              </a:rPr>
              <a:t>Decontamination</a:t>
            </a: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 ≈ Descontaminació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3600" spc="-1" strike="noStrike">
                <a:solidFill>
                  <a:srgbClr val="ffff00"/>
                </a:solidFill>
                <a:latin typeface="Arial"/>
              </a:rPr>
              <a:t>Deforestation</a:t>
            </a: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 ≈ Desforestació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3600" spc="-1" strike="noStrike">
                <a:solidFill>
                  <a:srgbClr val="ffff00"/>
                </a:solidFill>
                <a:latin typeface="Arial"/>
              </a:rPr>
              <a:t>Degradation</a:t>
            </a: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 ≈ Degradació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3600" spc="-1" strike="noStrike">
                <a:solidFill>
                  <a:srgbClr val="ffff00"/>
                </a:solidFill>
                <a:latin typeface="Arial"/>
              </a:rPr>
              <a:t>Deposition</a:t>
            </a: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 ≈ Deposició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3600" spc="-1" strike="noStrike">
                <a:solidFill>
                  <a:srgbClr val="ffff00"/>
                </a:solidFill>
                <a:latin typeface="Arial"/>
              </a:rPr>
              <a:t>Desalinization</a:t>
            </a: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≈ Desalinizació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s-ES" sz="3600" spc="-1" strike="noStrike">
                <a:solidFill>
                  <a:srgbClr val="ffff00"/>
                </a:solidFill>
                <a:latin typeface="Arial"/>
              </a:rPr>
              <a:t>Displacement</a:t>
            </a: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 ≈  Desplazamient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3600" spc="-1" strike="noStrike">
                <a:solidFill>
                  <a:srgbClr val="ffff00"/>
                </a:solidFill>
                <a:latin typeface="Arial"/>
              </a:rPr>
              <a:t>Disposables</a:t>
            </a: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 ≈Desechable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250560" y="-360"/>
            <a:ext cx="889308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"/>
              </a:rPr>
              <a:t>Ecological Balance</a:t>
            </a: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 ≈ Equilibrio Ecológic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"/>
              </a:rPr>
              <a:t>Ecological Criteria</a:t>
            </a: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 ≈ Criterios Ecológic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"/>
              </a:rPr>
              <a:t>Ecological Emergency</a:t>
            </a: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 ≈ Emergenc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Ecológic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"/>
              </a:rPr>
              <a:t>Ecological Imbalance</a:t>
            </a: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 ≈ Desequilibri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Ecológic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"/>
              </a:rPr>
              <a:t>Ecological Regulation</a:t>
            </a: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 ≈Ordenamient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Ecológic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"/>
              </a:rPr>
              <a:t>Ecology</a:t>
            </a: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  ≈ Ecologí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7854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Arial"/>
              </a:rPr>
              <a:t>Ecosystem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 ≈ Ecosiste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Arial"/>
              </a:rPr>
              <a:t>Emission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 ≈ Emisió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Arial"/>
              </a:rPr>
              <a:t>Endangered Species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 ≈ Especies en peligro de   extinción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Arial"/>
              </a:rPr>
              <a:t>Energy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 ≈ Energí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Arial"/>
              </a:rPr>
              <a:t>Environment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 ≈  Medio Ambien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Arial"/>
              </a:rPr>
              <a:t>Environmental  pollution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 ≈ Contaminación ambient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language  used when referring to the scientific activit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4"/>
          <p:cNvSpPr/>
          <p:nvPr/>
        </p:nvSpPr>
        <p:spPr>
          <a:xfrm>
            <a:off x="611280" y="47628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CKNOWLEDGEMENT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539640" y="1773360"/>
            <a:ext cx="8209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ur gratitude and thanks to the INCOMEX, the Foreign Trade Institute, staff and students, especially to Professors Jorge Luis Yong and Adonis Romer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Arial"/>
              </a:rPr>
              <a:t>Aim of the less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lesson looks at some of the language  which can be useful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ffffff"/>
                </a:solidFill>
                <a:latin typeface="Arial"/>
              </a:rPr>
              <a:t>to refer to the scientific activ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ffffff"/>
                </a:solidFill>
                <a:latin typeface="Arial"/>
              </a:rPr>
              <a:t>in situations related to environ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ffffff"/>
                </a:solidFill>
                <a:latin typeface="Arial"/>
              </a:rPr>
              <a:t>Useful languag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multidisciplinary </a:t>
            </a: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group of  researchers from the National Research  Center  are </a:t>
            </a: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conducting an experiment</a:t>
            </a: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 under the leadership of an </a:t>
            </a: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outstanding </a:t>
            </a: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scientist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ffffff"/>
                </a:solidFill>
                <a:latin typeface="Arial"/>
              </a:rPr>
              <a:t>Useful languag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They</a:t>
            </a: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 are interested in finding </a:t>
            </a: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a solution to an</a:t>
            </a: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 acute  </a:t>
            </a: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health problem- VIH-Aid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856800"/>
            <a:ext cx="8229600" cy="52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efinit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.- the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oncept or term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be defined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b.-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the class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which the concept belongs to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.-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the characteristics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at make it different from other members of the same clas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362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6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5400" spc="-1" strike="noStrike">
                <a:solidFill>
                  <a:srgbClr val="ffff00"/>
                </a:solidFill>
                <a:latin typeface="Arial"/>
              </a:rPr>
              <a:t>Biosphere:</a:t>
            </a:r>
            <a:r>
              <a:rPr b="0" lang="es-ES" sz="5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5400" spc="-1" strike="noStrike" u="sng">
                <a:solidFill>
                  <a:srgbClr val="ffffff"/>
                </a:solidFill>
                <a:uFillTx/>
                <a:latin typeface="Arial"/>
              </a:rPr>
              <a:t>The portion of the planet</a:t>
            </a:r>
            <a:r>
              <a:rPr b="0" lang="es-ES" sz="5400" spc="-1" strike="noStrike">
                <a:solidFill>
                  <a:srgbClr val="ffffff"/>
                </a:solidFill>
                <a:latin typeface="Arial"/>
              </a:rPr>
              <a:t> that </a:t>
            </a:r>
            <a:r>
              <a:rPr b="0" lang="es-ES" sz="5400" spc="-1" strike="noStrike" u="sng">
                <a:solidFill>
                  <a:srgbClr val="ffffff"/>
                </a:solidFill>
                <a:uFillTx/>
                <a:latin typeface="Arial"/>
              </a:rPr>
              <a:t>supports life and the living organisms within it</a:t>
            </a:r>
            <a:r>
              <a:rPr b="0" lang="es-ES" sz="5400" spc="-1" strike="noStrike">
                <a:solidFill>
                  <a:srgbClr val="ffffff"/>
                </a:solidFill>
                <a:latin typeface="Arial"/>
              </a:rPr>
              <a:t>. </a:t>
            </a: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Useful vocabular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9280" y="1125360"/>
            <a:ext cx="8280360" cy="4896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"/>
              </a:rPr>
              <a:t>Acid rain</a:t>
            </a: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 ≈ Lluvia  ácid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"/>
              </a:rPr>
              <a:t>Air pollutant</a:t>
            </a: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 ≈ Contaminante del ai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"/>
              </a:rPr>
              <a:t>Alternate fuels</a:t>
            </a: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 ≈ Combustibles altern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"/>
              </a:rPr>
              <a:t>Annual change</a:t>
            </a: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 ≈ Cambio anu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"/>
              </a:rPr>
              <a:t>Area coverage</a:t>
            </a: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  ≈ Área de superfici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Useful vocabular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83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Arial"/>
              </a:rPr>
              <a:t>Bedrock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 ≈ Lecho de roc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Arial"/>
              </a:rPr>
              <a:t>Biodegradable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 ≈ Biodegradab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Arial"/>
              </a:rPr>
              <a:t>Biodiversity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 ≈ Biodiversida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s-ES" sz="4000" spc="-1" strike="noStrike">
                <a:solidFill>
                  <a:srgbClr val="ffff00"/>
                </a:solidFill>
                <a:latin typeface="Arial"/>
              </a:rPr>
              <a:t>iofuel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 ≈ Combustible biológic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Arial"/>
              </a:rPr>
              <a:t>Biomass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 ≈ Biomas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24000" y="-360"/>
            <a:ext cx="8820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"/>
              </a:rPr>
              <a:t>Clean Fuels</a:t>
            </a: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 ≈ Combustibles Limpi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"/>
              </a:rPr>
              <a:t>Climatic change</a:t>
            </a: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 ≈ Cambio climátic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"/>
              </a:rPr>
              <a:t>Collection</a:t>
            </a: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 ≈ Recopilació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"/>
              </a:rPr>
              <a:t>Compost</a:t>
            </a: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 ≈  Abon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"/>
              </a:rPr>
              <a:t>Container</a:t>
            </a: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 ≈ Contene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"/>
              </a:rPr>
              <a:t>Cycle</a:t>
            </a: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 ≈ Cicl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4T12:50:24Z</dcterms:created>
  <dc:creator>Garbey</dc:creator>
  <dc:description/>
  <dc:language>en-US</dc:language>
  <cp:lastModifiedBy>*</cp:lastModifiedBy>
  <dcterms:modified xsi:type="dcterms:W3CDTF">2013-11-03T17:45:34Z</dcterms:modified>
  <cp:revision>125</cp:revision>
  <dc:subject/>
  <dc:title>Negotiating a deal</dc:title>
</cp:coreProperties>
</file>