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296-426E-4D6C-A169-113CA058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5CC-3802-4CC3-A106-05B7EC81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410-7F7A-49D6-A29C-07E9BA15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F58-93D2-4AC1-B4F4-BEFF38BF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F639-251B-44AB-88A0-3CC42336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4DA2-8579-4B15-AC43-C86B8A33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7B16-8C4A-447D-8973-5FED7084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981C-9E17-4519-966B-9CCF7561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A95C-4497-4F0D-8872-30FA3156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C7FD-03F2-4F76-B2FB-9749B5D4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D9B8-F0FD-437D-A972-2DA40535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AAD-1815-4729-B581-834AA19C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0833-3D5B-4C08-AFB8-9FDDC26B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754D-C6B2-4287-9432-DC6A7CD0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1A52-E68D-4E1A-A4DD-432A3A82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E661-ED68-4B3F-9ADA-DA927ED7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D7DE-2128-4CBE-A19D-F97BF977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495-D87D-4836-A49C-807BAE17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69D-3A5D-4AE9-9077-87B64A97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2B7-C968-47A8-B11E-DF4A21B0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6B6-7DA0-4099-B6E9-58C6FC72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8A1-6EED-4FC7-BD86-33389B64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E6C-DCCB-4C14-8704-9100470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B5E-7F93-445F-8146-A0966EE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D336-1D03-4A9F-BB75-F29A046767D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88C0-3964-432F-AE15-276A68644C3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en.wikipedia.org/wiki/Instrumental_temperature_record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vironmental English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2560" y="3860280"/>
            <a:ext cx="723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Prof. Isora Enríquez O´Farrill Ph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se of prefix RE- meaning  again as i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create, reuse, recount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not always, see the following examples.</a:t>
            </a: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3270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habilitation, Reforestation, Releas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trieval, Recyc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4232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you know the meaning of these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40720" cy="5661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triev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sk 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tag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rban Runo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tl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ild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4232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you know the meaning of these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40720" cy="5661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ease ≈  Emis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trieval ≈  Recuperación; repar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sk Assessment ≈  Estudio de Ries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tagnation ≈ Estanca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rget ≈  Objetivo, Señ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rban Runoff ≈ Escurrimientos Urban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tlands ≈  Humed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ildlif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 ≈  Fauna Silves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r. Stewart refers t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mate Chan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_ Global War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_  Pollution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CLOSE U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424720" cy="539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 would </a:t>
            </a: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be delighted to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mate Change is an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long-term chang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bal Warming refers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e incre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the </a:t>
            </a: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average temperatu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the Earth's near-surfac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ir and ocea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Close u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governments which have developed their societies b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eplet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natural resources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governments whic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ave never signed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Kyoto Protoco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E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GB" sz="4800" spc="-1" strike="noStrike" u="sng">
                <a:solidFill>
                  <a:srgbClr val="ffffff"/>
                </a:solidFill>
                <a:uFillTx/>
                <a:latin typeface="Arial"/>
              </a:rPr>
              <a:t>lies ahead for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our planet?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nguage  used when referring to the scientific activ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ful vocabular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497800" cy="583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alinity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lid Waste 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pecies 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tagnation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ustainable Development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ustained Development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ful vocabular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497800" cy="583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Stagnation ≈  Acumulación, estanca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ful vocabular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25280"/>
            <a:ext cx="8389800" cy="583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Target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Technology Transfer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Threatened Species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Toxic Pollution 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Treatment Plant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im of the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lesson looks at some of the language  which can be usefu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efer to the scientific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ituations related to environ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ful vocabular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4560" y="836280"/>
            <a:ext cx="8390160" cy="583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Target ≈  Objetivo, Señ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ful vocabular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312920"/>
            <a:ext cx="8424720" cy="5284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Urban Runoff 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Waste Reduction 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Wastewater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Wetlands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Wildlife 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Zoning 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ful vocabular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312920"/>
            <a:ext cx="8424720" cy="5284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Urban Runoff ≈ Escurrimientos Urbano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Wetlands ≈  Humed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Wildlife ≈  Fauna Silvest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inten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uggest or give advice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explain 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give instructions___</a:t>
            </a: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49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Using information related to the dialogue above complete the sentences with the most appropriate modal verb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5950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.- Governments _________devise policies for environmental educati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.- World governments ______make major commitments to this Global Climate issu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.- Individual citizens also _______ to shift their daily hab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329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.- Fossil fuel burning and deforestation _________some of the causes of the increase of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.- People _________learn much more about ways to improve environmental issu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69080" cy="5950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.- Governments </a:t>
            </a: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must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devise policies for environmental educati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.- World governments </a:t>
            </a: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should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make major commitments to this Global Climate issu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.- Individual citizens also </a:t>
            </a: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have to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 shift their daily hab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569080" cy="43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.- Fossil fuel burning and deforestation </a:t>
            </a: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may be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some of the causes of temperature ri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.- People </a:t>
            </a: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should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earn much more about ways to improve environmental issu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ful vocabulary in contex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cyclin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≈ Is there a recycling plant near 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leas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≈  The hunters finally released the animal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triev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≈  The court ordered the retrieval of the confiscated la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k Assessm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≈  Have you made a proper risk asess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2:50:24Z</dcterms:created>
  <dc:creator>Garbey</dc:creator>
  <dc:description/>
  <dc:language>en-US</dc:language>
  <cp:lastModifiedBy>*</cp:lastModifiedBy>
  <dcterms:modified xsi:type="dcterms:W3CDTF">2013-11-03T17:46:18Z</dcterms:modified>
  <cp:revision>168</cp:revision>
  <dc:subject/>
  <dc:title>Negotiating a deal</dc:title>
</cp:coreProperties>
</file>