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A93-0E3C-4CDF-BB45-815666D8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773-C911-4344-8620-F347B036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838-666F-4C6E-B9AC-99D4D13D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CE3-5D4A-4BCA-855A-57E76B15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427-00DF-4F53-9BE0-CEDFCB1A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667-48CA-4264-A1B5-C309C944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189-C81C-4C5E-87B4-EFC9F84B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CB0-6A7E-4D89-98EC-5BE617FA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FA3-DB37-4EDC-BC4F-00B06971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DC4-2753-45D2-ABE2-CC3AE01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BFD-71F8-4BF2-AD85-5FB89645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498-F6D5-4D1F-BE74-293B963B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2D79-62F5-485A-9E33-0A4716043C1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91856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arrating a sports event and talking about recor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rof. Sergio Font Milian Ph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50560" y="549000"/>
            <a:ext cx="8569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e has trained very hard in this seas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e has shown he is the best in the worl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e has made several attempts at this height in several competitions this yea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is form is just flawle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at does the commentator s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bsolutely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wonderful /awesome/ incredible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Second /Third / Fourth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world record in a r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bsolutely </a:t>
            </a:r>
            <a:r>
              <a:rPr b="0" i="1" lang="es-ES" sz="4400" spc="-1" strike="noStrike" u="sng">
                <a:solidFill>
                  <a:srgbClr val="000000"/>
                </a:solidFill>
                <a:uFillTx/>
                <a:latin typeface="Calibri"/>
              </a:rPr>
              <a:t>wonderful</a:t>
            </a:r>
            <a:r>
              <a:rPr b="0" i="1" lang="es-ES" sz="4400" spc="-1" strike="noStrike">
                <a:solidFill>
                  <a:srgbClr val="000000"/>
                </a:solidFill>
                <a:latin typeface="Calibri"/>
              </a:rPr>
              <a:t> /awesome/ incredible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es-ES" sz="4400" spc="-1" strike="noStrike">
                <a:solidFill>
                  <a:srgbClr val="000000"/>
                </a:solidFill>
                <a:latin typeface="Calibri"/>
              </a:rPr>
              <a:t>Second /</a:t>
            </a:r>
            <a:r>
              <a:rPr b="0" i="1" lang="es-ES" sz="4400" spc="-1" strike="noStrike" u="sng">
                <a:solidFill>
                  <a:srgbClr val="000000"/>
                </a:solidFill>
                <a:uFillTx/>
                <a:latin typeface="Calibri"/>
              </a:rPr>
              <a:t>Third</a:t>
            </a:r>
            <a:r>
              <a:rPr b="0" i="1" lang="es-ES" sz="4400" spc="-1" strike="noStrike">
                <a:solidFill>
                  <a:srgbClr val="000000"/>
                </a:solidFill>
                <a:latin typeface="Calibri"/>
              </a:rPr>
              <a:t> / Fourth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orld record in a ro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menting on the performance as it is played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ere it is.  Second attempt, two meters and forty five, over eight fe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t’s his third senior world record.  The only man to go over eight fe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t - 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1 foot =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0.3048 m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6 feet =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1.8288 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6 feet 1 inch =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1.85928 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6 feet 2 inches =1.88976 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8 feet =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2.4384 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commentator talks abou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World Championships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_____ will be held in three wee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_____ was held three week a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 _____ will be held in two wee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_____ was held two weeks a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commentator talks abou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World Championships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) _____ will be held in three wee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) _____ was held three week a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)  __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 will be held in two wee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) _____ was held two weeks a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nnouncing upcoming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wo weeks to go to the World Championships and he is in the form of his lif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lin Jack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itish sprinter born in 1967.  Specialist in the 110 hurdles race in which he won two World Championships and an Olympic Bronze Medal in Seou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 set a new world record at the 1993 World Championships in Stuttgart, Germ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ments of Jackson’s rec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Jackson was the fastest ___ ___ _____ blocks, the fastest to cross the ________, the fastest to the finish _______ and the fastest of all ti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arrating a World Rec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 high jump and pole vault events in Athletics and in Weightlifting it is possible to prepare the public for the exciting moment in which the athlete will try to set a new recor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1512720" cy="241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187280" y="4092480"/>
            <a:ext cx="2808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ments of Jackson’s rec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Jackson was the fastest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Calibri"/>
              </a:rPr>
              <a:t>out of the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blocks, the fastest to cross the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Calibri"/>
              </a:rPr>
              <a:t>hurdle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, the fastest to the finish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Calibri"/>
              </a:rPr>
              <a:t>line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and the fastest of all ti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Jackson’s record was unbeatable until July 11,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Jackson won 44 races in a row between August 1993 and February 199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an you answer these 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Was Alberto Juantorena the first Cuban to ever set a world record in athletic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Who was the first Cuban to set a world record in athletic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ow many Cubans have ever set a world record in athletic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 which event have two Cubans set a world reco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ow many times did Osleidys Menéndez break the world record in the women’s javelin thr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ow many world records are currently held by a Cuban athle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as Alberto Juantorena the first Cuban to ever set a world record in athletic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, he wasn’t.  He set his first record in the 800 meter race at the Montreal Olympic Games in 1976, five years after the first record ever established by a Cub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E:\juantorena.bmp"/>
          <p:cNvPicPr/>
          <p:nvPr/>
        </p:nvPicPr>
        <p:blipFill>
          <a:blip r:embed="rId1"/>
          <a:stretch/>
        </p:blipFill>
        <p:spPr>
          <a:xfrm>
            <a:off x="4356000" y="1844640"/>
            <a:ext cx="42516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Who was the first Cuban to set a world record in athletic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t was Pedro Pérez Dueñas, in the triple jump event during the Pan American Games held in Cali, Colombia in 1971.  His record was 17.40 met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Sergio\Desktop\11%20perez%20due%C3%B1as.jpg"/>
          <p:cNvPicPr/>
          <p:nvPr/>
        </p:nvPicPr>
        <p:blipFill>
          <a:blip r:embed="rId2"/>
          <a:stretch/>
        </p:blipFill>
        <p:spPr>
          <a:xfrm>
            <a:off x="4859280" y="1268280"/>
            <a:ext cx="334332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w many Cubans have ever set a world record in athletic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 Cubans have been world record holders: Pedro Pérez Dueñas, Alberto Juantorena, Alejandro Casañas, Javier Sotomayor, Osleidys Menéndez and Dayron Ro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560" y="475920"/>
            <a:ext cx="42447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which event have two Cubans set a world rec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the 110 meters hurdles.  Alejandro Casañas set his 13.21 seconds record in 1977 while Dayron Robles set his at 12.87 seconds in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549000"/>
            <a:ext cx="4038480" cy="557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5724360" y="549360"/>
            <a:ext cx="1984680" cy="278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4911840" y="3573360"/>
            <a:ext cx="36097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ow many times did Osleidys Menéndez break the world record in women’s javelin thr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e did it twice: in 2001 and 2005.   She currently holds the Olympic record at 71.53 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Sergio\Desktop\1286902187_0.jpg"/>
          <p:cNvPicPr/>
          <p:nvPr/>
        </p:nvPicPr>
        <p:blipFill>
          <a:blip r:embed="rId1"/>
          <a:stretch/>
        </p:blipFill>
        <p:spPr>
          <a:xfrm>
            <a:off x="5076720" y="1268280"/>
            <a:ext cx="31435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w many world records are currently held by a Cuban athle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wo Cubans currently hold world records: Javier Sotomayor in the high jump event, and Dayron Robles in the 110 meters hurdles 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Javier Sotomay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8402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Narrating a sports ev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Talking about recor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reparing the publ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ich attempt is being narr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First / Second / Third) attempt at a new world record for the Cuba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First / </a:t>
            </a:r>
            <a:r>
              <a:rPr b="0" lang="es-ES" sz="4800" spc="-1" strike="noStrike" u="sng">
                <a:solidFill>
                  <a:srgbClr val="000000"/>
                </a:solidFill>
                <a:uFillTx/>
                <a:latin typeface="Calibri"/>
              </a:rPr>
              <a:t>Second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/ Third) attempt at a new world record for the Cuba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howing exci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at does the commentator refer to as he gets exci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__ the jump as su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__ Sotomayor’s biograph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__ the public at the stadi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__ the previous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__ the place where the record has been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__ the emotion in the athlete’s 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at does the commentator refer to as he gets exci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 the jump as su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__ Sotomayor’s biograph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 the public in the stadi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 the previous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 the place where the record has been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____ the emotion in the athlete’s 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howing excite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es! He’s gone clear!  The crowd rises to its feet.  Sotomayor set another world record!  A second one on this very stadium at Salamanca.  And that brings the meeting to a wonderful climax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aising the athlete’s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e deserves nothing less than another World Reco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When can you say this about an athle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8:54:51Z</dcterms:created>
  <dc:creator>Sergio</dc:creator>
  <dc:description/>
  <dc:language>en-US</dc:language>
  <cp:lastModifiedBy>Ovidio Castro</cp:lastModifiedBy>
  <dcterms:modified xsi:type="dcterms:W3CDTF">2013-11-04T14:15:18Z</dcterms:modified>
  <cp:revision>27</cp:revision>
  <dc:subject/>
  <dc:title>Narrating a sports event</dc:title>
</cp:coreProperties>
</file>