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4B9E-54D8-408A-8615-7085E9B14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1AF2-0418-4CBA-B735-07145DD0F0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46E9-B46C-42C1-9FE7-BBE8B0304E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9171-5979-43F3-BE64-64FD35798E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0EE1-D1C8-4680-BE18-DCBA5B7721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7D18-CE3B-47CC-BF2B-A50EA39912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B857-5C3C-4B9C-8700-C048B9492F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AC96-CE51-47B1-BE4C-94D2F26647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4324-A9A7-4E1A-93B7-E5D0E7B4CF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D503-BBEF-4751-8519-DEF155144A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2CEF-3A5A-4FFF-93E9-51F77B8428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14C9-EE1F-43BD-B2D7-2C35B6CBC8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333-D478-47C3-BFD2-C84A8CA6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1D4-2AC7-4C9F-A841-B4924FDA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4A8-E315-431A-B9DA-DB1013D2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87A-FF60-46EF-B466-CE87042A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6EF9-4C2C-4CCB-B58E-220CA92C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52BB-95AF-49B7-AA95-A0DFB76D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A95F-14CA-46CC-AC9D-97822385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A9B1-9BD8-401B-9DFF-CAEEFA34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8A41-F9F5-4A97-8D9B-EEA69C27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4AA9-A358-4474-97B7-6E4AA7D1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F869-5731-4882-A7C5-E8F55312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122-9016-46AF-8CC1-867E2480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59EC-7487-47BE-9472-91D6B287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C931-3C73-41B8-9CE8-6D77843E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8B2E-B29D-4265-B520-BD51F5E5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3F20-451D-48EF-90D1-10D6B62D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471F-A0CD-4C9F-90FB-C6746F30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7C85-DBE0-43E5-9895-0B46F2E0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BB15E-26BB-403E-9E57-E3AC758F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F5F7-B7D0-4BA3-9AA3-F46B1407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727B-77D3-45AD-ACD1-5A026E40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734C5-4E73-483F-AE65-FC8C0097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A47-29BD-4B33-A27B-0AAE9B93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2481-F3B3-4AFD-AD00-204C9775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B39D-6875-4EAE-BBCE-E52300E7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D3F7-CBA0-4F50-BA7D-429A5634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598C-B1F0-458F-9158-18492C37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7F3F-A002-4A04-A557-C817CB0E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5CABF-421B-41BF-995F-1F4394CD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E01A-FA52-4750-A435-6D1D011B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B18-5258-41D3-895F-50EFA7AC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6AC-CC6F-4EA5-B772-B09F4F21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D9B-A88F-4E13-ADEB-28BC3940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0BD-BE42-49E5-B512-3A6B95C4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53E-5DF2-44F3-BA0C-457A78A8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3EE-0977-4922-BC86-482B2AA5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7847-CD84-48A5-9FD3-CCD7A157CA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2A4D-78A6-4A37-AEFB-EE58C5CE94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38C6-B7B4-4BE5-B120-A607173A0A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6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ising tourism aware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307152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2"/>
          <a:stretch/>
        </p:blipFill>
        <p:spPr>
          <a:xfrm>
            <a:off x="2928960" y="3643200"/>
            <a:ext cx="2646360" cy="2357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"/>
          <p:cNvPicPr/>
          <p:nvPr/>
        </p:nvPicPr>
        <p:blipFill>
          <a:blip r:embed="rId3"/>
          <a:stretch/>
        </p:blipFill>
        <p:spPr>
          <a:xfrm>
            <a:off x="5357880" y="1000080"/>
            <a:ext cx="3286080" cy="2786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571680" y="600084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ora Enríquez O´Farrill Ph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guage Focus: 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trophe 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1 Título"/>
          <p:cNvSpPr/>
          <p:nvPr/>
        </p:nvSpPr>
        <p:spPr>
          <a:xfrm>
            <a:off x="357120" y="1071720"/>
            <a:ext cx="84297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´s or s´can be used in expressions of time with numbe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1 Título"/>
          <p:cNvSpPr/>
          <p:nvPr/>
        </p:nvSpPr>
        <p:spPr>
          <a:xfrm>
            <a:off x="500040" y="3786120"/>
            <a:ext cx="82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ut in expressions beginning with a, the, or a possessive and followed by a number, the first noun is singula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guage Focus: 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trophe 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1 Título"/>
          <p:cNvSpPr/>
          <p:nvPr/>
        </p:nvSpPr>
        <p:spPr>
          <a:xfrm>
            <a:off x="642960" y="642960"/>
            <a:ext cx="8215200" cy="25718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n expressions beginning with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, the, or a possessiv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llowed by a num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the first noun is singul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1 Título"/>
          <p:cNvSpPr/>
          <p:nvPr/>
        </p:nvSpPr>
        <p:spPr>
          <a:xfrm>
            <a:off x="642960" y="3286080"/>
            <a:ext cx="8358120" cy="31431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The tour include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wo-day exped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cav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ree-day journey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bo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rty-mile hik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 the mountains was exhaust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ould you suggest him/her to g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2467080" cy="228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3500280" y="785880"/>
            <a:ext cx="2500560" cy="2357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6357960" y="4000680"/>
            <a:ext cx="2525760" cy="2071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4"/>
          <a:stretch/>
        </p:blipFill>
        <p:spPr>
          <a:xfrm>
            <a:off x="357120" y="3929040"/>
            <a:ext cx="2833920" cy="1928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5"/>
          <a:stretch/>
        </p:blipFill>
        <p:spPr>
          <a:xfrm>
            <a:off x="3786120" y="4143240"/>
            <a:ext cx="2357640" cy="1933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"/>
          <p:cNvPicPr/>
          <p:nvPr/>
        </p:nvPicPr>
        <p:blipFill>
          <a:blip r:embed="rId6"/>
          <a:stretch/>
        </p:blipFill>
        <p:spPr>
          <a:xfrm>
            <a:off x="6429240" y="785880"/>
            <a:ext cx="2214720" cy="2228760"/>
          </a:xfrm>
          <a:prstGeom prst="rect">
            <a:avLst/>
          </a:prstGeom>
          <a:ln w="0">
            <a:noFill/>
          </a:ln>
        </p:spPr>
      </p:pic>
      <p:sp>
        <p:nvSpPr>
          <p:cNvPr id="289" name="9 Rectángulo"/>
          <p:cNvSpPr/>
          <p:nvPr/>
        </p:nvSpPr>
        <p:spPr>
          <a:xfrm>
            <a:off x="500040" y="3214800"/>
            <a:ext cx="2428920" cy="5713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ñ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10 Rectángulo"/>
          <p:cNvSpPr/>
          <p:nvPr/>
        </p:nvSpPr>
        <p:spPr>
          <a:xfrm>
            <a:off x="3500280" y="3143160"/>
            <a:ext cx="2571840" cy="5716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11 Rectángulo"/>
          <p:cNvSpPr/>
          <p:nvPr/>
        </p:nvSpPr>
        <p:spPr>
          <a:xfrm>
            <a:off x="357120" y="6072120"/>
            <a:ext cx="2786040" cy="5716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tiago de 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12 Rectángulo"/>
          <p:cNvSpPr/>
          <p:nvPr/>
        </p:nvSpPr>
        <p:spPr>
          <a:xfrm>
            <a:off x="3714840" y="6072120"/>
            <a:ext cx="2428920" cy="5716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ta Cl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13 Rectángulo"/>
          <p:cNvSpPr/>
          <p:nvPr/>
        </p:nvSpPr>
        <p:spPr>
          <a:xfrm>
            <a:off x="6357960" y="3143160"/>
            <a:ext cx="2428920" cy="5716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14 Rectángulo"/>
          <p:cNvSpPr/>
          <p:nvPr/>
        </p:nvSpPr>
        <p:spPr>
          <a:xfrm>
            <a:off x="6429240" y="6072120"/>
            <a:ext cx="2428920" cy="5716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Think about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people come to our count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What do they do when they are 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What could be the negative impact of touris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an you think about any negative impact of tourism i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toric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ches and the coas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d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st's community cul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Possible negative imp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toric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many tourists will inevitably damage the places they vis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ach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be polluted with rubb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ld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se frightens wildlife and people still pick rare wild flowers or damage the w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host's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al way of life  and cultural values become devalued if they are changed to please  the touri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856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What can we do? Tick the possible initiativ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trict access to sites of interests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t up conservation areas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ild a replica site for tourists to visit.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public awareness of environmental issues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tourists only in hotels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local culture without any change to favor tourists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56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What can we do? Tick the possible measur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strict access to sites of interests.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t up conservation areas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ild a replica site for tourists to visit.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se public awareness of environmental issues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tourists only in hotels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eep local culture without any change to favor tourists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8560" y="3567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What  do tourists do in a new city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358920" y="2000160"/>
            <a:ext cx="84279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y will go on a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ity tour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y will do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sightseeing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isit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historical sites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560" y="3567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storical: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vs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ic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58920" y="2000160"/>
            <a:ext cx="84279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214200" y="1571760"/>
            <a:ext cx="32148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214200" y="1143000"/>
            <a:ext cx="32036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ertaining to histor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4643280" y="1214280"/>
            <a:ext cx="45007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mous in history, significa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428760" y="2714760"/>
            <a:ext cx="71434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Tourists visit different historical si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428760" y="4143240"/>
            <a:ext cx="77151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The Cuban Revolution is a historic event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sson reviews  the language used f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ling with responsible tourism awareness, 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nguage used by tour guides and cli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280" y="571680"/>
            <a:ext cx="896472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e talk with words from the lis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28760" y="18572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good morning          - mo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te                           - ear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in                        -  beautifu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p this morning      - ug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de book                - say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nder                      -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                       - is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e tal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d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 for me, wait , wait for me, wait for m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. Good_______. Isn't it a ______ day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 I'm ______, everyone. I couldn'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my ______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river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, now that we're ______ here, we  can _______. Our first _____  _____  _____ will be Stanley Park. Stanley Park is _______ of the most______  places in Vancouv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285840"/>
            <a:ext cx="896472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e tal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d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. Did you___ Stanley Park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______  where Stanley Park ___ . _____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be a _____   in here some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is is the tal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d: Wait for me, wait , wait for me, wait for m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. Good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rn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Isn't it 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autifu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ay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 I'm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at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everyone. I couldn'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my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uide boo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iver: Well, now that we'r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ere, w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gi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Our first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top this morning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be  Stanley Park. Stanley park is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the most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autifu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places in Vancouv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is is the tal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96472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d: Sorry. Did you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tanley Park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n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where Stanley Park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r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be 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 some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direct questions. Asking for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se sentences to indirect ques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 wi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uld you tell 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.? 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now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time does the tour e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ould you tell me what time the tour end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re is Viñales Vall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re do the come fr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ow far are we from the hot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9280" y="474480"/>
            <a:ext cx="896472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time does the tour e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ould you tell me what time the tour end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re is Central Pa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o you know where Central Park 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3. Where do the orchids come fr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ould you please tell me where the orchids from?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4. How far are we from the hot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o you know how far we are from the hot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chure language: descriptive language and ad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13840" y="1214280"/>
            <a:ext cx="8929800" cy="578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aside resort has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e ingredients for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perfec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mmer holida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major attraction is 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o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id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ach of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f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tle shelving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nds. East you can find 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icturesqu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iew of the mountain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its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rvellou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ach,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dyll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rbour and many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gnific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afood restaurants it t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fec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lace to r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nning the brochur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te the chart about your hometown or 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00040" y="2571840"/>
          <a:ext cx="8229600" cy="3884400"/>
        </p:xfrm>
        <a:graphic>
          <a:graphicData uri="http://schemas.openxmlformats.org/drawingml/2006/table">
            <a:tbl>
              <a:tblPr/>
              <a:tblGrid>
                <a:gridCol w="2743200"/>
                <a:gridCol w="2543040"/>
                <a:gridCol w="2943360"/>
              </a:tblGrid>
              <a:tr h="2043720">
                <a:tc>
                  <a:txBody>
                    <a:bodyPr lIns="89640" rIns="89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Lucida Handwriting"/>
                          <a:ea typeface="Calibri"/>
                        </a:rPr>
                        <a:t>A BRIEF GUIDE  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89640" rIns="89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teresting facts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________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ings and landmar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____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840680">
                <a:tc>
                  <a:txBody>
                    <a:bodyPr lIns="89640" rIns="89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NAME OF CITY OR T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____________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ocal Foo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_________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teresting things to 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__________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56760" y="285480"/>
            <a:ext cx="8572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AMPLE  ADVERT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Sunday August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 us on a day trip to Hemingway Mus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enic trip from Old Havana, to the outskirts of Havana, Lunch a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s Terraz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aurant in Cojimar,  the town of the Old man and the Sea. See the place where the British troops invaded Havana in the 18th century.     26.00 CUC per pax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 Eetu at reception for ti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INDS OF HOLI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9680" y="2000160"/>
            <a:ext cx="8435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Self-catering           2. Safa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Cruise                    4. Package t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Home stay             6. Weekend bre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Winter sports         8. Special interest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57168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4 CuadroTexto"/>
          <p:cNvSpPr/>
          <p:nvPr/>
        </p:nvSpPr>
        <p:spPr>
          <a:xfrm>
            <a:off x="142920" y="671400"/>
            <a:ext cx="9001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esign a poster for the tourists  in which the information below is advertised. Include the description of a p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turday's guided tour of the city. Make it as appealing as you can. Be sure you include the following inform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ve 9 am from hotel, return 6.30 p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$25 CUC per person, visit park, mountains, foothills, etc.  Swim at the river/beach.  Lunch includ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sson dealt with the language used f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ling with responsible tourism awareness, 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nguage used by tour guides and cli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mes next in the cour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ltural issues of English speaking cou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ing and summariz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f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os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meet the TV teach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e:  Friday, May 20, 201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e.: 3.00 p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ce: Faculty of Languages, Ciudad Escolar Libert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3 Rectángulo" descr=""/>
          <p:cNvPicPr/>
          <p:nvPr/>
        </p:nvPicPr>
        <p:blipFill>
          <a:blip r:embed="rId1"/>
          <a:stretch/>
        </p:blipFill>
        <p:spPr>
          <a:xfrm>
            <a:off x="1871640" y="212760"/>
            <a:ext cx="48942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nguage foc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3765600"/>
          <a:ext cx="9144000" cy="3092400"/>
        </p:xfrm>
        <a:graphic>
          <a:graphicData uri="http://schemas.openxmlformats.org/drawingml/2006/table">
            <a:tbl>
              <a:tblPr/>
              <a:tblGrid>
                <a:gridCol w="2000160"/>
                <a:gridCol w="714384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lac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 center, Mountain slop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er holidays, weekend brea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cti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lf course, swimming p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teri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on bridge, paper ba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24 CuadroTexto"/>
          <p:cNvSpPr/>
          <p:nvPr/>
        </p:nvSpPr>
        <p:spPr>
          <a:xfrm>
            <a:off x="0" y="714240"/>
            <a:ext cx="90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ound Words, In English we can use nouns as adjectiv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 sports , adventure holidays 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avan park , travel information cent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 winter sports holid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71680" y="135720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riving lic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ty cent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 pa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n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00360" y="428400"/>
            <a:ext cx="442908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AMERICAN ENGLISH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85748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river´s  lic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ownt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b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rking l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l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71680" y="499680"/>
            <a:ext cx="403992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TISH  ENGLIS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iving around the 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040" y="149976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tourists upon their arrival to their destination country, usually board a coach to be transferred to their hotels. Tourist coaches are usually very colorful and  a driver and a tourist guide make the trip to the hotel as charming as possi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raveling by coach is not the only way tourists have; they can also take advantage of the taxi service to move where they want to go. The communication of taxi drivers with potential clients is very importa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ful phr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57120" y="1356840"/>
            <a:ext cx="84297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ant to do a round trip to the Hemingway Ma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we take the Malecon rid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ant to do a City Tour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you charge by the hour or by the met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o you suggest I should s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guage Focus: 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trophe 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357120" y="1071720"/>
            <a:ext cx="82155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rist: How long does it take to the airpo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iver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 hour´s dr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1 Título"/>
          <p:cNvSpPr/>
          <p:nvPr/>
        </p:nvSpPr>
        <p:spPr>
          <a:xfrm>
            <a:off x="509760" y="3571920"/>
            <a:ext cx="82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rist: How long does it take to the mountai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iver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wo days´ journe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guage Focus: 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trophe 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1 Título"/>
          <p:cNvSpPr/>
          <p:nvPr/>
        </p:nvSpPr>
        <p:spPr>
          <a:xfrm>
            <a:off x="357120" y="1071720"/>
            <a:ext cx="84297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r agent: What do you want to boo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rist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month´s holiday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Cu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500040" y="3786120"/>
            <a:ext cx="82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rist: How long does it take to get to Central Par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iver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ve minutes´ walk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2:15:15Z</dcterms:created>
  <dc:creator>User</dc:creator>
  <dc:description/>
  <dc:language>en-US</dc:language>
  <cp:lastModifiedBy>*</cp:lastModifiedBy>
  <dcterms:modified xsi:type="dcterms:W3CDTF">2013-11-03T17:51:46Z</dcterms:modified>
  <cp:revision>78</cp:revision>
  <dc:subject/>
  <dc:title>Diapositiva 1</dc:title>
</cp:coreProperties>
</file>