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1FA4-973D-4433-A59F-DD79B1D15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EF65-0FFC-4E22-B0A4-E8325F719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587-706E-419F-BC3B-C944365F5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5060-B423-45B8-B771-0CBD46FDB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E8C9-CAF3-4771-BE25-8A9404290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9640-9159-4434-990F-03F114518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636-DB1E-4ABE-9D34-D851480CB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9D5A-08D6-418D-B91D-F9A9D8BAB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296A-8A91-45CE-96D8-309DD6D34A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0C49-6D78-45E8-BBB7-510639AB2B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3C9-0EA6-4DF4-A72B-356207D943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F588-5FAF-4070-92B8-5F1DF99178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822-A71D-4EC4-9E8E-05CD3BD9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86C-23C8-46A9-A775-9A5286A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967-216E-455A-B31C-5E2CE854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BCC-9F28-4BE8-A9A5-DCE23B58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FF9D-D77B-46CF-983E-6E8001E7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6666-47F3-4144-B4C2-2F32442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5D5C-C9C5-43F1-BC7C-EC132F9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E6D8-F6BB-489A-B01C-294ABFA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7B3-AF14-4DFF-9712-A9550129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02DC-3F64-4B0E-948E-329D7DE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809B-29A3-422F-A649-832252B3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156-8825-48B2-BFFF-498E3F28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DEC-E790-4CD6-8312-6FC462B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67FE-C4A5-4491-99CE-82996AA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55E-CABD-41DA-ACFD-B1CF6939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806C-6D46-48E2-99CA-F239B02E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232-DC0C-45EF-986C-B825D1CC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1D9D6-8706-47DD-A7E5-95E8902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E421-8FAC-4DA4-B519-3FD1AB4A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2226-E2B4-4175-8CA6-B73811F9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7F41-A32B-46B2-90A1-1FC4DC0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4EC0-BD53-49EB-A191-88CA3F3C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1D5-9A60-421D-A1BE-920E252B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40B3-81AF-4566-94B5-DE8F521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3358-8BC5-4242-844D-A3ABAC5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3543-7CE6-4600-B7E2-8961BC2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68C1-6B24-4D9D-ABF0-62B578B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E7B1-4733-46B0-A578-10448CCE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019B-BE45-43CD-9B79-8A19DF08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B155-6FF3-4C99-A50B-06473F6D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FA8-D12D-4E8A-AAE9-4C136773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CE8-0F4E-4AC5-A462-47475018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9EA-9D2B-498D-A342-26DF2B1D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021-83A4-4443-B88E-33548A8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804-F2C6-4425-B35A-40E5FD1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E19-0EB6-4C6B-AEC3-926B684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CCE8-27A3-4DC9-8527-265D3270FF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203-B549-4C89-9094-5753351CD9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E66-5DDA-448A-9A1B-908358EEE5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ising tourism awar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07152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2"/>
          <a:stretch/>
        </p:blipFill>
        <p:spPr>
          <a:xfrm>
            <a:off x="2928960" y="3643200"/>
            <a:ext cx="2646360" cy="2357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"/>
          <p:cNvPicPr/>
          <p:nvPr/>
        </p:nvPicPr>
        <p:blipFill>
          <a:blip r:embed="rId3"/>
          <a:stretch/>
        </p:blipFill>
        <p:spPr>
          <a:xfrm>
            <a:off x="5357880" y="100008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571680" y="600084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ra Enríquez O´Farrill Ph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 Título"/>
          <p:cNvSpPr/>
          <p:nvPr/>
        </p:nvSpPr>
        <p:spPr>
          <a:xfrm>
            <a:off x="357120" y="1071720"/>
            <a:ext cx="84297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´s or s´can be used in expressions of time with numbe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 Título"/>
          <p:cNvSpPr/>
          <p:nvPr/>
        </p:nvSpPr>
        <p:spPr>
          <a:xfrm>
            <a:off x="500040" y="3786120"/>
            <a:ext cx="82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ut in expressions beginning with a, the, or a possessive and followed by a number, the first noun is singula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 Título"/>
          <p:cNvSpPr/>
          <p:nvPr/>
        </p:nvSpPr>
        <p:spPr>
          <a:xfrm>
            <a:off x="642960" y="642960"/>
            <a:ext cx="8215200" cy="2571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n expressions beginning with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, the, or a possessiv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llowed by a num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the first noun is singul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1 Título"/>
          <p:cNvSpPr/>
          <p:nvPr/>
        </p:nvSpPr>
        <p:spPr>
          <a:xfrm>
            <a:off x="642960" y="3286080"/>
            <a:ext cx="8358120" cy="31431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The tour include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-day exped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cav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ree-day journe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bor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rty-mile hik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 the mountains was exhaust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ould you suggest him/her to 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2467080" cy="228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500280" y="785880"/>
            <a:ext cx="2500560" cy="2357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6357960" y="4000680"/>
            <a:ext cx="2525760" cy="2071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4"/>
          <a:stretch/>
        </p:blipFill>
        <p:spPr>
          <a:xfrm>
            <a:off x="357120" y="3929040"/>
            <a:ext cx="2833920" cy="1928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5"/>
          <a:stretch/>
        </p:blipFill>
        <p:spPr>
          <a:xfrm>
            <a:off x="3786120" y="4143240"/>
            <a:ext cx="2357640" cy="1933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6"/>
          <a:stretch/>
        </p:blipFill>
        <p:spPr>
          <a:xfrm>
            <a:off x="6429240" y="785880"/>
            <a:ext cx="2214720" cy="2228760"/>
          </a:xfrm>
          <a:prstGeom prst="rect">
            <a:avLst/>
          </a:prstGeom>
          <a:ln w="0">
            <a:noFill/>
          </a:ln>
        </p:spPr>
      </p:pic>
      <p:sp>
        <p:nvSpPr>
          <p:cNvPr id="289" name="9 Rectángulo"/>
          <p:cNvSpPr/>
          <p:nvPr/>
        </p:nvSpPr>
        <p:spPr>
          <a:xfrm>
            <a:off x="500040" y="3214800"/>
            <a:ext cx="2428920" cy="5713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ñ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10 Rectángulo"/>
          <p:cNvSpPr/>
          <p:nvPr/>
        </p:nvSpPr>
        <p:spPr>
          <a:xfrm>
            <a:off x="3500280" y="3143160"/>
            <a:ext cx="257184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11 Rectángulo"/>
          <p:cNvSpPr/>
          <p:nvPr/>
        </p:nvSpPr>
        <p:spPr>
          <a:xfrm>
            <a:off x="357120" y="6072120"/>
            <a:ext cx="278604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tiago de 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12 Rectángulo"/>
          <p:cNvSpPr/>
          <p:nvPr/>
        </p:nvSpPr>
        <p:spPr>
          <a:xfrm>
            <a:off x="3714840" y="6072120"/>
            <a:ext cx="242892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ta 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13 Rectángulo"/>
          <p:cNvSpPr/>
          <p:nvPr/>
        </p:nvSpPr>
        <p:spPr>
          <a:xfrm>
            <a:off x="6357960" y="3143160"/>
            <a:ext cx="242892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14 Rectángulo"/>
          <p:cNvSpPr/>
          <p:nvPr/>
        </p:nvSpPr>
        <p:spPr>
          <a:xfrm>
            <a:off x="6429240" y="6072120"/>
            <a:ext cx="2428920" cy="5716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ink about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people come to our count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at do they do when they are 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hat could be the negative impact of touris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an you think about any negative impact of tourism i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storic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ches and the coas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d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ost's community cul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sible negative imp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ic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any tourists will inevitably damage the places they vis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polluted with rubb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e frightens wildlife and people still pick rare wild flowers or damage the w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host's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way of life  and cultural values become devalued if they are changed to please  the touri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can we do? Tick the possible initiativ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trict access to sites of interest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t up conservation area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 a replica site for tourists to visit.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ise public awareness of environmental issue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ourists only in hotel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local culture without any change to favor tourist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56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can we do? Tick the possible measur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strict access to sites of interests.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t up conservation area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ild a replica site for tourists to visit.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se public awareness of environmental issue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ep tourists only in hotels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eep local culture without any change to favor tourist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8560" y="3567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 do tourists do in a new city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358920" y="2000160"/>
            <a:ext cx="8427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y will go on a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ity tour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y will do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ightseeing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isit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historical site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8560" y="3567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storical: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vs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8920" y="2000160"/>
            <a:ext cx="8427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14200" y="1571760"/>
            <a:ext cx="3214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214200" y="1143000"/>
            <a:ext cx="32036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taining to histor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4643280" y="1214280"/>
            <a:ext cx="4500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in history, significa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428760" y="2714760"/>
            <a:ext cx="7143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Tourists visit different historical si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28760" y="4143240"/>
            <a:ext cx="77151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The Cuban Revolution is a historic event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reviews 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ling with responsible tourism awareness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used by tour guides and cli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571680"/>
            <a:ext cx="89647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talk with words from the lis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28760" y="1857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good morning          - 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te                           - ear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in                        -  beautifu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 this morning      - ug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ide book                - say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                      -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                       - is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d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it for me, wait , wait for me, wait for 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. Good_______. Isn't it a ______ da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 I'm ______, everyone. I couldn'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my ____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river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, now that we're ______ here, we  can _______. Our first _____  _____  _____ will be Stanley Park. Stanley Park is _______ of the most______  places in Vancouv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285840"/>
            <a:ext cx="89647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d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. Did you___ Stanley Par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______  where Stanley Park ___ . _____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a _____   in here some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is is 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d: Wait for me, wait , wait for me, wait for m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. Goo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rn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Isn't it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autifu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ay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rry I'm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a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everyone. I couldn'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m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uide boo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iver: Well, now that we'r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ere, w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g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Our first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op this morning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ll be  Stanley Park. Stanley park i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the most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autifu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places in Vancouv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is is the 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96472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d: Sorry. Did you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nley Par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on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where Stanley Park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r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be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 somew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rect questions. Asking for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se sentences to indirect ques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uld you tell 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.? 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now…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time does the tour 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uld you tell me what time the tour end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re is Viñales Vall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re do the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ow far are we from the hot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9280" y="474480"/>
            <a:ext cx="896472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time does the tour 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uld you tell me what time the tour end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re is Central Pa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you know where Central Park 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. Where do the orchids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uld you please tell me where the orchids from?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4. How far are we from the hot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you know how far we are from the hot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chure language: descriptive language and ad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13840" y="1214280"/>
            <a:ext cx="8929800" cy="578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aside resort ha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 ingredients for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perfec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er holida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major attraction is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o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ach of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f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tle shelving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nds. East you can find a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cturesqu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view of the mountain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th its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rvellou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beach,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dyll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harbour and man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gnific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afood restaurants it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fec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lace to re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 the brochur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chart about your hometown or 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00040" y="2571840"/>
          <a:ext cx="8229600" cy="3884400"/>
        </p:xfrm>
        <a:graphic>
          <a:graphicData uri="http://schemas.openxmlformats.org/drawingml/2006/table">
            <a:tbl>
              <a:tblPr/>
              <a:tblGrid>
                <a:gridCol w="2743200"/>
                <a:gridCol w="2543040"/>
                <a:gridCol w="2943360"/>
              </a:tblGrid>
              <a:tr h="2043720"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Lucida Handwriting"/>
                          <a:ea typeface="Calibri"/>
                        </a:rPr>
                        <a:t>A BRIEF GUIDE  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teresting fact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ildings and landmark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840680"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NAME OF CITY OR T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____________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ocal Food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_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Interesting things to 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__________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56760" y="28548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AMPLE  ADVERT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Sunday August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 us on a day trip to Hemingway Mus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ic trip from Old Havana, to the outskirts of Havana, Lunch a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s Terraz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aurant in Cojimar,  the town of the Old man and the Sea. See the place where the British troops invaded Havana in the 18th century.     26.00 CUC per pax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 Eetu at reception for ti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INDS OF HOLI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9680" y="200016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Self-catering           2. Safa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Cruise                    4. Package t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Home stay             6. Weekend brea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Winter sports         8. Special interest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7168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4 CuadroTexto"/>
          <p:cNvSpPr/>
          <p:nvPr/>
        </p:nvSpPr>
        <p:spPr>
          <a:xfrm>
            <a:off x="142920" y="671400"/>
            <a:ext cx="900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sign a poster for the tourists  in which the information below is advertised. Include the description of a p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turday's guided tour of the city. Make it as appealing as you can. Be sure you include the following inform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ve 9 am from hotel, return 6.30 p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$25 CUC per person, visit park, mountains, foothills, etc.  Swim at the river/beach.  Lunch include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dealt with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ling with responsible tourism awareness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used by tour guides and cli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mes next in the cour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al issues of English speaking coun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ing and summariz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f e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os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meet the TV teach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e:  Friday, May 20, 20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.: 3.00 p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ce: Faculty of Languages, Ciudad Escolar Libert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3 Rectángulo" descr=""/>
          <p:cNvPicPr/>
          <p:nvPr/>
        </p:nvPicPr>
        <p:blipFill>
          <a:blip r:embed="rId1"/>
          <a:stretch/>
        </p:blipFill>
        <p:spPr>
          <a:xfrm>
            <a:off x="1871640" y="212760"/>
            <a:ext cx="4894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fo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3765600"/>
          <a:ext cx="9144000" cy="3092400"/>
        </p:xfrm>
        <a:graphic>
          <a:graphicData uri="http://schemas.openxmlformats.org/drawingml/2006/table">
            <a:tbl>
              <a:tblPr/>
              <a:tblGrid>
                <a:gridCol w="2000160"/>
                <a:gridCol w="71438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lac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 center, Mountain slop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mer holidays, weekend brea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c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f course, swimming poo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eria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on bridge, paper ba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24 CuadroTexto"/>
          <p:cNvSpPr/>
          <p:nvPr/>
        </p:nvSpPr>
        <p:spPr>
          <a:xfrm>
            <a:off x="0" y="71424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ound Words, In English we can use nouns as adjectiv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 sports , adventure holidays 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van park , travel information cen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 winter sports holiday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71680" y="13572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riving lic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y cen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gr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 pa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n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00360" y="428400"/>
            <a:ext cx="442908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AMERICAN ENGLIS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85748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river´s  lic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ownt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b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king l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l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680" y="499680"/>
            <a:ext cx="403992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TISH  ENGLI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ing around the 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0040" y="149976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ourists upon their arrival to their destination country, usually board a coach to be transferred to their hotels. Tourist coaches are usually very colorful and  a driver and a tourist guide make the trip to the hotel as charming as possi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raveling by coach is not the only way tourists have; they can also take advantage of the taxi service to move where they want to go. The communication of taxi drivers with potential clients is very importa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ful phr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57120" y="1356840"/>
            <a:ext cx="84297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nt to do a round trip to the Hemingway Mar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we take the Malecon ri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want to do a City Tour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charge by the hour or by the me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 you suggest I should s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357120" y="1071720"/>
            <a:ext cx="82155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How long does it take to the airp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 hour´s dr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 Título"/>
          <p:cNvSpPr/>
          <p:nvPr/>
        </p:nvSpPr>
        <p:spPr>
          <a:xfrm>
            <a:off x="509760" y="3571920"/>
            <a:ext cx="82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How long does it take to the mountai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wo days´ journe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guage Focus: 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trophe 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 Título"/>
          <p:cNvSpPr/>
          <p:nvPr/>
        </p:nvSpPr>
        <p:spPr>
          <a:xfrm>
            <a:off x="357120" y="1071720"/>
            <a:ext cx="84297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 agent: What do you want to boo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month´s holiday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500040" y="3786120"/>
            <a:ext cx="82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urist: How long does it take to get to Central Par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iver: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ve minutes´ wal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2:15:15Z</dcterms:created>
  <dc:creator>User</dc:creator>
  <dc:description/>
  <dc:language>en-US</dc:language>
  <cp:lastModifiedBy>*</cp:lastModifiedBy>
  <dcterms:modified xsi:type="dcterms:W3CDTF">2013-11-03T17:51:46Z</dcterms:modified>
  <cp:revision>78</cp:revision>
  <dc:subject/>
  <dc:title>Diapositiva 1</dc:title>
</cp:coreProperties>
</file>