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63CD-2D27-4AA4-83AF-CA0F9DF33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1ADB-8B5E-4A1B-BEC5-65A39DC7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1BB0-8EB2-4E07-B4F2-F14A8C38A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07FC-6C13-46BE-9057-89E7C56BF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C432-FD08-43A5-BF7B-84811C652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E85B-3D12-4F19-846E-FF448A81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BE8B-5438-49B3-8EB0-FEC9561D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0408-AE18-4A01-A130-E35EF5FE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B9FD-0CB2-45DF-AE97-55A8288B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5A09-9B5E-4036-9903-3084AFD9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4B27-F000-46FB-9F6C-0BA8DDB8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1280-9175-4B00-8A22-7F136001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77BA-5C44-48C9-BF0A-25C2ACB4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6A6C-2F3B-419E-97A0-8C7AB33E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C720-6A30-4ABE-B21A-4DBA1773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C376-B120-48CA-B003-907B2BCC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421F-EAE4-44A2-A39C-AC0BE15B8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A517-3B0A-4899-BC2B-A27AC0F6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D34E-D560-4219-9BD5-8BB4A40B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3BA7-0D6E-477D-A05D-EA33F30A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4076-231D-4AA2-8959-BFDA1A5E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DAB8-E2F9-43F7-8D0D-35AADD89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C836-5191-44DB-98AA-C7C3AB1C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0FAE-DA5A-410D-BD62-659817DE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58BA-3805-4052-BA0A-69739F7EAAF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D4D7-7277-4F78-9762-FF339F4E34B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57160" y="121428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Arial"/>
              </a:rPr>
              <a:t>English for educational contexts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2 Marcador de texto"/>
          <p:cNvSpPr/>
          <p:nvPr/>
        </p:nvSpPr>
        <p:spPr>
          <a:xfrm>
            <a:off x="714240" y="3714840"/>
            <a:ext cx="77724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Arial"/>
              </a:rPr>
              <a:t>Isora Enríquez O’Farrill Ph D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   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assify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would you classify…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kinds of …are the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Who can classify…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llustrating/Exemplify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n example of th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me an example (of this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can give me an example (of this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take an 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me give you an 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   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ras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what way/how is …different from …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es …differ from…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one/we/you distinguish …from…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     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p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what way is …similar to…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imilarities are there/can you see between…and …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like …(in that/in so far as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similar to… (in that/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…are similar (in that/in so far as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     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iving reas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es/did…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can tell me why…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/was the reason for tha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me a reason for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   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dic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predict that … will hap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hap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…happens, (then) … will hap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en…happens, (then)… will hap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…happens, then …will hap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means that…will hap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   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can summarize (what we have said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have we sa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main points we have mad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at we have said i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let’s summariz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    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pothesiz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ill happen, if …happe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happen if…happen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could/might happen, if …happen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have happened, if …happen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…happens, …will (future, certa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… happens,… may/might/could happen  (future, possi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…happened, …would happen (future, possi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…had happened, …would have happened  (past, speculati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 sequence/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, after that, n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u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ant to make three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hree reason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ly, secondly, thirdly, fourthly…finally/las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, second, third, fourth…finally/l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57120" y="2286000"/>
            <a:ext cx="8358120" cy="2531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im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Use communication strategies for educational contex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1 Título"/>
          <p:cNvSpPr/>
          <p:nvPr/>
        </p:nvSpPr>
        <p:spPr>
          <a:xfrm>
            <a:off x="457200" y="142920"/>
            <a:ext cx="825804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niversity for Al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nglish IV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odule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2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o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m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d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another thi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3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pposi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me put this another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way of putting this i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other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4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rawing conclusions/deduc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an we/you/one conclude from th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we/you conclude from th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onclusions can we draw from th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/we conclude from this tha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/we/one can conclud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can draw two conclusions from this…(firstly,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Your tur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1 Título"/>
          <p:cNvSpPr/>
          <p:nvPr/>
        </p:nvSpPr>
        <p:spPr>
          <a:xfrm>
            <a:off x="1285920" y="1785960"/>
            <a:ext cx="671508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lect the most appropriate expression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214200" y="214200"/>
          <a:ext cx="8001000" cy="5500800"/>
        </p:xfrm>
        <a:graphic>
          <a:graphicData uri="http://schemas.openxmlformats.org/drawingml/2006/table">
            <a:tbl>
              <a:tblPr/>
              <a:tblGrid>
                <a:gridCol w="3429000"/>
                <a:gridCol w="2357640"/>
                <a:gridCol w="22143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ions  t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ck attendance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gn homework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There are still two minutes to go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Who is absent today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Do exercise 2 on page 5 for Monday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214200" y="214200"/>
          <a:ext cx="8001000" cy="5500800"/>
        </p:xfrm>
        <a:graphic>
          <a:graphicData uri="http://schemas.openxmlformats.org/drawingml/2006/table">
            <a:tbl>
              <a:tblPr/>
              <a:tblGrid>
                <a:gridCol w="3429000"/>
                <a:gridCol w="2357640"/>
                <a:gridCol w="22143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ions  t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ck attendance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gn homework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There are still two minutes to go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Who is absent today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Do exercise 2 on page 5 for Monday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207" name="2 Estrella de 4 puntas"/>
          <p:cNvSpPr/>
          <p:nvPr/>
        </p:nvSpPr>
        <p:spPr>
          <a:xfrm>
            <a:off x="4214880" y="27147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3 Estrella de 4 puntas"/>
          <p:cNvSpPr/>
          <p:nvPr/>
        </p:nvSpPr>
        <p:spPr>
          <a:xfrm>
            <a:off x="6429240" y="45007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214200" y="214200"/>
          <a:ext cx="8001000" cy="5913720"/>
        </p:xfrm>
        <a:graphic>
          <a:graphicData uri="http://schemas.openxmlformats.org/drawingml/2006/table">
            <a:tbl>
              <a:tblPr/>
              <a:tblGrid>
                <a:gridCol w="3429000"/>
                <a:gridCol w="2357640"/>
                <a:gridCol w="22143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ions  fo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ting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iting to start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How are things with you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Let´s begin our lesson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lose your books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top talking and be quiet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ettle down now so we can start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214200" y="214200"/>
          <a:ext cx="8001000" cy="5913720"/>
        </p:xfrm>
        <a:graphic>
          <a:graphicData uri="http://schemas.openxmlformats.org/drawingml/2006/table">
            <a:tbl>
              <a:tblPr/>
              <a:tblGrid>
                <a:gridCol w="3429000"/>
                <a:gridCol w="2357640"/>
                <a:gridCol w="22143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ions  fo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ting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iting to start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How are things with you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Let´s begin our lesson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lose your books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top talking and be quiet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ettle down now so we can start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sp>
        <p:nvSpPr>
          <p:cNvPr id="211" name="2 Estrella de 4 puntas"/>
          <p:cNvSpPr/>
          <p:nvPr/>
        </p:nvSpPr>
        <p:spPr>
          <a:xfrm>
            <a:off x="4286160" y="1428840"/>
            <a:ext cx="928800" cy="857160"/>
          </a:xfrm>
          <a:custGeom>
            <a:avLst/>
            <a:gdLst>
              <a:gd name="textAreaLeft" fmla="*/ 382680 w 928800"/>
              <a:gd name="textAreaRight" fmla="*/ 546120 w 928800"/>
              <a:gd name="textAreaTop" fmla="*/ 353160 h 857160"/>
              <a:gd name="textAreaBottom" fmla="*/ 504000 h 857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3 Estrella de 4 puntas"/>
          <p:cNvSpPr/>
          <p:nvPr/>
        </p:nvSpPr>
        <p:spPr>
          <a:xfrm>
            <a:off x="6643800" y="5214960"/>
            <a:ext cx="771480" cy="642960"/>
          </a:xfrm>
          <a:custGeom>
            <a:avLst/>
            <a:gdLst>
              <a:gd name="textAreaLeft" fmla="*/ 317880 w 771480"/>
              <a:gd name="textAreaRight" fmla="*/ 453600 w 771480"/>
              <a:gd name="textAreaTop" fmla="*/ 264960 h 642960"/>
              <a:gd name="textAreaBottom" fmla="*/ 3780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5 Estrella de 4 puntas"/>
          <p:cNvSpPr/>
          <p:nvPr/>
        </p:nvSpPr>
        <p:spPr>
          <a:xfrm>
            <a:off x="6429240" y="4143240"/>
            <a:ext cx="785880" cy="843120"/>
          </a:xfrm>
          <a:custGeom>
            <a:avLst/>
            <a:gdLst>
              <a:gd name="textAreaLeft" fmla="*/ 323640 w 785880"/>
              <a:gd name="textAreaRight" fmla="*/ 462240 w 785880"/>
              <a:gd name="textAreaTop" fmla="*/ 347400 h 843120"/>
              <a:gd name="textAreaBottom" fmla="*/ 495720 h 843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9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Complete using the most apropriate expressio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fessional Profil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6760" y="571320"/>
            <a:ext cx="8543880" cy="37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acher: _____ up! The bell is about to ring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n't hurry!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urry up!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urry!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udent: I´m sorry for being la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6760" y="571320"/>
            <a:ext cx="8543880" cy="37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acher: _____ up! You have plenty of time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n't hurry!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urry up!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urry!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udent: What a relief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1680" y="142848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acher: _____ your books. We'll need them in class today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get not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n't forge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ge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udent: Thanks for remind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5480" y="928800"/>
            <a:ext cx="8429400" cy="37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acher: _____ . I can't hear you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ak loude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n´t speak loud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ak slowly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udent: Yes, I will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5840" y="2142720"/>
            <a:ext cx="8229600" cy="33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acher: _____. Most students have not finished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e you quie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 quie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 you quie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udent: Oh, I apologiz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85480" y="999720"/>
            <a:ext cx="8358120" cy="47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acher: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_____ your homework. I need to check it right now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 not show m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how m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udent: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re it is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acher: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anks.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57120" y="192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ossible answer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56760" y="1277640"/>
            <a:ext cx="8543880" cy="37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acher:  </a:t>
            </a: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Hurry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p! The bell is about to ring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udent: I'm sorry for being late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56760" y="991800"/>
            <a:ext cx="8543880" cy="37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acher: </a:t>
            </a: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Don't hurry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p! You have plenty of time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udent: What a relief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680" y="142848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acher: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on't forget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your books. We'll need them in class today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udent. Thanks for reminding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ps for giving instructions in clas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599840"/>
            <a:ext cx="8472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 how you’re going to give the instructions before you go into the classro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sure that you use the language the students can underst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sure that your instructions are clear and  fully explic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85480" y="928800"/>
            <a:ext cx="8429400" cy="37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acher: </a:t>
            </a: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Speak louder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 I can't hear you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udent: Yes, I will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5840" y="2142720"/>
            <a:ext cx="8229600" cy="33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acher: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 quie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 Most students have not finished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udent: Oh, I apologiz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85840" y="1643040"/>
            <a:ext cx="8229600" cy="385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acher: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how me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r homework. I need to check it right now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udent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ere it is.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eacher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hanks.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6840" y="1599840"/>
            <a:ext cx="8472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acher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have you be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ude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acher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ll, you have been talking all along the lesson, please, __________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ok at the list on page 10 to complete the conversation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udent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you check this for 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ach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_______, please. I am explaining the task to another student.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acher: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_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udent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don´t get it very well. __________ again, plea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acher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rtainly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sible answer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6840" y="1599840"/>
            <a:ext cx="8472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eacher: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have you be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udent: I have been sick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eacher: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, you have been talking all along the lesson, please,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e quiet/ shut up/ stop talking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ok at the list on page 10 to complete the conversation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7168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udent: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n you check this for m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acher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Just a moment/ hang on a mome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, please. I am explaining the task to another student.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57168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acher: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e you with me?/ Do you understan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udent: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 don´t get it very well. Can you say it again again, pleas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acher: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ertainly.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1 Título"/>
          <p:cNvSpPr/>
          <p:nvPr/>
        </p:nvSpPr>
        <p:spPr>
          <a:xfrm>
            <a:off x="357120" y="642960"/>
            <a:ext cx="815832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imperative is also very common in written instructions. Be careful when you use the imperative, as it is often considered impolite in English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5480" y="499680"/>
            <a:ext cx="8429400" cy="564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e can use the imperative to give a direct order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Stand up.</a:t>
            </a:r>
            <a:br>
              <a:rPr sz="3600"/>
            </a:br>
            <a:br>
              <a:rPr sz="32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e can use the imperative to give instructions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Open your book. </a:t>
            </a:r>
            <a:br>
              <a:rPr sz="3600"/>
            </a:br>
            <a:br>
              <a:rPr sz="3600"/>
            </a:br>
            <a:br>
              <a:rPr sz="8000"/>
            </a:br>
            <a:br>
              <a:rPr sz="80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ch the words in A with the general  meaning in 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57120" y="1616040"/>
          <a:ext cx="8501040" cy="4267080"/>
        </p:xfrm>
        <a:graphic>
          <a:graphicData uri="http://schemas.openxmlformats.org/drawingml/2006/table">
            <a:tbl>
              <a:tblPr/>
              <a:tblGrid>
                <a:gridCol w="3816360"/>
                <a:gridCol w="46846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ds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l  meaning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) re read, rewrite, rephrase, restart 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before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) preview, pre test, pre reading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badly or wro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) misread, misunderstand, misbehave, mistake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again, bac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ch the words in A with the general  meaning in 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57120" y="1616040"/>
          <a:ext cx="8501040" cy="4267080"/>
        </p:xfrm>
        <a:graphic>
          <a:graphicData uri="http://schemas.openxmlformats.org/drawingml/2006/table">
            <a:tbl>
              <a:tblPr/>
              <a:tblGrid>
                <a:gridCol w="3816360"/>
                <a:gridCol w="46846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ds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l  meaning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) reread, rewrite, rephrase, restart 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again, back  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) preview, pre test, pre reading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before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) misread, misunderstand, misbehave, mistake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badly or wrong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sp>
        <p:nvSpPr>
          <p:cNvPr id="242" name="5 Flecha derecha"/>
          <p:cNvSpPr/>
          <p:nvPr/>
        </p:nvSpPr>
        <p:spPr>
          <a:xfrm>
            <a:off x="3643200" y="278604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6 Flecha derecha"/>
          <p:cNvSpPr/>
          <p:nvPr/>
        </p:nvSpPr>
        <p:spPr>
          <a:xfrm>
            <a:off x="3714840" y="385776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7 Flecha derecha"/>
          <p:cNvSpPr/>
          <p:nvPr/>
        </p:nvSpPr>
        <p:spPr>
          <a:xfrm>
            <a:off x="3643200" y="457200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Match the suffixes on the left to the explanation or function on the righ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57120" y="2357280"/>
          <a:ext cx="8501040" cy="3840480"/>
        </p:xfrm>
        <a:graphic>
          <a:graphicData uri="http://schemas.openxmlformats.org/drawingml/2006/table">
            <a:tbl>
              <a:tblPr/>
              <a:tblGrid>
                <a:gridCol w="3816360"/>
                <a:gridCol w="46846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ffix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ction/Explanati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buClr>
                          <a:srgbClr val="00008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-ment, - ness,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14440" indent="-514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- ion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job, doer </a:t>
                      </a:r>
                      <a:r>
                        <a:rPr b="0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) -phon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un or name of something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) </a:t>
                      </a:r>
                      <a:r>
                        <a:rPr b="0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-er , -or </a:t>
                      </a:r>
                      <a:r>
                        <a:rPr b="0" lang="en-US" sz="3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	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ound or audio </a:t>
                      </a:r>
                      <a:r>
                        <a:rPr b="0" lang="en-US" sz="3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	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Match the suffixes on the left to the explanation or function on the righ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57120" y="2357280"/>
          <a:ext cx="8501040" cy="2988000"/>
        </p:xfrm>
        <a:graphic>
          <a:graphicData uri="http://schemas.openxmlformats.org/drawingml/2006/table">
            <a:tbl>
              <a:tblPr/>
              <a:tblGrid>
                <a:gridCol w="3816360"/>
                <a:gridCol w="46846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ffix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ction/Explanati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buClr>
                          <a:srgbClr val="00008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-ment, - ness,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14440" indent="-514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- ion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un or name of something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) -phon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ound or audi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) </a:t>
                      </a:r>
                      <a:r>
                        <a:rPr b="0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-er , -or </a:t>
                      </a:r>
                      <a:r>
                        <a:rPr b="0" lang="en-US" sz="3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	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3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job, doer  </a:t>
                      </a:r>
                      <a:r>
                        <a:rPr b="0" lang="en-US" sz="3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	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sp>
        <p:nvSpPr>
          <p:cNvPr id="249" name="5 Flecha derecha"/>
          <p:cNvSpPr/>
          <p:nvPr/>
        </p:nvSpPr>
        <p:spPr>
          <a:xfrm>
            <a:off x="3929040" y="33577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6 Flecha derecha"/>
          <p:cNvSpPr/>
          <p:nvPr/>
        </p:nvSpPr>
        <p:spPr>
          <a:xfrm>
            <a:off x="3929040" y="4286160"/>
            <a:ext cx="500040" cy="21456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7 Flecha derecha"/>
          <p:cNvSpPr/>
          <p:nvPr/>
        </p:nvSpPr>
        <p:spPr>
          <a:xfrm>
            <a:off x="4000680" y="485784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write the sentences using prefixes or suffixes accordingl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28760" y="1571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ach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nglish at the Senior High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__________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d not understa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_________________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She was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orm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bout the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_____________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write the sentences using prefixes or suffixes accordingl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28760" y="1571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ach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nglish at the Senior High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He is 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ach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the Senior High Sch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d not understa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di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isunderstoo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indi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She was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orm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bout the mee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She received th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orm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bout the mee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42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n your own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ad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the following instructions out. Then rewrite them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85480" y="1599840"/>
            <a:ext cx="8643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K. We’re going to work in pairs for this next activity and I’d like you to stand up … oh, no, sorry. I’d like you to sit down first and then pick up your pens before you stand up. OK? 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OK? Everyone understan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me relevant terms to the field of edu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599840"/>
            <a:ext cx="39718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on pl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inuing professional develop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et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adli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edbac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up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or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g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edial te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lf assess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ndou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686800" cy="586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e can use the imperative on signs and notice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eak English in class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Don´t sharpen your pencil inside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Hand in your tasks  on Friday.</a:t>
            </a:r>
            <a:br>
              <a:rPr sz="7200"/>
            </a:b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e can make the imperative 'more polite' by adding 'do'. </a:t>
            </a:r>
            <a:br>
              <a:rPr sz="40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 be quiet.</a:t>
            </a:r>
            <a:br>
              <a:rPr sz="80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 come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 sit down.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1 Título"/>
          <p:cNvSpPr/>
          <p:nvPr/>
        </p:nvSpPr>
        <p:spPr>
          <a:xfrm>
            <a:off x="428760" y="785880"/>
            <a:ext cx="815796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imperative is also very common in written instructions. Be careful when you use the imperative, as it is often considered impolite in English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Close u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lose Up 14: 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anguage for Think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   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…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me a definition of a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would you define a…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can define/give me a definition of…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4T12:50:24Z</dcterms:created>
  <dc:creator>Garbey</dc:creator>
  <dc:description/>
  <dc:language>en-US</dc:language>
  <cp:lastModifiedBy>*</cp:lastModifiedBy>
  <dcterms:modified xsi:type="dcterms:W3CDTF">2013-11-03T17:53:40Z</dcterms:modified>
  <cp:revision>413</cp:revision>
  <dc:subject/>
  <dc:title>Negotiating a deal</dc:title>
</cp:coreProperties>
</file>