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62C7-28AF-4D1A-86E9-BD7DA5F1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165-E351-4A59-83DD-71C89791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B9A-E035-4949-B300-C73412B8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BF8-FB64-4584-8EAC-29A33236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A961-35EC-4894-BE43-A4FFEC45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B408-7B3C-4EF0-A19C-6DC5EF64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0F70-3E6E-40E0-AD8E-6326A6DD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1CCC-D797-4312-9EE0-65AD21EF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BEF8-E095-441A-A627-A04EF36D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DCC3-16BF-4C81-97E0-3310657C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E526-6661-4B36-91A3-E76F7127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7B4-930E-4479-81B7-EC2DC779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2865-8D6E-406B-8644-C6DA3A74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D13C-C5FA-4303-ADBD-3E28AA92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99CD-7CCC-4D1B-B81B-38E42724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0381-467F-4584-849D-396689FF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E0BC-BC84-492B-A76E-198D6F77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340-3EC2-43EE-848F-606EDD62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FFA-564D-4EC3-A13C-D24F2904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DCE-EDB0-422D-8405-050CFECD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3CB-74A4-49D1-8F8C-C377AC59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F14-37C1-4104-A79E-07DF06B8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E54-74F2-40D8-9575-86948CFB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DB0-999D-4CAA-AF6F-70992FEA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1D73-E37A-4F81-B7B7-CC640277E5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9E37-4798-4A8C-8F52-C88E695C85E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57160" y="12142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English for educational context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2 Marcador de texto"/>
          <p:cNvSpPr/>
          <p:nvPr/>
        </p:nvSpPr>
        <p:spPr>
          <a:xfrm>
            <a:off x="714240" y="37148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Isora Enríquez O’Farrill Ph D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   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assify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ould you classify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kinds of …are t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ho can classify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llustrating/Exemplify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n example of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me an example (of this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give me an example (of this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ke an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e give you an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   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ras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way/how is …different from 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…differ from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one/we/you distinguish …from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    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way is …similar to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imilarities are there/can you see between…and 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like …(in that/in so far as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similar to… (in that/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…are similar (in that/in so far as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    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iving rea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es/did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tell me why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/was the reason for t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me a reason for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  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dic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… will ha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ha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…happens, (then) … will ha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…happens, (then)… will ha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…happens, then …will ha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eans that…will ha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  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summarize (what we have said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ve we 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main points we have m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at we have said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let’s summar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   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pothesi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happen, if …happe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happen if…happen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could/might happen, if …happen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have happened, if …happen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…happens, …will (future, certa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… happens,… may/might/could happen  (future, possi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…happened, …would happen (future, possi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…had happened, …would have happened  (past, specula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sequence/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, after that, 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nt to make three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hree reason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ly, secondly, thirdly, fourthly…finally/las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, second, third, fourth…finally/l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57120" y="2286000"/>
            <a:ext cx="8358120" cy="2531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Use communication strategies for educational contex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1 Título"/>
          <p:cNvSpPr/>
          <p:nvPr/>
        </p:nvSpPr>
        <p:spPr>
          <a:xfrm>
            <a:off x="457200" y="142920"/>
            <a:ext cx="825804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versity for Al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glish IV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dule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d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nother th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3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posi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e put this another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way of putting this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ther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rawing conclusions/deduc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we/you/one conclude from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we/you conclude from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onclusions can we draw from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/we conclude from this tha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/we/one can conclud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can draw two conclusions from this…(firstly,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1 Título"/>
          <p:cNvSpPr/>
          <p:nvPr/>
        </p:nvSpPr>
        <p:spPr>
          <a:xfrm>
            <a:off x="1285920" y="1785960"/>
            <a:ext cx="67150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lect the most appropriate expression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14200" y="214200"/>
          <a:ext cx="8001000" cy="5500800"/>
        </p:xfrm>
        <a:graphic>
          <a:graphicData uri="http://schemas.openxmlformats.org/drawingml/2006/table">
            <a:tbl>
              <a:tblPr/>
              <a:tblGrid>
                <a:gridCol w="3429000"/>
                <a:gridCol w="2357640"/>
                <a:gridCol w="22143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ions  t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ck attendanc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gn homework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here are still two minutes to go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Who is absent toda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Do exercise 2 on page 5 for Monday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14200" y="214200"/>
          <a:ext cx="8001000" cy="5500800"/>
        </p:xfrm>
        <a:graphic>
          <a:graphicData uri="http://schemas.openxmlformats.org/drawingml/2006/table">
            <a:tbl>
              <a:tblPr/>
              <a:tblGrid>
                <a:gridCol w="3429000"/>
                <a:gridCol w="2357640"/>
                <a:gridCol w="22143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ions  t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ck attendanc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gn homework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here are still two minutes to go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Who is absent toda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Do exercise 2 on page 5 for Monday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207" name="2 Estrella de 4 puntas"/>
          <p:cNvSpPr/>
          <p:nvPr/>
        </p:nvSpPr>
        <p:spPr>
          <a:xfrm>
            <a:off x="4214880" y="27147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3 Estrella de 4 puntas"/>
          <p:cNvSpPr/>
          <p:nvPr/>
        </p:nvSpPr>
        <p:spPr>
          <a:xfrm>
            <a:off x="6429240" y="4500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214200" y="214200"/>
          <a:ext cx="8001000" cy="5913720"/>
        </p:xfrm>
        <a:graphic>
          <a:graphicData uri="http://schemas.openxmlformats.org/drawingml/2006/table">
            <a:tbl>
              <a:tblPr/>
              <a:tblGrid>
                <a:gridCol w="3429000"/>
                <a:gridCol w="2357640"/>
                <a:gridCol w="22143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ions  fo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t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iting to start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ow are things with you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et´s begin our less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ose your book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top talking and be quiet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ettle down now so we can start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14200" y="214200"/>
          <a:ext cx="8001000" cy="5913720"/>
        </p:xfrm>
        <a:graphic>
          <a:graphicData uri="http://schemas.openxmlformats.org/drawingml/2006/table">
            <a:tbl>
              <a:tblPr/>
              <a:tblGrid>
                <a:gridCol w="3429000"/>
                <a:gridCol w="2357640"/>
                <a:gridCol w="22143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ions  fo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t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iting to start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ow are things with you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et´s begin our less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ose your book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top talking and be quiet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ettle down now so we can start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sp>
        <p:nvSpPr>
          <p:cNvPr id="211" name="2 Estrella de 4 puntas"/>
          <p:cNvSpPr/>
          <p:nvPr/>
        </p:nvSpPr>
        <p:spPr>
          <a:xfrm>
            <a:off x="4286160" y="1428840"/>
            <a:ext cx="928800" cy="857160"/>
          </a:xfrm>
          <a:custGeom>
            <a:avLst/>
            <a:gdLst>
              <a:gd name="textAreaLeft" fmla="*/ 382680 w 928800"/>
              <a:gd name="textAreaRight" fmla="*/ 546120 w 928800"/>
              <a:gd name="textAreaTop" fmla="*/ 353160 h 857160"/>
              <a:gd name="textAreaBottom" fmla="*/ 50400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3 Estrella de 4 puntas"/>
          <p:cNvSpPr/>
          <p:nvPr/>
        </p:nvSpPr>
        <p:spPr>
          <a:xfrm>
            <a:off x="6643800" y="5214960"/>
            <a:ext cx="771480" cy="642960"/>
          </a:xfrm>
          <a:custGeom>
            <a:avLst/>
            <a:gdLst>
              <a:gd name="textAreaLeft" fmla="*/ 317880 w 771480"/>
              <a:gd name="textAreaRight" fmla="*/ 453600 w 771480"/>
              <a:gd name="textAreaTop" fmla="*/ 264960 h 642960"/>
              <a:gd name="textAreaBottom" fmla="*/ 3780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5 Estrella de 4 puntas"/>
          <p:cNvSpPr/>
          <p:nvPr/>
        </p:nvSpPr>
        <p:spPr>
          <a:xfrm>
            <a:off x="6429240" y="4143240"/>
            <a:ext cx="785880" cy="843120"/>
          </a:xfrm>
          <a:custGeom>
            <a:avLst/>
            <a:gdLst>
              <a:gd name="textAreaLeft" fmla="*/ 323640 w 785880"/>
              <a:gd name="textAreaRight" fmla="*/ 462240 w 785880"/>
              <a:gd name="textAreaTop" fmla="*/ 347400 h 843120"/>
              <a:gd name="textAreaBottom" fmla="*/ 495720 h 843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mplete using the most apropriate expressio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fessional Profi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8543880" cy="37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cher: _____ up! The bell is about to ring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't hurry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rry up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rry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udent: I´m sorry for being la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8543880" cy="37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cher: _____ up! You have plenty of time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't hurry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rry up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rry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udent: What a relief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680" y="142848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cher: _____ your books. We'll need them in class today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get no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't forge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ge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udent: Thanks for remind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8429400" cy="37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: _____ . I can't hear you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ak loud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n´t speak loud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ak slowly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: Yes, I wil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5840" y="21427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: _____. Most students have not finished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you quie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 quie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 you quie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: Oh, I apologiz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5480" y="999720"/>
            <a:ext cx="835812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_____ your homework. I need to check it right now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 not show m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ow m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e it is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s.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5712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ossible answer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6760" y="1277640"/>
            <a:ext cx="8543880" cy="37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: 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Hurry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p! The bell is about to ring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: I'm sorry for being late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56760" y="991800"/>
            <a:ext cx="8543880" cy="37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: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on't hurry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p! You have plenty of time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: What a relief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680" y="142848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: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on't forget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your books. We'll need them in class toda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. Thanks for remind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ps for giving instructions in clas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599840"/>
            <a:ext cx="847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 how you’re going to give the instructions before you go into the class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that you use the language the students can underst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that your instructions are clear and  fully explic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8429400" cy="37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: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peak loude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 I can't hear you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: Yes, I wil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5840" y="21427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: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 quie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 Most students have not finished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: Oh, I apologiz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5840" y="164304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cher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ow m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homework. I need to check it right now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udent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ere it is.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acher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hanks.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6840" y="1599840"/>
            <a:ext cx="847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have you be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, you have been talking all along the lesson, please, _____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ok at the list on page 10 to complete the conversation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ent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you check this for 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_______, please. I am explaining the task to another student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r: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ent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on´t get it very well. __________ again, ple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tainl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sible answer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6840" y="1599840"/>
            <a:ext cx="847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acher: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have you b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udent: I have been sic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acher: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, you have been talking all along the lesson, please,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e quiet/ shut up/ stop talking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ok at the list on page 10 to complete the conversation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7168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udent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 you check this for m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ache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Just a moment/ hang on a mo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please. I am explaining the task to another student.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7168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acher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you with me?/ Do you understan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udent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don´t get it very well. Can you say it again again, plea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acher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rtainly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1 Título"/>
          <p:cNvSpPr/>
          <p:nvPr/>
        </p:nvSpPr>
        <p:spPr>
          <a:xfrm>
            <a:off x="357120" y="642960"/>
            <a:ext cx="81583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imperative is also very common in written instructions. Be careful when you use the imperative, as it is often considered impolite in English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5480" y="499680"/>
            <a:ext cx="842940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 can use the imperative to give a direct order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Stand up.</a:t>
            </a:r>
            <a:br>
              <a:rPr sz="3600"/>
            </a:b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 can use the imperative to give instructions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Open your book. </a:t>
            </a:r>
            <a:br>
              <a:rPr sz="3600"/>
            </a:br>
            <a:br>
              <a:rPr sz="3600"/>
            </a:br>
            <a:br>
              <a:rPr sz="8000"/>
            </a:br>
            <a:br>
              <a:rPr sz="80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ch the words in A with the general  meaning in 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57120" y="1616040"/>
          <a:ext cx="8501040" cy="4267080"/>
        </p:xfrm>
        <a:graphic>
          <a:graphicData uri="http://schemas.openxmlformats.org/drawingml/2006/table">
            <a:tbl>
              <a:tblPr/>
              <a:tblGrid>
                <a:gridCol w="3816360"/>
                <a:gridCol w="4684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 mean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) re read, rewrite, rephrase, restart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befor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) preview, pre test, pre read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badly or wro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) misread, misunderstand, misbehave, mistak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gain, b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ch the words in A with the general  meaning in 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57120" y="1616040"/>
          <a:ext cx="8501040" cy="4267080"/>
        </p:xfrm>
        <a:graphic>
          <a:graphicData uri="http://schemas.openxmlformats.org/drawingml/2006/table">
            <a:tbl>
              <a:tblPr/>
              <a:tblGrid>
                <a:gridCol w="3816360"/>
                <a:gridCol w="4684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 mean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) reread, rewrite, rephrase, restart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gain, back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) preview, pre test, pre read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befor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) misread, misunderstand, misbehave, mistak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badly or wro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sp>
        <p:nvSpPr>
          <p:cNvPr id="242" name="5 Flecha derecha"/>
          <p:cNvSpPr/>
          <p:nvPr/>
        </p:nvSpPr>
        <p:spPr>
          <a:xfrm>
            <a:off x="3643200" y="27860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6 Flecha derecha"/>
          <p:cNvSpPr/>
          <p:nvPr/>
        </p:nvSpPr>
        <p:spPr>
          <a:xfrm>
            <a:off x="3714840" y="385776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7 Flecha derecha"/>
          <p:cNvSpPr/>
          <p:nvPr/>
        </p:nvSpPr>
        <p:spPr>
          <a:xfrm>
            <a:off x="3643200" y="457200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Match the suffixes on the left to the explanation or function on the r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57120" y="2357280"/>
          <a:ext cx="8501040" cy="3840480"/>
        </p:xfrm>
        <a:graphic>
          <a:graphicData uri="http://schemas.openxmlformats.org/drawingml/2006/table">
            <a:tbl>
              <a:tblPr/>
              <a:tblGrid>
                <a:gridCol w="3816360"/>
                <a:gridCol w="4684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ffi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/Explanat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0008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ment, - ness,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14440" indent="-514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 io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ob, doer </a:t>
                      </a: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) -pho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un or name of someth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) </a:t>
                      </a: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er , -or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ound or audio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Match the suffixes on the left to the explanation or function on the r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57120" y="2357280"/>
          <a:ext cx="8501040" cy="2988000"/>
        </p:xfrm>
        <a:graphic>
          <a:graphicData uri="http://schemas.openxmlformats.org/drawingml/2006/table">
            <a:tbl>
              <a:tblPr/>
              <a:tblGrid>
                <a:gridCol w="3816360"/>
                <a:gridCol w="4684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ffi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/Explanat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0008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ment, - ness,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14440" indent="-514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 io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un or name of something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) -pho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ound or audi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) </a:t>
                      </a: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er , -or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ob, doer 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sp>
        <p:nvSpPr>
          <p:cNvPr id="249" name="5 Flecha derecha"/>
          <p:cNvSpPr/>
          <p:nvPr/>
        </p:nvSpPr>
        <p:spPr>
          <a:xfrm>
            <a:off x="3929040" y="3357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6 Flecha derecha"/>
          <p:cNvSpPr/>
          <p:nvPr/>
        </p:nvSpPr>
        <p:spPr>
          <a:xfrm>
            <a:off x="3929040" y="428616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7 Flecha derecha"/>
          <p:cNvSpPr/>
          <p:nvPr/>
        </p:nvSpPr>
        <p:spPr>
          <a:xfrm>
            <a:off x="4000680" y="4857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write the sentences using prefixes or suffixes according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glish at the Senior High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d not underst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____________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She wa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out the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write the sentences using prefixes or suffixes according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2876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glish at the Senior High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He is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e Senior High Sch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d not underst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d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sunderstoo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ind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She wa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out the me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She received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out the me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n your ow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d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the following instructions out. Then rewrite them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85480" y="1599840"/>
            <a:ext cx="8643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K. We’re going to work in pairs for this next activity and I’d like you to stand up … oh, no, sorry. I’d like you to sit down first and then pick up your pens before you stand up. OK?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OK? Everyone understan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relevant terms to the field of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599840"/>
            <a:ext cx="39718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on pl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inuing professional develop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e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adl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edbac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up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o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edial t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f assess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ndou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686800" cy="586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 can use the imperative on signs and notic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ak English in class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Don´t sharpen your pencil inside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Hand in your tasks  on Friday.</a:t>
            </a:r>
            <a:br>
              <a:rPr sz="7200"/>
            </a:b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 can make the imperative 'more polite' by adding 'do'. </a:t>
            </a:r>
            <a:br>
              <a:rPr sz="4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 be quiet.</a:t>
            </a:r>
            <a:br>
              <a:rPr sz="8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come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sit down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1 Título"/>
          <p:cNvSpPr/>
          <p:nvPr/>
        </p:nvSpPr>
        <p:spPr>
          <a:xfrm>
            <a:off x="428760" y="785880"/>
            <a:ext cx="81579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imperative is also very common in written instructions. Be careful when you use the imperative, as it is often considered impolite in English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lose 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lose Up 14: 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anguage for Think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  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me a definition of a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ould you define a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define/give me a definition of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2:50:24Z</dcterms:created>
  <dc:creator>Garbey</dc:creator>
  <dc:description/>
  <dc:language>en-US</dc:language>
  <cp:lastModifiedBy>*</cp:lastModifiedBy>
  <dcterms:modified xsi:type="dcterms:W3CDTF">2013-11-03T17:53:40Z</dcterms:modified>
  <cp:revision>413</cp:revision>
  <dc:subject/>
  <dc:title>Negotiating a deal</dc:title>
</cp:coreProperties>
</file>