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0.wmf" ContentType="image/x-wmf"/>
  <Override PartName="/ppt/media/image32.jpeg" ContentType="image/jpeg"/>
  <Override PartName="/ppt/media/image22.wmf" ContentType="image/x-wmf"/>
  <Override PartName="/ppt/media/image19.png" ContentType="image/png"/>
  <Override PartName="/ppt/media/image26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23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media/image25.gif" ContentType="image/gif"/>
  <Override PartName="/ppt/media/image13.jpeg" ContentType="image/jpeg"/>
  <Override PartName="/ppt/media/image31.jpeg" ContentType="image/jpeg"/>
  <Override PartName="/ppt/media/image2.png" ContentType="image/png"/>
  <Override PartName="/ppt/media/image33.jpeg" ContentType="image/jpeg"/>
  <Override PartName="/ppt/media/image27.jpeg" ContentType="image/jpeg"/>
  <Override PartName="/ppt/media/image28.wmf" ContentType="image/x-wmf"/>
  <Override PartName="/ppt/media/image6.wmf" ContentType="image/x-wmf"/>
  <Override PartName="/ppt/media/image34.jpeg" ContentType="image/jpeg"/>
  <Override PartName="/ppt/media/image4.wmf" ContentType="image/x-wmf"/>
  <Override PartName="/ppt/media/image3.png" ContentType="image/png"/>
  <Override PartName="/ppt/media/image17.jpeg" ContentType="image/jpeg"/>
  <Override PartName="/ppt/media/image29.wmf" ContentType="image/x-wmf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15.jpeg" ContentType="image/jpeg"/>
  <Override PartName="/ppt/media/image35.wmf" ContentType="image/x-wmf"/>
  <Override PartName="/ppt/media/image5.wmf" ContentType="image/x-wmf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5BE-76A4-4C2E-83BB-D3D0BE3D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0C5-19A7-4FD2-9545-D66D68BE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8D5-867D-483D-850F-8B1620F4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5D1-9B8D-405C-901F-32C11223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A54E-B8CE-4A30-8ACB-F23CBA1F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6C34-1AE7-41EF-8622-AF161540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3CAE-0C68-4B20-A40E-C3EB54B8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455D-5202-4621-908B-5633CF9E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3FB7-CDA2-42F7-AF7F-86467C23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B6A8-223F-4A34-BD88-240A0ACB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3E56-5E8E-46D0-BA36-C041DD6C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1C5-E840-454B-95C8-EEF397E6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753B-0333-40A2-9A32-B7ECD80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AED2-9A73-4D8E-A51B-3266E12A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AA37-1957-42F6-98D3-764D599A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3F6E-3853-41CB-AB0E-5EB60346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1AC2-5E58-4979-AE91-97A940B0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D9C-4BF7-4FD4-B3FC-FCE4B0CD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463E-1875-4E62-8EF3-9FBF25A7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EA2-BE62-48E2-8C55-355EAEAD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47E-5358-4C9F-A324-11D8E13B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B35-122B-4977-AEA7-F04BE8F8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029-E776-4602-87FD-E2AD0215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45B-04F4-4B69-B233-ED884F69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CA2F-CEEB-4B05-BD48-F9FC029A67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B41F-CA70-4F24-A0B7-356F1D93882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j0237627"/>
          <p:cNvPicPr/>
          <p:nvPr/>
        </p:nvPicPr>
        <p:blipFill>
          <a:blip r:embed="rId1"/>
          <a:stretch/>
        </p:blipFill>
        <p:spPr>
          <a:xfrm>
            <a:off x="0" y="4941720"/>
            <a:ext cx="2050920" cy="191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j0215356"/>
          <p:cNvPicPr/>
          <p:nvPr/>
        </p:nvPicPr>
        <p:blipFill>
          <a:blip r:embed="rId2"/>
          <a:stretch/>
        </p:blipFill>
        <p:spPr>
          <a:xfrm>
            <a:off x="5580000" y="371520"/>
            <a:ext cx="3384720" cy="23367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258920" y="234936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Reviewing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68360" y="3933720"/>
            <a:ext cx="82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Prof. Isora Enríquez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´Farrill Ph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j0289528"/>
          <p:cNvPicPr/>
          <p:nvPr/>
        </p:nvPicPr>
        <p:blipFill>
          <a:blip r:embed="rId1"/>
          <a:srcRect l="42817" t="0" r="4429" b="-120079"/>
          <a:stretch/>
        </p:blipFill>
        <p:spPr>
          <a:xfrm>
            <a:off x="0" y="4221000"/>
            <a:ext cx="2571840" cy="992376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3"/>
          <p:cNvSpPr/>
          <p:nvPr/>
        </p:nvSpPr>
        <p:spPr>
          <a:xfrm>
            <a:off x="2808360" y="404640"/>
            <a:ext cx="6335640" cy="4462560"/>
          </a:xfrm>
          <a:prstGeom prst="cloudCallout">
            <a:avLst>
              <a:gd name="adj1" fmla="val -43837"/>
              <a:gd name="adj2" fmla="val 74546"/>
            </a:avLst>
          </a:prstGeom>
          <a:gradFill rotWithShape="0">
            <a:gsLst>
              <a:gs pos="0">
                <a:srgbClr val="bbbbd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2916360" y="2924280"/>
            <a:ext cx="6227640" cy="3554280"/>
          </a:xfrm>
          <a:prstGeom prst="cloudCallout">
            <a:avLst>
              <a:gd name="adj1" fmla="val -5925"/>
              <a:gd name="adj2" fmla="val 39592"/>
            </a:avLst>
          </a:prstGeom>
          <a:gradFill rotWithShape="0">
            <a:gsLst>
              <a:gs pos="0">
                <a:srgbClr val="bbbbd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j0289525"/>
          <p:cNvPicPr/>
          <p:nvPr/>
        </p:nvPicPr>
        <p:blipFill>
          <a:blip r:embed="rId2"/>
          <a:stretch/>
        </p:blipFill>
        <p:spPr>
          <a:xfrm>
            <a:off x="5653080" y="98100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j0202100"/>
          <p:cNvPicPr/>
          <p:nvPr/>
        </p:nvPicPr>
        <p:blipFill>
          <a:blip r:embed="rId3"/>
          <a:stretch/>
        </p:blipFill>
        <p:spPr>
          <a:xfrm>
            <a:off x="6300720" y="3500280"/>
            <a:ext cx="2097000" cy="2214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j0289528"/>
          <p:cNvPicPr/>
          <p:nvPr/>
        </p:nvPicPr>
        <p:blipFill>
          <a:blip r:embed="rId4"/>
          <a:stretch/>
        </p:blipFill>
        <p:spPr>
          <a:xfrm>
            <a:off x="3564000" y="2421000"/>
            <a:ext cx="1977840" cy="23032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2700360" y="5084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Times New Roman"/>
              </a:rPr>
              <a:t>In the evening I  rea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68360" y="169236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Times New Roman"/>
              </a:rPr>
              <a:t>In the morning I work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J0178687"/>
          <p:cNvPicPr/>
          <p:nvPr/>
        </p:nvPicPr>
        <p:blipFill>
          <a:blip r:embed="rId1"/>
          <a:stretch/>
        </p:blipFill>
        <p:spPr>
          <a:xfrm>
            <a:off x="0" y="4941720"/>
            <a:ext cx="2556000" cy="1916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J0182790"/>
          <p:cNvPicPr/>
          <p:nvPr/>
        </p:nvPicPr>
        <p:blipFill>
          <a:blip r:embed="rId2"/>
          <a:stretch/>
        </p:blipFill>
        <p:spPr>
          <a:xfrm>
            <a:off x="2556000" y="4941720"/>
            <a:ext cx="3600360" cy="1916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J0182793"/>
          <p:cNvPicPr/>
          <p:nvPr/>
        </p:nvPicPr>
        <p:blipFill>
          <a:blip r:embed="rId3"/>
          <a:stretch/>
        </p:blipFill>
        <p:spPr>
          <a:xfrm>
            <a:off x="6084720" y="4932360"/>
            <a:ext cx="3059280" cy="1925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J0182794"/>
          <p:cNvPicPr/>
          <p:nvPr/>
        </p:nvPicPr>
        <p:blipFill>
          <a:blip r:embed="rId4"/>
          <a:stretch/>
        </p:blipFill>
        <p:spPr>
          <a:xfrm>
            <a:off x="5867280" y="0"/>
            <a:ext cx="3276720" cy="49417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0" y="0"/>
            <a:ext cx="5867280" cy="91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What does she d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34920" y="3213000"/>
            <a:ext cx="583236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is she do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50920" y="1989000"/>
            <a:ext cx="88930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refers  to past  habits or things that do not happen any mor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used  to sleep for long hours. (I do not do it any more)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2050920" cy="21337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3419640" y="26028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Used  to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Villa Clara 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287280" y="404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5400" spc="-1" strike="noStrike">
                <a:solidFill>
                  <a:srgbClr val="080808"/>
                </a:solidFill>
                <a:latin typeface="Times New Roman"/>
              </a:rPr>
              <a:t>When  I  was  a  child  I </a:t>
            </a:r>
            <a:r>
              <a:rPr b="0" i="1" lang="es-ES" sz="5400" spc="-1" strike="noStrike" u="sng">
                <a:solidFill>
                  <a:srgbClr val="080808"/>
                </a:solidFill>
                <a:uFillTx/>
                <a:latin typeface="Times New Roman"/>
              </a:rPr>
              <a:t> </a:t>
            </a:r>
            <a:r>
              <a:rPr b="1" i="1" lang="es-ES" sz="5400" spc="-1" strike="noStrike" u="sng">
                <a:solidFill>
                  <a:srgbClr val="080808"/>
                </a:solidFill>
                <a:uFillTx/>
                <a:latin typeface="Times New Roman"/>
              </a:rPr>
              <a:t>used</a:t>
            </a:r>
            <a:r>
              <a:rPr b="1" i="1" lang="es-ES" sz="5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i="1" lang="es-ES" sz="5400" spc="-1" strike="noStrike" u="sng">
                <a:solidFill>
                  <a:srgbClr val="080808"/>
                </a:solidFill>
                <a:uFillTx/>
                <a:latin typeface="Times New Roman"/>
              </a:rPr>
              <a:t>to</a:t>
            </a:r>
            <a:r>
              <a:rPr b="0" i="1" lang="es-ES" sz="5400" spc="-1" strike="noStrike">
                <a:solidFill>
                  <a:srgbClr val="080808"/>
                </a:solidFill>
                <a:latin typeface="Times New Roman"/>
              </a:rPr>
              <a:t>  live  in  the   countrysid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1258920" y="2997360"/>
            <a:ext cx="587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343480" y="546084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79200" y="2708280"/>
            <a:ext cx="906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00"/>
                </a:solidFill>
                <a:latin typeface="Times New Roman"/>
              </a:rPr>
              <a:t>Now, I  live in  a beautiful city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539640" y="54936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A: What did George  use to do when he  was you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95280" y="3933720"/>
            <a:ext cx="81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B: He  used to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j0344838"/>
          <p:cNvPicPr/>
          <p:nvPr/>
        </p:nvPicPr>
        <p:blipFill>
          <a:blip r:embed="rId1"/>
          <a:stretch/>
        </p:blipFill>
        <p:spPr>
          <a:xfrm>
            <a:off x="1042920" y="1052640"/>
            <a:ext cx="1656000" cy="165708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3"/>
          <p:cNvSpPr/>
          <p:nvPr/>
        </p:nvSpPr>
        <p:spPr>
          <a:xfrm>
            <a:off x="250920" y="0"/>
            <a:ext cx="5472000" cy="5300640"/>
          </a:xfrm>
          <a:prstGeom prst="cloudCallout">
            <a:avLst>
              <a:gd name="adj1" fmla="val 62356"/>
              <a:gd name="adj2" fmla="val 325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300720" y="227664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Georg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j0303468"/>
          <p:cNvPicPr/>
          <p:nvPr/>
        </p:nvPicPr>
        <p:blipFill>
          <a:blip r:embed="rId2"/>
          <a:stretch/>
        </p:blipFill>
        <p:spPr>
          <a:xfrm>
            <a:off x="3995640" y="119700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PE02634_"/>
          <p:cNvPicPr/>
          <p:nvPr/>
        </p:nvPicPr>
        <p:blipFill>
          <a:blip r:embed="rId3"/>
          <a:stretch/>
        </p:blipFill>
        <p:spPr>
          <a:xfrm>
            <a:off x="6516720" y="3716280"/>
            <a:ext cx="2627280" cy="295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PE02655_"/>
          <p:cNvPicPr/>
          <p:nvPr/>
        </p:nvPicPr>
        <p:blipFill>
          <a:blip r:embed="rId4"/>
          <a:stretch/>
        </p:blipFill>
        <p:spPr>
          <a:xfrm>
            <a:off x="2916360" y="2565360"/>
            <a:ext cx="2016000" cy="1765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j0300493"/>
          <p:cNvPicPr/>
          <p:nvPr/>
        </p:nvPicPr>
        <p:blipFill>
          <a:blip r:embed="rId5"/>
          <a:stretch/>
        </p:blipFill>
        <p:spPr>
          <a:xfrm>
            <a:off x="2484360" y="620640"/>
            <a:ext cx="1400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79280" y="2616120"/>
            <a:ext cx="88203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o speak about future plans and intention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en there’s evidence that something will definitely happ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2196000" y="692280"/>
            <a:ext cx="61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Be+going to is used 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68360" y="2436840"/>
            <a:ext cx="8424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make prediction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make on-the-spot decision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2195640" y="40464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Will is used  to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468360" y="243684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speak  about actions started in the past and which are relevant in the present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2195640" y="40464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The present perfect is used  to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j0293466"/>
          <p:cNvPicPr/>
          <p:nvPr/>
        </p:nvPicPr>
        <p:blipFill>
          <a:blip r:embed="rId1"/>
          <a:stretch/>
        </p:blipFill>
        <p:spPr>
          <a:xfrm>
            <a:off x="133200" y="44280"/>
            <a:ext cx="2422800" cy="25196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2556000" y="476280"/>
            <a:ext cx="65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We use the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talk about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95280" y="2708280"/>
            <a:ext cx="8748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permanent states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repeated actions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daily routines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79280" y="333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When we use reported speech, verbs are usually change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" descr="j0303436"/>
          <p:cNvPicPr/>
          <p:nvPr/>
        </p:nvPicPr>
        <p:blipFill>
          <a:blip r:embed="rId1"/>
          <a:stretch/>
        </p:blipFill>
        <p:spPr>
          <a:xfrm>
            <a:off x="1476360" y="2808360"/>
            <a:ext cx="633564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>
            <a:off x="4427640" y="1125360"/>
            <a:ext cx="79200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"/>
          <p:cNvSpPr/>
          <p:nvPr/>
        </p:nvSpPr>
        <p:spPr>
          <a:xfrm>
            <a:off x="2268360" y="2492280"/>
            <a:ext cx="0" cy="936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71280" y="3573360"/>
            <a:ext cx="42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s-MX" sz="6000" spc="-1" strike="noStrike" u="sng">
                <a:solidFill>
                  <a:srgbClr val="ffffff"/>
                </a:solidFill>
                <a:uFillTx/>
                <a:latin typeface="Times New Roman"/>
              </a:rPr>
              <a:t>am</a:t>
            </a: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 happ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4067280" y="4149720"/>
            <a:ext cx="93636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040360" y="3546360"/>
            <a:ext cx="42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She said (that) she </a:t>
            </a:r>
            <a:r>
              <a:rPr b="1" i="1" lang="es-MX" sz="6000" spc="-1" strike="noStrike" u="sng">
                <a:solidFill>
                  <a:srgbClr val="ffffff"/>
                </a:solidFill>
                <a:uFillTx/>
                <a:latin typeface="Times New Roman"/>
              </a:rPr>
              <a:t>was</a:t>
            </a: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 happ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71280" y="260280"/>
            <a:ext cx="4284720" cy="2016360"/>
          </a:xfrm>
          <a:prstGeom prst="rect">
            <a:avLst/>
          </a:prstGeom>
          <a:gradFill rotWithShape="0">
            <a:gsLst>
              <a:gs pos="0">
                <a:srgbClr val="aeb4f0">
                  <a:alpha val="50196"/>
                </a:srgbClr>
              </a:gs>
              <a:gs pos="100000">
                <a:srgbClr val="51536f">
                  <a:alpha val="50196"/>
                </a:srgbClr>
              </a:gs>
            </a:gsLst>
            <a:lin ang="5400000"/>
          </a:gra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292720" y="293760"/>
            <a:ext cx="3564000" cy="2448000"/>
          </a:xfrm>
          <a:prstGeom prst="rect">
            <a:avLst/>
          </a:prstGeom>
          <a:gradFill rotWithShape="0">
            <a:gsLst>
              <a:gs pos="0">
                <a:srgbClr val="aeb4f0">
                  <a:alpha val="50196"/>
                </a:srgbClr>
              </a:gs>
              <a:gs pos="100000">
                <a:srgbClr val="51536f">
                  <a:alpha val="50196"/>
                </a:srgbClr>
              </a:gs>
            </a:gsLst>
            <a:lin ang="5400000"/>
          </a:gra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4920" y="2840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Direct speech (present tens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5292720" y="189000"/>
            <a:ext cx="385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Reported speech           (past tens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1547640" y="4653000"/>
            <a:ext cx="3311640" cy="1368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j0178830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j0178531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5"/>
          <p:cNvSpPr/>
          <p:nvPr/>
        </p:nvSpPr>
        <p:spPr>
          <a:xfrm>
            <a:off x="900000" y="5084640"/>
            <a:ext cx="5940360" cy="1773360"/>
          </a:xfrm>
          <a:prstGeom prst="wedgeEllipseCallout">
            <a:avLst>
              <a:gd name="adj1" fmla="val 44361"/>
              <a:gd name="adj2" fmla="val -209893"/>
            </a:avLst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258920" y="544500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What did she say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324000" y="260280"/>
          <a:ext cx="8569080" cy="631188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1224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44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3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6"/>
          <p:cNvSpPr/>
          <p:nvPr/>
        </p:nvSpPr>
        <p:spPr>
          <a:xfrm>
            <a:off x="395280" y="40464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Direct spee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4572000" y="4446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ff00"/>
                </a:solidFill>
                <a:latin typeface="Times New Roman"/>
              </a:rPr>
              <a:t>Reported spee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8"/>
          <p:cNvSpPr/>
          <p:nvPr/>
        </p:nvSpPr>
        <p:spPr>
          <a:xfrm>
            <a:off x="324000" y="1413000"/>
            <a:ext cx="44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My sister speaks Italian very well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4608360" y="1341360"/>
            <a:ext cx="45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ffff"/>
                </a:solidFill>
                <a:latin typeface="Times New Roman"/>
              </a:rPr>
              <a:t>Lilian said that her sister spoke Italian very we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395280" y="457200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I have a nice do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572000" y="3933720"/>
            <a:ext cx="43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Richard said he had a nice do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684360" y="189000"/>
            <a:ext cx="8351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The simple past can usually stay the same in reported speech, or you can change it to the past perfec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971640" y="333360"/>
            <a:ext cx="7777080" cy="4535640"/>
          </a:xfrm>
          <a:prstGeom prst="wedgeRoundRectCallout">
            <a:avLst>
              <a:gd name="adj1" fmla="val -38138"/>
              <a:gd name="adj2" fmla="val 59134"/>
              <a:gd name="adj3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j0297523"/>
          <p:cNvPicPr/>
          <p:nvPr/>
        </p:nvPicPr>
        <p:blipFill>
          <a:blip r:embed="rId1"/>
          <a:stretch/>
        </p:blipFill>
        <p:spPr>
          <a:xfrm>
            <a:off x="0" y="4005360"/>
            <a:ext cx="183528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08000" y="18900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Direct speech (present perfect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5219640" y="115920"/>
            <a:ext cx="39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Reported speech    (past perfect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08000" y="2781360"/>
            <a:ext cx="432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Times New Roman"/>
              </a:rPr>
              <a:t>Ann </a:t>
            </a:r>
            <a:r>
              <a:rPr b="1" i="1" lang="es-ES" sz="4800" spc="-1" strike="noStrike" u="sng">
                <a:solidFill>
                  <a:srgbClr val="ffffff"/>
                </a:solidFill>
                <a:uFillTx/>
                <a:latin typeface="Times New Roman"/>
              </a:rPr>
              <a:t>has bought</a:t>
            </a:r>
            <a:r>
              <a:rPr b="1" i="1" lang="es-ES" sz="4800" spc="-1" strike="noStrike">
                <a:solidFill>
                  <a:srgbClr val="ffffff"/>
                </a:solidFill>
                <a:latin typeface="Times New Roman"/>
              </a:rPr>
              <a:t> an interesting book at the International Book Fa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4284720" y="3133800"/>
            <a:ext cx="496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Times New Roman"/>
              </a:rPr>
              <a:t>She said that Ann </a:t>
            </a:r>
            <a:r>
              <a:rPr b="1" i="1" lang="es-ES" sz="4800" spc="-1" strike="noStrike" u="sng">
                <a:solidFill>
                  <a:srgbClr val="ffffff"/>
                </a:solidFill>
                <a:uFillTx/>
                <a:latin typeface="Times New Roman"/>
              </a:rPr>
              <a:t>had bought</a:t>
            </a:r>
            <a:r>
              <a:rPr b="1" i="1" lang="es-ES" sz="4800" spc="-1" strike="noStrike">
                <a:solidFill>
                  <a:srgbClr val="ffffff"/>
                </a:solidFill>
                <a:latin typeface="Times New Roman"/>
              </a:rPr>
              <a:t> an interesting book at the International Book Fa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42920" y="333360"/>
            <a:ext cx="4716360" cy="165564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5148360" y="333360"/>
            <a:ext cx="3816360" cy="244800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8"/>
          <p:cNvSpPr/>
          <p:nvPr/>
        </p:nvSpPr>
        <p:spPr>
          <a:xfrm>
            <a:off x="2268360" y="213372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7093080" y="2781360"/>
            <a:ext cx="0" cy="431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780000" y="3645000"/>
            <a:ext cx="431640" cy="72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6360" y="177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Richard:</a:t>
            </a: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 I am very busy now. I have to study with Jessica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36360" y="38606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Mike:</a:t>
            </a: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 Richard said that he ___ too busy because he ___ to study with Jessica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79280" y="260280"/>
            <a:ext cx="8820360" cy="1152720"/>
          </a:xfrm>
          <a:prstGeom prst="rect">
            <a:avLst/>
          </a:prstGeom>
          <a:gradFill rotWithShape="0">
            <a:gsLst>
              <a:gs pos="0">
                <a:srgbClr val="634c73"/>
              </a:gs>
              <a:gs pos="50000">
                <a:srgbClr val="d5a5f9"/>
              </a:gs>
              <a:gs pos="100000">
                <a:srgbClr val="634c73"/>
              </a:gs>
            </a:gsLst>
            <a:lin ang="27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252360" y="3333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Complet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7740720" y="388296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5796000" y="47242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00"/>
                </a:solidFill>
                <a:latin typeface="Times New Roman"/>
              </a:rPr>
              <a:t>h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mph" presetID="36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6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0" y="260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66"/>
                </a:solidFill>
                <a:latin typeface="Times New Roman"/>
              </a:rPr>
              <a:t>Pass to the reported speech what Liu said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52360" y="2371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d5a5f9"/>
                </a:solidFill>
                <a:latin typeface="Times New Roman"/>
              </a:rPr>
              <a:t>Liu</a:t>
            </a:r>
            <a:r>
              <a:rPr b="1" i="1" lang="es-MX" sz="60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My father is in the hospita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79280" y="4510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d5a5f9"/>
                </a:solidFill>
                <a:latin typeface="Times New Roman"/>
              </a:rPr>
              <a:t>Ray</a:t>
            </a:r>
            <a:r>
              <a:rPr b="1" i="1" lang="es-MX" sz="6000" spc="-1" strike="noStrike">
                <a:solidFill>
                  <a:srgbClr val="000099"/>
                </a:solidFill>
                <a:latin typeface="Times New Roman"/>
              </a:rPr>
              <a:t>:_______________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908000" y="4554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Liu said that her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501120" y="5591160"/>
            <a:ext cx="833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99"/>
                </a:solidFill>
                <a:latin typeface="Times New Roman"/>
              </a:rPr>
              <a:t>father was in the hospita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468360" y="558972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_____________________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0" y="260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66"/>
                </a:solidFill>
                <a:latin typeface="Times New Roman"/>
              </a:rPr>
              <a:t>Pass to the reported speech what Liu said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52360" y="2371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d5a5f9"/>
                </a:solidFill>
                <a:latin typeface="Times New Roman"/>
              </a:rPr>
              <a:t>Liu</a:t>
            </a:r>
            <a:r>
              <a:rPr b="1" i="1" lang="es-MX" sz="5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My father is in the hospital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79280" y="4508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d5a5f9"/>
                </a:solidFill>
                <a:latin typeface="Times New Roman"/>
              </a:rPr>
              <a:t>Ray</a:t>
            </a:r>
            <a:r>
              <a:rPr b="1" i="1" lang="es-MX" sz="6000" spc="-1" strike="noStrike">
                <a:solidFill>
                  <a:srgbClr val="000099"/>
                </a:solidFill>
                <a:latin typeface="Times New Roman"/>
              </a:rPr>
              <a:t>:_______________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692360" y="4437000"/>
            <a:ext cx="72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Liu said that her father is in the hospital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j0231075"/>
          <p:cNvPicPr/>
          <p:nvPr/>
        </p:nvPicPr>
        <p:blipFill>
          <a:blip r:embed="rId1"/>
          <a:stretch/>
        </p:blipFill>
        <p:spPr>
          <a:xfrm>
            <a:off x="5148360" y="0"/>
            <a:ext cx="4032000" cy="70293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79280" y="290520"/>
            <a:ext cx="4859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ffff"/>
                </a:solidFill>
                <a:latin typeface="Times New Roman"/>
              </a:rPr>
              <a:t>My name is William. I live in Camag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ey. I have two children, a boy and a girl. I am an English teacher and I love my professio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08000" y="189000"/>
            <a:ext cx="4680000" cy="6121440"/>
          </a:xfrm>
          <a:prstGeom prst="wedgeRoundRectCallout">
            <a:avLst>
              <a:gd name="adj1" fmla="val 56819"/>
              <a:gd name="adj2" fmla="val -1453"/>
              <a:gd name="adj3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908000" y="1069920"/>
            <a:ext cx="6912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We use  the simple  past to speak about actions that finished  at a stated time in the pas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3276720" y="0"/>
            <a:ext cx="5867280" cy="6858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3" descr="050717-002"/>
          <p:cNvPicPr/>
          <p:nvPr/>
        </p:nvPicPr>
        <p:blipFill>
          <a:blip r:embed="rId1"/>
          <a:stretch/>
        </p:blipFill>
        <p:spPr>
          <a:xfrm rot="21193200">
            <a:off x="3419640" y="4382640"/>
            <a:ext cx="2000160" cy="2475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Tesis 014"/>
          <p:cNvPicPr/>
          <p:nvPr/>
        </p:nvPicPr>
        <p:blipFill>
          <a:blip r:embed="rId2"/>
          <a:stretch/>
        </p:blipFill>
        <p:spPr>
          <a:xfrm>
            <a:off x="5219640" y="4049640"/>
            <a:ext cx="1876320" cy="2808360"/>
          </a:xfrm>
          <a:prstGeom prst="rect">
            <a:avLst/>
          </a:prstGeom>
          <a:ln w="0">
            <a:noFill/>
          </a:ln>
        </p:spPr>
      </p:pic>
      <p:sp>
        <p:nvSpPr>
          <p:cNvPr id="324" name="WordArt 5"/>
          <p:cNvSpPr txBox="1"/>
          <p:nvPr/>
        </p:nvSpPr>
        <p:spPr>
          <a:xfrm>
            <a:off x="5811840" y="325440"/>
            <a:ext cx="1068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HIN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4896000" y="873000"/>
            <a:ext cx="41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99"/>
                </a:solidFill>
                <a:latin typeface="Times New Roman"/>
              </a:rPr>
              <a:t>a  magazine for the you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101000" y="161784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5050"/>
                </a:solidFill>
                <a:latin typeface="Times New Roman"/>
              </a:rPr>
              <a:t>This week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8" descr="Graduacion 007"/>
          <p:cNvPicPr/>
          <p:nvPr/>
        </p:nvPicPr>
        <p:blipFill>
          <a:blip r:embed="rId3"/>
          <a:stretch/>
        </p:blipFill>
        <p:spPr>
          <a:xfrm>
            <a:off x="5003640" y="1628640"/>
            <a:ext cx="1947960" cy="27370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9"/>
          <p:cNvSpPr/>
          <p:nvPr/>
        </p:nvSpPr>
        <p:spPr>
          <a:xfrm>
            <a:off x="3740040" y="168912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5050"/>
                </a:solidFill>
                <a:latin typeface="Times New Roman"/>
              </a:rPr>
              <a:t>IN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10" descr="Tesis 075"/>
          <p:cNvPicPr/>
          <p:nvPr/>
        </p:nvPicPr>
        <p:blipFill>
          <a:blip r:embed="rId4"/>
          <a:stretch/>
        </p:blipFill>
        <p:spPr>
          <a:xfrm>
            <a:off x="7093080" y="4005360"/>
            <a:ext cx="2050920" cy="19447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11"/>
          <p:cNvSpPr/>
          <p:nvPr/>
        </p:nvSpPr>
        <p:spPr>
          <a:xfrm>
            <a:off x="3348000" y="2205000"/>
            <a:ext cx="172872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 worker´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12"/>
          <p:cNvGrpSpPr/>
          <p:nvPr/>
        </p:nvGrpSpPr>
        <p:grpSpPr>
          <a:xfrm>
            <a:off x="6939000" y="1905120"/>
            <a:ext cx="4257360" cy="975240"/>
            <a:chOff x="6939000" y="1905120"/>
            <a:chExt cx="4257360" cy="975240"/>
          </a:xfrm>
        </p:grpSpPr>
        <p:sp>
          <p:nvSpPr>
            <p:cNvPr id="332" name="Text Box 13"/>
            <p:cNvSpPr/>
            <p:nvPr/>
          </p:nvSpPr>
          <p:spPr>
            <a:xfrm>
              <a:off x="6975720" y="2120760"/>
              <a:ext cx="422064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5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What do you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do every day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4"/>
            <p:cNvSpPr/>
            <p:nvPr/>
          </p:nvSpPr>
          <p:spPr>
            <a:xfrm>
              <a:off x="6939000" y="1905120"/>
              <a:ext cx="173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buClr>
                  <a:srgbClr val="ff505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15"/>
          <p:cNvGrpSpPr/>
          <p:nvPr/>
        </p:nvGrpSpPr>
        <p:grpSpPr>
          <a:xfrm>
            <a:off x="6948360" y="2913120"/>
            <a:ext cx="5805360" cy="938880"/>
            <a:chOff x="6948360" y="2913120"/>
            <a:chExt cx="5805360" cy="938880"/>
          </a:xfrm>
        </p:grpSpPr>
        <p:sp>
          <p:nvSpPr>
            <p:cNvPr id="335" name="Text Box 16"/>
            <p:cNvSpPr/>
            <p:nvPr/>
          </p:nvSpPr>
          <p:spPr>
            <a:xfrm>
              <a:off x="6983280" y="3129120"/>
              <a:ext cx="5770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5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What’s you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favorite day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17"/>
            <p:cNvSpPr/>
            <p:nvPr/>
          </p:nvSpPr>
          <p:spPr>
            <a:xfrm>
              <a:off x="6948360" y="2913120"/>
              <a:ext cx="173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buClr>
                  <a:srgbClr val="ff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Text Box 18"/>
          <p:cNvSpPr/>
          <p:nvPr/>
        </p:nvSpPr>
        <p:spPr>
          <a:xfrm>
            <a:off x="179280" y="476280"/>
            <a:ext cx="3024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Look at the cover of the magazine and answer th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250920" y="981000"/>
            <a:ext cx="8677080" cy="37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at’s the name of the magazin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o is it f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at is the article inside the magazine abou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79280" y="2060640"/>
            <a:ext cx="864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ad the following article and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ell  about Ed’s profession and lik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rite the questions Ed’s friend asked.</a:t>
            </a:r>
            <a:r>
              <a:rPr b="1" i="1" lang="es-ES_tradnl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619280" cy="198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j0215356"/>
          <p:cNvPicPr/>
          <p:nvPr/>
        </p:nvPicPr>
        <p:blipFill>
          <a:blip r:embed="rId2"/>
          <a:stretch/>
        </p:blipFill>
        <p:spPr>
          <a:xfrm>
            <a:off x="1619280" y="476280"/>
            <a:ext cx="20160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76364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A young worker’s activit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Graduacion 007"/>
          <p:cNvPicPr/>
          <p:nvPr/>
        </p:nvPicPr>
        <p:blipFill>
          <a:blip r:embed="rId1"/>
          <a:stretch/>
        </p:blipFill>
        <p:spPr>
          <a:xfrm>
            <a:off x="0" y="0"/>
            <a:ext cx="1763640" cy="23493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395280" y="2276640"/>
            <a:ext cx="838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y name is Ed. I’m 28 years old and I live in Havana, Cuba. I am an accountant. I studied at Havana University for five years. I graduated in 2005. I have worked as an auditor  and a teac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79280" y="260280"/>
            <a:ext cx="8785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ome weeks ago I  met a friend who asked me if I still practice sports as I used to when I was a student. Since I answered affirmatively,  he wanted to know how I could make it. So I said that I do it after work or on weekends. Indeed, I love sports, especially baseball and soccer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324000" y="260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alking about future plans, I explained that I have applied for a master's scholarship and  I’m very excited about that.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324000" y="1628640"/>
            <a:ext cx="8496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d’s an accounta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d likes sports/soccer and baseb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o you still practice sports as you used to when you were a stu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ow can you make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j0215356"/>
          <p:cNvPicPr/>
          <p:nvPr/>
        </p:nvPicPr>
        <p:blipFill>
          <a:blip r:embed="rId1"/>
          <a:stretch/>
        </p:blipFill>
        <p:spPr>
          <a:xfrm>
            <a:off x="324000" y="189000"/>
            <a:ext cx="20160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619280" cy="1987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j0215356"/>
          <p:cNvPicPr/>
          <p:nvPr/>
        </p:nvPicPr>
        <p:blipFill>
          <a:blip r:embed="rId2"/>
          <a:stretch/>
        </p:blipFill>
        <p:spPr>
          <a:xfrm>
            <a:off x="1619280" y="476280"/>
            <a:ext cx="2016000" cy="14032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4"/>
          <p:cNvSpPr/>
          <p:nvPr/>
        </p:nvSpPr>
        <p:spPr>
          <a:xfrm>
            <a:off x="3780000" y="333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riting tip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324000" y="2276640"/>
            <a:ext cx="88200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ive information in chronological order: morning, afternoon, even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nd  by saying how you feel about your daily routine/ or activiti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mbine tens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1836720" y="0"/>
            <a:ext cx="7414920" cy="6965640"/>
            <a:chOff x="1836720" y="0"/>
            <a:chExt cx="7414920" cy="6965640"/>
          </a:xfrm>
        </p:grpSpPr>
        <p:sp>
          <p:nvSpPr>
            <p:cNvPr id="357" name="AutoShape 3"/>
            <p:cNvSpPr/>
            <p:nvPr/>
          </p:nvSpPr>
          <p:spPr>
            <a:xfrm>
              <a:off x="1915560" y="0"/>
              <a:ext cx="7257240" cy="69656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4"/>
            <p:cNvSpPr/>
            <p:nvPr/>
          </p:nvSpPr>
          <p:spPr>
            <a:xfrm>
              <a:off x="1836720" y="0"/>
              <a:ext cx="7414920" cy="38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ffffff"/>
                  </a:solidFill>
                  <a:latin typeface="Times New Roman"/>
                </a:rPr>
                <a:t>             </a:t>
              </a:r>
              <a:r>
                <a:rPr b="1" i="1" lang="es-ES_tradnl" sz="4400" spc="-1" strike="noStrike">
                  <a:solidFill>
                    <a:srgbClr val="ffffff"/>
                  </a:solidFill>
                  <a:latin typeface="Times New Roman"/>
                </a:rPr>
                <a:t>PLAN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ffffff"/>
                  </a:solidFill>
                  <a:latin typeface="Times New Roman"/>
                </a:rPr>
                <a:t>Par. 1 Introduce yourself…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ffffff"/>
                  </a:solidFill>
                  <a:latin typeface="Times New Roman"/>
                </a:rPr>
                <a:t>Par. 2 What you have done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ffffff"/>
                  </a:solidFill>
                  <a:latin typeface="Times New Roman"/>
                </a:rPr>
                <a:t>Par. 3 How you feel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What did he say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50920" y="263700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we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add –s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the verbs  in the third person singular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            (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he/she/it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)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j0293466"/>
          <p:cNvPicPr/>
          <p:nvPr/>
        </p:nvPicPr>
        <p:blipFill>
          <a:blip r:embed="rId1"/>
          <a:stretch/>
        </p:blipFill>
        <p:spPr>
          <a:xfrm>
            <a:off x="133200" y="44280"/>
            <a:ext cx="2422800" cy="2519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095640" y="333360"/>
            <a:ext cx="65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In the simple present tense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j0231075"/>
          <p:cNvPicPr/>
          <p:nvPr/>
        </p:nvPicPr>
        <p:blipFill>
          <a:blip r:embed="rId1"/>
          <a:stretch/>
        </p:blipFill>
        <p:spPr>
          <a:xfrm>
            <a:off x="5148360" y="0"/>
            <a:ext cx="4032000" cy="70293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3"/>
          <p:cNvSpPr/>
          <p:nvPr/>
        </p:nvSpPr>
        <p:spPr>
          <a:xfrm>
            <a:off x="179280" y="290520"/>
            <a:ext cx="4859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ffff"/>
                </a:solidFill>
                <a:latin typeface="Times New Roman"/>
              </a:rPr>
              <a:t>My name is William. I live in Cienfuegos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 have two children, a boy and a girl. I am an English teacher and I love my professio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4"/>
          <p:cNvSpPr/>
          <p:nvPr/>
        </p:nvSpPr>
        <p:spPr>
          <a:xfrm>
            <a:off x="108000" y="189000"/>
            <a:ext cx="4680000" cy="6121440"/>
          </a:xfrm>
          <a:prstGeom prst="wedgeRoundRectCallout">
            <a:avLst>
              <a:gd name="adj1" fmla="val 56819"/>
              <a:gd name="adj2" fmla="val -1453"/>
              <a:gd name="adj3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-108000" y="182520"/>
            <a:ext cx="943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ffff"/>
                </a:solidFill>
                <a:latin typeface="Times New Roman"/>
              </a:rPr>
              <a:t>Imagine that you are interviewing someone and at the end of the interview you have to write a report about what that person said. Begin the report like thi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3" descr="j0240651"/>
          <p:cNvPicPr/>
          <p:nvPr/>
        </p:nvPicPr>
        <p:blipFill>
          <a:blip r:embed="rId1"/>
          <a:stretch/>
        </p:blipFill>
        <p:spPr>
          <a:xfrm>
            <a:off x="6227640" y="3213000"/>
            <a:ext cx="2916360" cy="364500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4"/>
          <p:cNvSpPr/>
          <p:nvPr/>
        </p:nvSpPr>
        <p:spPr>
          <a:xfrm>
            <a:off x="108000" y="4510080"/>
            <a:ext cx="6119640" cy="1943280"/>
          </a:xfrm>
          <a:prstGeom prst="wedgeRectCallout">
            <a:avLst>
              <a:gd name="adj1" fmla="val 71143"/>
              <a:gd name="adj2" fmla="val -50328"/>
            </a:avLst>
          </a:prstGeom>
          <a:solidFill>
            <a:srgbClr val="d5a5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44360" y="4645080"/>
            <a:ext cx="62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I interviewed … He said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95280" y="2492280"/>
            <a:ext cx="86756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Paul  practice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sports every afternoon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Susan go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the library every week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j0293466"/>
          <p:cNvPicPr/>
          <p:nvPr/>
        </p:nvPicPr>
        <p:blipFill>
          <a:blip r:embed="rId1"/>
          <a:stretch/>
        </p:blipFill>
        <p:spPr>
          <a:xfrm>
            <a:off x="133200" y="44280"/>
            <a:ext cx="1917720" cy="2519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3419640" y="476280"/>
            <a:ext cx="4321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643280" y="2494080"/>
            <a:ext cx="21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564000" y="47991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484360" y="189000"/>
            <a:ext cx="665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The  Present Continuous Tense is used to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95280" y="1933560"/>
            <a:ext cx="87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1. a) express actions  happening at the moment of speaking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250920" y="-224280"/>
            <a:ext cx="2939040" cy="1995840"/>
            <a:chOff x="250920" y="-224280"/>
            <a:chExt cx="2939040" cy="1995840"/>
          </a:xfrm>
        </p:grpSpPr>
        <p:pic>
          <p:nvPicPr>
            <p:cNvPr id="182" name="Picture 5" descr="j0199371"/>
            <p:cNvPicPr/>
            <p:nvPr/>
          </p:nvPicPr>
          <p:blipFill>
            <a:blip r:embed="rId1"/>
            <a:stretch/>
          </p:blipFill>
          <p:spPr>
            <a:xfrm>
              <a:off x="250920" y="11592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6"/>
            <p:cNvSpPr/>
            <p:nvPr/>
          </p:nvSpPr>
          <p:spPr>
            <a:xfrm rot="20385000">
              <a:off x="612360" y="18720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Learn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di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 Box 7"/>
          <p:cNvSpPr/>
          <p:nvPr/>
        </p:nvSpPr>
        <p:spPr>
          <a:xfrm>
            <a:off x="395280" y="357336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1.b) refer to actions that are happening about the moment of speaking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835280" y="293760"/>
            <a:ext cx="70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2. Refer to actions that are going to take place in the near future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50920" y="-6840"/>
            <a:ext cx="2939040" cy="1995840"/>
            <a:chOff x="250920" y="-6840"/>
            <a:chExt cx="2939040" cy="1995840"/>
          </a:xfrm>
        </p:grpSpPr>
        <p:pic>
          <p:nvPicPr>
            <p:cNvPr id="187" name="Picture 4" descr="j0199371"/>
            <p:cNvPicPr/>
            <p:nvPr/>
          </p:nvPicPr>
          <p:blipFill>
            <a:blip r:embed="rId1"/>
            <a:stretch/>
          </p:blipFill>
          <p:spPr>
            <a:xfrm>
              <a:off x="250920" y="33336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/>
            <p:cNvSpPr/>
            <p:nvPr/>
          </p:nvSpPr>
          <p:spPr>
            <a:xfrm rot="20385000">
              <a:off x="612360" y="40464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Learn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di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Text Box 6"/>
          <p:cNvSpPr/>
          <p:nvPr/>
        </p:nvSpPr>
        <p:spPr>
          <a:xfrm>
            <a:off x="611280" y="256536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I’m    </a:t>
            </a:r>
            <a:r>
              <a:rPr b="1" i="1" lang="es-ES_tradnl" sz="6600" spc="-1" strike="noStrike" u="sng">
                <a:solidFill>
                  <a:srgbClr val="ffffff"/>
                </a:solidFill>
                <a:uFillTx/>
                <a:latin typeface="Times New Roman"/>
              </a:rPr>
              <a:t>teach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ing  now 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02680" y="4734000"/>
            <a:ext cx="183744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Su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755640" y="3357720"/>
            <a:ext cx="504720" cy="1293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9"/>
          <p:cNvSpPr/>
          <p:nvPr/>
        </p:nvSpPr>
        <p:spPr>
          <a:xfrm>
            <a:off x="1042920" y="2563920"/>
            <a:ext cx="1297080" cy="1152360"/>
          </a:xfrm>
          <a:prstGeom prst="ellipse">
            <a:avLst/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330640" y="5075280"/>
            <a:ext cx="145476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Ver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To 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2268360" y="3500280"/>
            <a:ext cx="719280" cy="144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4788000" y="2708280"/>
            <a:ext cx="1368360" cy="1079640"/>
          </a:xfrm>
          <a:prstGeom prst="ellipse">
            <a:avLst/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3924360" y="4724280"/>
            <a:ext cx="23763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Narrow"/>
              </a:rPr>
              <a:t>Action Ve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Narrow"/>
              </a:rPr>
              <a:t>+  (-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3924360" y="3556080"/>
            <a:ext cx="477720" cy="1096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00720" y="2565360"/>
            <a:ext cx="1656000" cy="1150920"/>
          </a:xfrm>
          <a:prstGeom prst="ellipse">
            <a:avLst/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6372360" y="5013360"/>
            <a:ext cx="287964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Exp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7343640" y="3645000"/>
            <a:ext cx="757440" cy="1368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332000" y="404640"/>
            <a:ext cx="781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2556000" y="260280"/>
            <a:ext cx="65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Expressions of ti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24000" y="1413000"/>
            <a:ext cx="96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ow    at the moment   at pres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Group 5"/>
          <p:cNvGrpSpPr/>
          <p:nvPr/>
        </p:nvGrpSpPr>
        <p:grpSpPr>
          <a:xfrm>
            <a:off x="34920" y="-295920"/>
            <a:ext cx="2939040" cy="1995840"/>
            <a:chOff x="34920" y="-295920"/>
            <a:chExt cx="2939040" cy="1995840"/>
          </a:xfrm>
        </p:grpSpPr>
        <p:pic>
          <p:nvPicPr>
            <p:cNvPr id="205" name="Picture 6" descr="j0199371"/>
            <p:cNvPicPr/>
            <p:nvPr/>
          </p:nvPicPr>
          <p:blipFill>
            <a:blip r:embed="rId1"/>
            <a:stretch/>
          </p:blipFill>
          <p:spPr>
            <a:xfrm>
              <a:off x="34920" y="4428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7"/>
            <p:cNvSpPr/>
            <p:nvPr/>
          </p:nvSpPr>
          <p:spPr>
            <a:xfrm rot="20385000">
              <a:off x="396360" y="11556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Learn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di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Text Box 8"/>
          <p:cNvSpPr/>
          <p:nvPr/>
        </p:nvSpPr>
        <p:spPr>
          <a:xfrm>
            <a:off x="1547640" y="206064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pell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50920" y="300024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wi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m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g      trave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ll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92400" y="4076640"/>
            <a:ext cx="85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ie-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g            drive-driv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0"/>
            <a:ext cx="9360000" cy="14158800"/>
            <a:chOff x="0" y="0"/>
            <a:chExt cx="9360000" cy="14158800"/>
          </a:xfrm>
        </p:grpSpPr>
        <p:pic>
          <p:nvPicPr>
            <p:cNvPr id="211" name="Picture 3" descr="J0202135"/>
            <p:cNvPicPr/>
            <p:nvPr/>
          </p:nvPicPr>
          <p:blipFill>
            <a:blip r:embed="rId1"/>
            <a:srcRect l="15748" t="0" r="0" b="0"/>
            <a:stretch/>
          </p:blipFill>
          <p:spPr>
            <a:xfrm>
              <a:off x="0" y="0"/>
              <a:ext cx="1619280" cy="213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Group 4"/>
            <p:cNvGrpSpPr/>
            <p:nvPr/>
          </p:nvGrpSpPr>
          <p:grpSpPr>
            <a:xfrm>
              <a:off x="0" y="0"/>
              <a:ext cx="9360000" cy="14158800"/>
              <a:chOff x="0" y="0"/>
              <a:chExt cx="9360000" cy="14158800"/>
            </a:xfrm>
          </p:grpSpPr>
          <p:pic>
            <p:nvPicPr>
              <p:cNvPr id="213" name="Picture 5" descr="j0289528"/>
              <p:cNvPicPr/>
              <p:nvPr/>
            </p:nvPicPr>
            <p:blipFill>
              <a:blip r:embed="rId2"/>
              <a:srcRect l="42817" t="0" r="4429" b="-120079"/>
              <a:stretch/>
            </p:blipFill>
            <p:spPr>
              <a:xfrm>
                <a:off x="0" y="4221000"/>
                <a:ext cx="2641680" cy="993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AutoShape 6"/>
              <p:cNvSpPr/>
              <p:nvPr/>
            </p:nvSpPr>
            <p:spPr>
              <a:xfrm>
                <a:off x="3564000" y="1413000"/>
                <a:ext cx="5796000" cy="3887640"/>
              </a:xfrm>
              <a:prstGeom prst="cloudCallout">
                <a:avLst>
                  <a:gd name="adj1" fmla="val -56930"/>
                  <a:gd name="adj2" fmla="val 78175"/>
                </a:avLst>
              </a:prstGeom>
              <a:gradFill rotWithShape="0">
                <a:gsLst>
                  <a:gs pos="0">
                    <a:srgbClr val="bbbbd1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AutoShape 7"/>
              <p:cNvSpPr/>
              <p:nvPr/>
            </p:nvSpPr>
            <p:spPr>
              <a:xfrm>
                <a:off x="2916360" y="3303720"/>
                <a:ext cx="6227640" cy="3554280"/>
              </a:xfrm>
              <a:prstGeom prst="cloudCallout">
                <a:avLst>
                  <a:gd name="adj1" fmla="val -5925"/>
                  <a:gd name="adj2" fmla="val 39592"/>
                </a:avLst>
              </a:prstGeom>
              <a:gradFill rotWithShape="0">
                <a:gsLst>
                  <a:gs pos="0">
                    <a:srgbClr val="bbbbd1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6" name="Picture 8" descr="j0289525"/>
              <p:cNvPicPr/>
              <p:nvPr/>
            </p:nvPicPr>
            <p:blipFill>
              <a:blip r:embed="rId3"/>
              <a:stretch/>
            </p:blipFill>
            <p:spPr>
              <a:xfrm>
                <a:off x="6012000" y="1700280"/>
                <a:ext cx="208728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Picture 9" descr="j0202100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3645000"/>
                <a:ext cx="2097000" cy="22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Picture 10" descr="j0289528"/>
              <p:cNvPicPr/>
              <p:nvPr/>
            </p:nvPicPr>
            <p:blipFill>
              <a:blip r:embed="rId5"/>
              <a:stretch/>
            </p:blipFill>
            <p:spPr>
              <a:xfrm>
                <a:off x="3635280" y="2997360"/>
                <a:ext cx="1978200" cy="28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AutoShape 11"/>
              <p:cNvSpPr/>
              <p:nvPr/>
            </p:nvSpPr>
            <p:spPr>
              <a:xfrm>
                <a:off x="1476360" y="0"/>
                <a:ext cx="5614920" cy="1528920"/>
              </a:xfrm>
              <a:prstGeom prst="cloudCallout">
                <a:avLst>
                  <a:gd name="adj1" fmla="val -44939"/>
                  <a:gd name="adj2" fmla="val 50208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Text Box 12"/>
            <p:cNvSpPr/>
            <p:nvPr/>
          </p:nvSpPr>
          <p:spPr>
            <a:xfrm>
              <a:off x="2268360" y="0"/>
              <a:ext cx="4319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ffff00"/>
                  </a:solidFill>
                  <a:latin typeface="Times New Roman"/>
                </a:rPr>
                <a:t>What do you do every day?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13"/>
          <p:cNvSpPr/>
          <p:nvPr/>
        </p:nvSpPr>
        <p:spPr>
          <a:xfrm>
            <a:off x="395280" y="2133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Times New Roman"/>
              </a:rPr>
              <a:t>In the morning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3348000" y="55389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Times New Roman"/>
              </a:rPr>
              <a:t>In the evening 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2:50:24Z</dcterms:created>
  <dc:creator>Garbey</dc:creator>
  <dc:description/>
  <dc:language>en-US</dc:language>
  <cp:lastModifiedBy>*</cp:lastModifiedBy>
  <dcterms:modified xsi:type="dcterms:W3CDTF">2013-11-03T17:54:07Z</dcterms:modified>
  <cp:revision>280</cp:revision>
  <dc:subject/>
  <dc:title>Negotiating a deal</dc:title>
</cp:coreProperties>
</file>