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0F3-E08E-44B1-8A96-E22D3D49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2A9-DBE0-4B6C-AEB6-DB5D7EB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420-F893-40F0-9924-A739A1B3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828-EB4D-492B-B0E5-17DE3C1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A79-88C7-4C48-843A-C7EB4030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895-58BF-4A6A-802D-99B770D1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885-1258-45D5-A327-31C2EA2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ACF-960D-4EA2-AE4B-17DF3FD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316-9E85-4A83-8383-942A6E4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74F-B314-4041-A670-7970831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BDF-FFED-4B9E-B523-0529FEF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BDD-0DD7-4DBE-BF33-400D266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D45-53F3-4EED-B056-99443658924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Back to English in sports on the occasion of the Pan American Ga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f. Sergio Font Milián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sh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oing pushups helps her build her arm muscles.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push-up1.jpg"/>
          <p:cNvPicPr/>
          <p:nvPr/>
        </p:nvPicPr>
        <p:blipFill>
          <a:blip r:embed="rId1"/>
          <a:stretch/>
        </p:blipFill>
        <p:spPr>
          <a:xfrm>
            <a:off x="3071880" y="857160"/>
            <a:ext cx="49291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Bending d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ending down helps your body keep flexible and fi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3 Imagen" descr="hamstringstretchstanding.jpg"/>
          <p:cNvPicPr/>
          <p:nvPr/>
        </p:nvPicPr>
        <p:blipFill>
          <a:blip r:embed="rId1"/>
          <a:stretch/>
        </p:blipFill>
        <p:spPr>
          <a:xfrm>
            <a:off x="5621400" y="642960"/>
            <a:ext cx="254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hinu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He does chinups to make his arms stronger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4 Imagen" descr="chinup.jpg"/>
          <p:cNvPicPr/>
          <p:nvPr/>
        </p:nvPicPr>
        <p:blipFill>
          <a:blip r:embed="rId1"/>
          <a:stretch/>
        </p:blipFill>
        <p:spPr>
          <a:xfrm>
            <a:off x="3857760" y="500040"/>
            <a:ext cx="34416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Athletes Oath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as first taken at the 1920 Olympic Games in Antwerp by a fencer/water polo play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 the name of all the competitors I promise that we shall take part in these Olympic Games, respecting and abiding by the rules which govern them, committing ourselves to a sport without doping and without drugs, in the true spirit of sportsmanship, for the glory of sport and the honour of our team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2012 – London, Great Brit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london_olympics_logo_2012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69" name="4 Imagen" descr="london-olympics-2012.jpg"/>
          <p:cNvPicPr/>
          <p:nvPr/>
        </p:nvPicPr>
        <p:blipFill>
          <a:blip r:embed="rId2"/>
          <a:stretch/>
        </p:blipFill>
        <p:spPr>
          <a:xfrm>
            <a:off x="285840" y="1428840"/>
            <a:ext cx="547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Pan American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held every four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re first held in Buenos Aires in 195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ather together athletes from 41 count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ve been hosted by Cuba only o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held in the year just before the Olympic Gam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e sanctioned by PASO, the Pan American Sports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he Guadalajara 2011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an American G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The 2011 Pan Am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16th Pan American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 be hosted by beautifu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uadalajara.  Athletes from 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untries will compete in 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ports disciplines.   The United States, Mexic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razil, Cuba and Canada will field the larg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84720" y="1773360"/>
            <a:ext cx="1905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Games will be ope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n October 14th and will 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osed on October 30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gentina will be the fir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eam to march, while Mexico, the host countr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ill close the parade of teams in the ope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eremony.  Mexico’s flag bearer will be Ju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né Serrano, an archer who has won sev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dals in world class event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54840" y="1197000"/>
            <a:ext cx="190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rchery, athletics, badmint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aseball, basketball, b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olleyball, bowling, boxing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noeing, cycling, diving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questrian, fencing, field hockey, football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ymnastics, handball, judo, modern pentathlo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oller skating, rowing, sailing, shooting, softb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wimming, synchronized swimming, table tenni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ekwondo, tennis, triathlon, volleyball, water pol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ightlifting and wrestling, among other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Sergio\Desktop\200px-Guadalajara_logo_for_the_2011_Pan_American_Games_svg.png"/>
          <p:cNvPicPr/>
          <p:nvPr/>
        </p:nvPicPr>
        <p:blipFill>
          <a:blip r:embed="rId1"/>
          <a:stretch/>
        </p:blipFill>
        <p:spPr>
          <a:xfrm>
            <a:off x="6086520" y="476280"/>
            <a:ext cx="1905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pics in the next few les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907920"/>
            <a:ext cx="8496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w lesson – Narrating a sports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pening spee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lking about an athlete’s sports care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lking about base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ents in some sports discip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ents in some other Olympic sports and in the Paralympic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etting ready to f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w lesson -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ports with the highest number of medal ev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thletics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7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wimm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4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restl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8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ycl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8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oot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Weightlifting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5 event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We need peace, we need tolerance, we need brotherhood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thletes from the 41 countries, show us that sport unites, by overriding national, political, religious and language barri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ighlights of lessons 1, 2, 5, 6, 8 and 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ssive voice with present perf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ubject + have/has + been + 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made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ch eas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gam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rained out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competitor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disqualifi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he player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ve been introduced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st athlete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ve been tested for alcoho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 announcement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as been made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winning and losing in spor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a training rout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the schedule of a sports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cribing a sports fac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rrating a sports ev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recor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an athlete’s sports care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physical exerci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ing about an athlete’s daily rout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municative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king for and giving general information about sports in the Olympic Progr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the rules which govern certain sports disciplin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injuries or les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lking about sports for the disabl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me typical warm-up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ope jum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he jumps the rope to get warmed up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fitnesslines-Jump-Rope1.jpg"/>
          <p:cNvPicPr/>
          <p:nvPr/>
        </p:nvPicPr>
        <p:blipFill>
          <a:blip r:embed="rId1"/>
          <a:stretch/>
        </p:blipFill>
        <p:spPr>
          <a:xfrm>
            <a:off x="4857840" y="1714680"/>
            <a:ext cx="29113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tup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he does four series of situps at the start of her training sessions every morning to tune up her abdo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exercise_sit-ups.jpg"/>
          <p:cNvPicPr/>
          <p:nvPr/>
        </p:nvPicPr>
        <p:blipFill>
          <a:blip r:embed="rId1"/>
          <a:stretch/>
        </p:blipFill>
        <p:spPr>
          <a:xfrm>
            <a:off x="4786200" y="214200"/>
            <a:ext cx="2533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9:06:10Z</dcterms:created>
  <dc:creator>Sergio</dc:creator>
  <dc:description/>
  <dc:language>en-US</dc:language>
  <cp:lastModifiedBy>Ovidio Castro</cp:lastModifiedBy>
  <dcterms:modified xsi:type="dcterms:W3CDTF">2013-11-04T14:15:41Z</dcterms:modified>
  <cp:revision>19</cp:revision>
  <dc:subject/>
  <dc:title>Taking about a current event: the Pan American Sports Games</dc:title>
</cp:coreProperties>
</file>