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7AB-AB5C-484A-A35E-29D03816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583-8335-4DD1-B311-4DCB5E57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5AB-4818-4CDA-917A-797C78E4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90D-3D77-47E5-8452-4708F703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3B8-6F40-4763-9D87-85D3CDD7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EF7-7699-497D-ACC7-91B90831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67A-3E53-4E1D-ACF8-4F0D1FD8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237-98BB-4AA3-872E-AFA654AB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4F9-6717-4BEF-BFE9-7077136B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E3A-BC58-42FD-A7B6-12288E3C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DB7-B4BC-4F67-8D2C-49E11A5B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36B-602B-4432-9E58-E3AF1216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3FD6-B72D-46ED-BBF3-AC5CFCC2C1A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Back to English in sports on the occasion of the Pan American Gam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f. Sergio Font Milián, Ph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ushu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oing pushups helps her build her arm muscles.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Imagen" descr="push-up1.jpg"/>
          <p:cNvPicPr/>
          <p:nvPr/>
        </p:nvPicPr>
        <p:blipFill>
          <a:blip r:embed="rId1"/>
          <a:stretch/>
        </p:blipFill>
        <p:spPr>
          <a:xfrm>
            <a:off x="3071880" y="857160"/>
            <a:ext cx="492912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Bending dow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ending down helps your body keep flexible and fi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3 Imagen" descr="hamstringstretchstanding.jpg"/>
          <p:cNvPicPr/>
          <p:nvPr/>
        </p:nvPicPr>
        <p:blipFill>
          <a:blip r:embed="rId1"/>
          <a:stretch/>
        </p:blipFill>
        <p:spPr>
          <a:xfrm>
            <a:off x="5621400" y="642960"/>
            <a:ext cx="2546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hinu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He does chinups to make his arms stronger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4 Imagen" descr="chinup.jpg"/>
          <p:cNvPicPr/>
          <p:nvPr/>
        </p:nvPicPr>
        <p:blipFill>
          <a:blip r:embed="rId1"/>
          <a:stretch/>
        </p:blipFill>
        <p:spPr>
          <a:xfrm>
            <a:off x="3857760" y="500040"/>
            <a:ext cx="34416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 Athletes Oath</a:t>
            </a:r>
            <a:br>
              <a:rPr sz="40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as first taken at the 1920 Olympic Games in Antwerp by a fencer/water polo play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 the name of all the competitors I promise that we shall take part in these Olympic Games, respecting and abiding by the rules which govern them, committing ourselves to a sport without doping and without drugs, in the true spirit of sportsmanship, for the glory of sport and the honour of our team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2012 – London, Great Brit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3 Marcador de contenido" descr="london_olympics_logo_2012.jpg"/>
          <p:cNvPicPr/>
          <p:nvPr/>
        </p:nvPicPr>
        <p:blipFill>
          <a:blip r:embed="rId1"/>
          <a:stretch/>
        </p:blipFill>
        <p:spPr>
          <a:xfrm>
            <a:off x="5786280" y="1500120"/>
            <a:ext cx="3143520" cy="3143160"/>
          </a:xfrm>
          <a:prstGeom prst="rect">
            <a:avLst/>
          </a:prstGeom>
          <a:ln w="0">
            <a:noFill/>
          </a:ln>
        </p:spPr>
      </p:pic>
      <p:pic>
        <p:nvPicPr>
          <p:cNvPr id="69" name="4 Imagen" descr="london-olympics-2012.jpg"/>
          <p:cNvPicPr/>
          <p:nvPr/>
        </p:nvPicPr>
        <p:blipFill>
          <a:blip r:embed="rId2"/>
          <a:stretch/>
        </p:blipFill>
        <p:spPr>
          <a:xfrm>
            <a:off x="285840" y="1428840"/>
            <a:ext cx="547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Pan American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re held every four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re first held in Buenos Aires in 195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ather together athletes from 41 count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ve been hosted by Cuba only o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re held in the year just before the Olympic Ga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re sanctioned by PASO, the Pan American Sports Organ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 Guadalajara 2011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Pan American Ga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403280" y="1628640"/>
            <a:ext cx="6193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2011 Pan Am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16th Pan American G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ill be hosted by beautifu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uadalajara.  Athletes from 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untries will compete in 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ports disciplines.   The United States, Mexic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razil, Cuba and Canada will field the large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eams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Sergio\Desktop\200px-Guadalajara_logo_for_the_2011_Pan_American_Games_svg.png"/>
          <p:cNvPicPr/>
          <p:nvPr/>
        </p:nvPicPr>
        <p:blipFill>
          <a:blip r:embed="rId1"/>
          <a:stretch/>
        </p:blipFill>
        <p:spPr>
          <a:xfrm>
            <a:off x="6084720" y="1773360"/>
            <a:ext cx="19051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Games will be ope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n October 14th and will b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osed on October 30th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rgentina will be the fir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eam to march, while Mexico, the host countr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ill close the parade of teams in the open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eremony.  Mexico’s flag bearer will be Ju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né Serrano, an archer who has won seve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dals in world class events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Sergio\Desktop\200px-Guadalajara_logo_for_the_2011_Pan_American_Games_svg.png"/>
          <p:cNvPicPr/>
          <p:nvPr/>
        </p:nvPicPr>
        <p:blipFill>
          <a:blip r:embed="rId1"/>
          <a:stretch/>
        </p:blipFill>
        <p:spPr>
          <a:xfrm>
            <a:off x="6054840" y="1197000"/>
            <a:ext cx="19047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9280" y="33300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rchery, athletics, badminto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aseball, basketball, b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olleyball, bowling, boxing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noeing, cycling, diving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questrian, fencing, field hockey, football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ymnastics, handball, judo, modern pentathlo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oller skating, rowing, sailing, shooting, softbal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wimming, synchronized swimming, table tenni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ekwondo, tennis, triathlon, volleyball, water pol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ightlifting and wrestling, among others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Sergio\Desktop\200px-Guadalajara_logo_for_the_2011_Pan_American_Games_svg.png"/>
          <p:cNvPicPr/>
          <p:nvPr/>
        </p:nvPicPr>
        <p:blipFill>
          <a:blip r:embed="rId1"/>
          <a:stretch/>
        </p:blipFill>
        <p:spPr>
          <a:xfrm>
            <a:off x="6086520" y="476280"/>
            <a:ext cx="19051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opics in the next few less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000" y="907920"/>
            <a:ext cx="8496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ew lesson – Narrating a sports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pening spee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lking about an athlete’s sports care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lking about baseb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ents in some sports discip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ents in some other Olympic sports and in the Paralympic G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etting ready to f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ew lesson -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ports with the highest number of medal ev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thletics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7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wimming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4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restling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8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ycling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8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hooting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5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ightlifting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5 event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We need peace, we need tolerance, we need brotherhood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thletes from the 41 countries, show us that sport unites, by overriding national, political, religious and language barrie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Highlights of lessons 1, 2, 5, 6, 8 and 1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assive voice with present perf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ubject + have/has + been + past parti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mmunicatio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s been made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uch eas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gam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s been rained ou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competitor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s been disqualifi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player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ve been introduc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st athlete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ve been tested for alcohol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 announcement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s been mad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mmunicative con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lking about winning and losing in spor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lking about a training routi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lking about the schedule of a sports ev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scribing a sports facili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rrating a sports ev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mmunicative con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ing about record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ing about an athlete’s sports care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ing about physical exerci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ing about an athlete’s daily routi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mmunicative con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king for and giving general information about sports in the Olympic Progra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lking about the rules which govern certain sports disciplin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lking about injuries or lesio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lking about sports for the disabl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ome typical warm-up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ope jump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he jumps the rope to get warmed up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Imagen" descr="fitnesslines-Jump-Rope1.jpg"/>
          <p:cNvPicPr/>
          <p:nvPr/>
        </p:nvPicPr>
        <p:blipFill>
          <a:blip r:embed="rId1"/>
          <a:stretch/>
        </p:blipFill>
        <p:spPr>
          <a:xfrm>
            <a:off x="4857840" y="1714680"/>
            <a:ext cx="291132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8548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tup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he does four series of situps at the start of her training sessions every morning to tune up her abdo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Imagen" descr="exercise_sit-ups.jpg"/>
          <p:cNvPicPr/>
          <p:nvPr/>
        </p:nvPicPr>
        <p:blipFill>
          <a:blip r:embed="rId1"/>
          <a:stretch/>
        </p:blipFill>
        <p:spPr>
          <a:xfrm>
            <a:off x="4786200" y="214200"/>
            <a:ext cx="2533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9:06:10Z</dcterms:created>
  <dc:creator>Sergio</dc:creator>
  <dc:description/>
  <dc:language>en-US</dc:language>
  <cp:lastModifiedBy>Ovidio Castro</cp:lastModifiedBy>
  <dcterms:modified xsi:type="dcterms:W3CDTF">2013-11-04T14:15:41Z</dcterms:modified>
  <cp:revision>19</cp:revision>
  <dc:subject/>
  <dc:title>Taking about a current event: the Pan American Sports Games</dc:title>
</cp:coreProperties>
</file>