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5A6-F467-4F50-BB89-4DB3986C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46E-93B6-4B6D-BE1C-BE2D291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5F4-2C94-4D2E-A212-C7C81E64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B47-5199-4D00-B4FE-1305CB2A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46C-3C15-42D2-A0B6-F3A12F9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65E-2EC3-4677-B048-14D4C6B2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004-C65D-4D79-BD8E-6F0A5F4F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DFE-2B53-45A2-8F87-43D329F9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74E-B1D4-431B-A215-B295B9DE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2A9-B79E-400B-A677-C8217017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B64-D7F6-4EF3-9A3C-38EDF5C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F33-5FBC-4D1C-925D-F635B68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7EA-FC75-41EF-BCFB-836610FCFD9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8000" spc="-1" strike="noStrike">
                <a:solidFill>
                  <a:srgbClr val="000000"/>
                </a:solidFill>
                <a:latin typeface="Calibri"/>
              </a:rPr>
              <a:t>Opening Speech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rof. Sergio Font Milián, PhD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he 2004 Opening Speech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ive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resident of the Athens 2004 Organizing Committee for the Olympic Games Gianna Angelopoulos-Daskala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resident of the International Olympic Committee Jacques Rog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edicting the content of the opening spee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or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lcom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eec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de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olunteer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ir pla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 using the right word /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lcome to the Games of the _______ (38th / 28th / 23rd) Olympi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d now, you will ___________ (become / be kind / be called) olympians here, in Greece, where _____________ (the show / all sports / it all) be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elcome to the Games of the </a:t>
            </a: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28th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Olympi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nd now, you will </a:t>
            </a: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become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olympians here, in Greece, where </a:t>
            </a: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it all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ega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tizens of the ____________, for the second ___________ in 108 years, Greece stands before you, as ____________ country of the greatest celebration of 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t night the ___________ lit in Acropolis.  __________ it will complete its global jour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tizens of th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orl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for the second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im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108 years, Greece stands before you, as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os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untry of the greatest celebration of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umanit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t night th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lam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it in Acropolis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onigh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t will complete its global jour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py and then read as you li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ur thanks also go to the Greek public authorities who have created an urban legacy that has transformed Ath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ank you to everyone who has supported the Olympic Games and special thanks to the wonderful volunteers without whom nothing would be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ovide the miss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ur world today is in need for________. Athletes, I turn to you now.  This is the moment you ___________ to enjoy, the culmination of your hard work and 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es, through your conduct, give us _________to believe in sport, that is increasingly credible and pure, by refusing _________and respecting 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vide the miss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ur world today is in need for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eac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Athletes, I turn to you now.  This is the moment you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eserv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o enjoy, the culmination of your hard work and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edicatio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es, through your conduct, give us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ason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o believe in sport, that is increasingly credible and pure, by refusing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op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nd respecting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air pla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need peace, we need tolerance, we need brotherhoo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es from the 202 countries, show us that sport unites, by overriding national, political, religious and language barr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 the Games be held in peace in the true spirit of the Olympic truce that was created here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The Olympic Oat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Olympic Games Opening Speech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ther Games held in the Am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entral American and Caribbean Games – held every four years, two years befor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n American Games – held every four years, one year befor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uth American Games – held every four years, in the same year as the Central American and Caribbean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ld / Held / H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und / Founded / Fou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ncel / Cancelled / Cance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n / Won / W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e / Lost /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dal / Medalled / Med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85680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xt Olympics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l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IOC w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ound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y Pierre De Coubertin in 18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Games wer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cancelle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1916, 1940 and 194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Cuban women’s volleyball team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lost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the first two sets in their gold medal match versus Russia in Sydney 2000, bu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wo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three sets in a row to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win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their third Olympic tit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ilma Rudolph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medalled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four times in the Olympics: a bronze in 1956 and three gold titles in 196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he Athletes Oat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taken at the 1920 Olympic Games in Antwerp by a fencer/water polo p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the name of all the competitors I promise that we shall take part in these Olympic Games, respecting and abiding by the rules which govern them, committing ourselves to a sport without doping and without drugs, in the true spirit of sportsmanship, for the glory of sport and the honour of our team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he Original O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1214280"/>
            <a:ext cx="8786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swear we will take part in the Olympic Games in a spirit of chivalry, for the honour of our country and for the glory of sport.”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swear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promise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6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honour of our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honour of our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61)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untrie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-----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ithout doping and with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rugs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0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 the name of  / On behalf o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ake part / participate / comp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bide by  / conform to / comply wi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 sport without doping / a doping-free s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he Judges Oa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the name of all the judges and officials, I promise that we shall officiate in these Olympic Games with complete impartiality, respecting and abiding by the rules which govern them in the true spirit of sportsma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3:29:07Z</dcterms:created>
  <dc:creator>Sergio Font</dc:creator>
  <dc:description/>
  <dc:language>en-US</dc:language>
  <cp:lastModifiedBy>*</cp:lastModifiedBy>
  <dcterms:modified xsi:type="dcterms:W3CDTF">2013-11-03T17:26:09Z</dcterms:modified>
  <cp:revision>42</cp:revision>
  <dc:subject/>
  <dc:title>English and Sports</dc:title>
</cp:coreProperties>
</file>