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9A3-321B-4E22-B954-3C608A8A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B8B-22A0-419B-9816-14BAC1BC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A4C-B7E0-4BFE-A2BC-FBF2FE3D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6C0-C4B8-4EB4-B0EA-692636BC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630-B2C1-4C1E-8BD0-BCD0EB44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CCA-9C7A-48FE-8974-B8D4A8BE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F52-E67B-4787-9481-8D980732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296-EE0F-47D9-93B9-2C2F6F56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213-E4CE-40F2-92C4-26C6513E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C0D-46AB-4182-8A23-1E3F4BC7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ECD-5CD3-4925-AA24-C5ACB55B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A1F-D70A-4E18-AEFC-753C3DA1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F2A7-7658-47F3-9484-73BFBC6FC53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usic in the Olympic Gam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f. Sergio Font Milian, P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 want + someone + to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nt all the world to s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nt the bells to 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nt you to rep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nt her love to incr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nt him to read th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don’t want her to le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just want you to drea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wind is a gentle breez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el me habló de tí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ells are ringing ou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el canto vuela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're calling us togeth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us forev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sh my dream would never go away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xpressing a w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 my dream would never go aw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 she trained hard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 you didn`t talk about failure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 our judges were more qualifi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 he would listen to his coach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85480" y="571320"/>
            <a:ext cx="8643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rcelona - it was the first time that we me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rcelona - how can I forge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oment that you stepped into the room you took my breath away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rcelona - la música vibró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rcelona - y ella nos unió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if God’s willing we will meet again someday.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t was the first time tha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 m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 took part in a race like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competed against those top gymna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s so confident in my own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e won a match without losing one s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is bicycle broke in the middle of a 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 was injured in compet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00040"/>
            <a:ext cx="8400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 the songs begin.  Déjalo nac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 the music play.  -ahhhhhhhh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the voices sing.   Nace un gran amor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art the celebration.   Ven a mí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cry.   Grita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e alive.    Viv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shake the foundations from the ski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h, ah, shaking all our live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t / 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et the music pl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et the show beg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et the judges wor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ake the voices s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ake the runners retur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arcelona - such a beautiful horizo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arcelona - like a jewel in the su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or ti seré gaviota de tu bella mar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arcelona - suenan las campanas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arcelona - abre tus puertas al mundo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f God is willing,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f God is willing,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f God is willing,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riends until the end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Viva – Barcelona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f + subject + 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God is willing, we’ll be friends until the 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Bill is lucky, __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e is persistent, 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e is focused, 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is pain is relieved, 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f + subject + 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God is willing, we’ll be friends until the 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Bill is lucky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 can win a med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e is persistent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 can be successfu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e is focused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 will perform very wel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is pain is relieved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 will not have trouble defeating his opponen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 Marcador de contenido" descr="barcelona-1992.jpg"/>
          <p:cNvPicPr/>
          <p:nvPr/>
        </p:nvPicPr>
        <p:blipFill>
          <a:blip r:embed="rId1"/>
          <a:stretch/>
        </p:blipFill>
        <p:spPr>
          <a:xfrm>
            <a:off x="857160" y="500040"/>
            <a:ext cx="2805120" cy="2770200"/>
          </a:xfrm>
          <a:prstGeom prst="rect">
            <a:avLst/>
          </a:prstGeom>
          <a:ln w="0">
            <a:noFill/>
          </a:ln>
        </p:spPr>
      </p:pic>
      <p:pic>
        <p:nvPicPr>
          <p:cNvPr id="44" name="5 Imagen" descr="02-MONTJUIC.jpg"/>
          <p:cNvPicPr/>
          <p:nvPr/>
        </p:nvPicPr>
        <p:blipFill>
          <a:blip r:embed="rId2"/>
          <a:stretch/>
        </p:blipFill>
        <p:spPr>
          <a:xfrm>
            <a:off x="4714920" y="571680"/>
            <a:ext cx="349236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6 Imagen" descr="p_61_La-Sagrada-Familia-barcelon-765232.jpg"/>
          <p:cNvPicPr/>
          <p:nvPr/>
        </p:nvPicPr>
        <p:blipFill>
          <a:blip r:embed="rId3"/>
          <a:stretch/>
        </p:blipFill>
        <p:spPr>
          <a:xfrm>
            <a:off x="857160" y="3571920"/>
            <a:ext cx="2867040" cy="2886120"/>
          </a:xfrm>
          <a:prstGeom prst="rect">
            <a:avLst/>
          </a:prstGeom>
          <a:ln w="0">
            <a:noFill/>
          </a:ln>
        </p:spPr>
      </p:pic>
      <p:pic>
        <p:nvPicPr>
          <p:cNvPr id="46" name="7 Imagen" descr="rebollo.jpg"/>
          <p:cNvPicPr/>
          <p:nvPr/>
        </p:nvPicPr>
        <p:blipFill>
          <a:blip r:embed="rId4"/>
          <a:stretch/>
        </p:blipFill>
        <p:spPr>
          <a:xfrm>
            <a:off x="4214880" y="3786120"/>
            <a:ext cx="397836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mmary of language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ant someone t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t was the first time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et / Mak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f + subject + 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Freddie Mercu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orn on Sept. 5, 1946 in Zanzibar (Tanzani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ed on Nov. 24, 1991 in Lon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Imagen" descr="freddie-mercury-dios-rock.jpg"/>
          <p:cNvPicPr/>
          <p:nvPr/>
        </p:nvPicPr>
        <p:blipFill>
          <a:blip r:embed="rId1"/>
          <a:stretch/>
        </p:blipFill>
        <p:spPr>
          <a:xfrm>
            <a:off x="2071800" y="2143080"/>
            <a:ext cx="4916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480" y="28548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British musician and composer.  Lead vocalist of the rock band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Queen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e composed m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its for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Queen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cluding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Bohemi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Rhapsody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Don’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stop me now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Barcelona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We are the Champion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Imagen" descr="queen.jpg"/>
          <p:cNvPicPr/>
          <p:nvPr/>
        </p:nvPicPr>
        <p:blipFill>
          <a:blip r:embed="rId1"/>
          <a:stretch/>
        </p:blipFill>
        <p:spPr>
          <a:xfrm>
            <a:off x="4857840" y="1857240"/>
            <a:ext cx="400032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ontserrat Caball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panish soprano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orn in Barcelona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n April 12, 1933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Imagen" descr="montserrat-caballe-.jpg"/>
          <p:cNvPicPr/>
          <p:nvPr/>
        </p:nvPicPr>
        <p:blipFill>
          <a:blip r:embed="rId1"/>
          <a:stretch/>
        </p:blipFill>
        <p:spPr>
          <a:xfrm>
            <a:off x="4500720" y="1643040"/>
            <a:ext cx="4143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s sung with opera companies in Switzerland, Spain, New York, Philadelphia, Moscow and Italy, among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s appeared on stage with such famous tenors as José Carrera, Luciano Pavarotti and Plácido Domin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r voice is noted for its purity, precise control and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arcel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reddie Mercury and Montserrat Caballé became friends in 1986, and she called on Freddie a year later when the mayor of Barcelona asked for a song to commemorate the Olympic Gam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We worked on some ideas, he sat at the piano and we ended up improvising all through the night, but it was worth it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arcel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120" y="999720"/>
            <a:ext cx="8429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t was a hit in the UK, Spain, and around the world.  It became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ymn of the 199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mer Olympic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ballé sang it live 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opening of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lympics with Mercury’s part played on a screen because he had died 10 months bef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Imagen" descr="Barcelona_album_cover.jpg"/>
          <p:cNvPicPr/>
          <p:nvPr/>
        </p:nvPicPr>
        <p:blipFill>
          <a:blip r:embed="rId1"/>
          <a:stretch/>
        </p:blipFill>
        <p:spPr>
          <a:xfrm>
            <a:off x="4786200" y="1573200"/>
            <a:ext cx="3429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had this perfect dre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 sueño me envolvió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s dream was me and you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l vez estás aquí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want all the world to s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 instinto me guiaba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miracle sensation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y guide and inspira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w my dream is slowly coming tru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30:44Z</dcterms:created>
  <dc:creator>Sergio</dc:creator>
  <dc:description/>
  <dc:language>en-US</dc:language>
  <cp:lastModifiedBy>*</cp:lastModifiedBy>
  <dcterms:modified xsi:type="dcterms:W3CDTF">2013-11-03T17:26:45Z</dcterms:modified>
  <cp:revision>61</cp:revision>
  <dc:subject/>
  <dc:title>Talking about an athlete’s sports career</dc:title>
</cp:coreProperties>
</file>