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EEF-EAA4-4E43-A59E-E3C09BB6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CE19-4D9D-4C30-A67A-1DD76D21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25F-55D4-4C83-994B-4D534B1C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E4E-6BE5-4D25-B83F-9B854ED4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4E0-93C0-4403-8636-6C666F70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5F2-A5B0-419A-A224-30481F44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6E3B-6B9A-4CBF-B758-18713953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B447-B9C5-43BD-858E-C34381E2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91A8-F61D-4259-8CA6-A893F3AB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1EE-041E-4E4C-AC56-2716A2D9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D21-93C7-4A05-B996-047D606E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9F90-7923-4E90-98E2-57185D3B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2DF5-D86A-4957-A471-28A5522C3FC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Music in the Olympic Gam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f. Sergio Font Milian, Ph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 want + someone + to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want all the world to s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want the bells to 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want you to rep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want her love to incr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want him to read th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don’t want her to lea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just want you to drea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wind is a gentle breez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el me habló de tí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bells are ringing ou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el canto vuela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y're calling us togeth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uiding us forev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ish my dream would never go away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xpressing a w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 wish my dream would never go aw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 wish she trained hard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 wish you didn`t talk about failure aga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 wish our judges were more qualifie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 wish he would listen to his coach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85480" y="571320"/>
            <a:ext cx="8643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rcelona - it was the first time that we me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rcelona - how can I forget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moment that you stepped into the room you took my breath away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rcelona - la música vibró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rcelona - y ella nos unió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if God’s willing we will meet again someday.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It was the first time tha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e m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e took part in a race like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competed against those top gymna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 was so confident in my own suc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he won a match without losing one s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is bicycle broke in the middle of a r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e was injured in compet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500040"/>
            <a:ext cx="8400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 the songs begin.  Déjalo nac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 the music play.  -ahhhhhhhh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ke the voices sing.   Nace un gran amor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art the celebration.   Ven a mí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cry.   Grita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e alive.    Viv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shake the foundations from the skie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h, ah, shaking all our live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et / M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et the music pl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et the show beg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et the judges work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ake the voices s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ake the runners retur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arcelona - such a beautiful horizon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arcelona - like a jewel in the sun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or ti seré gaviota de tu bella mar.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arcelona - suenan las campanas.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arcelona - abre tus puertas al mundo.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f God is willing,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f God is willing,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f God is willing,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Friends until the end.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Viva – Barcelona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f + subject + 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God is willing, we’ll be friends until the 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Bill is lucky, __________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he is persistent, ______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he is focused, ________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his pain is relieved, ___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f + subject + 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God is willing, we’ll be friends until the 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Bill is lucky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e can win a med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he is persistent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e can be successfu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he is focused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e will perform very well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f his pain is relieved,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e will not have trouble defeating his opponen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 Marcador de contenido" descr="barcelona-1992.jpg"/>
          <p:cNvPicPr/>
          <p:nvPr/>
        </p:nvPicPr>
        <p:blipFill>
          <a:blip r:embed="rId1"/>
          <a:stretch/>
        </p:blipFill>
        <p:spPr>
          <a:xfrm>
            <a:off x="857160" y="500040"/>
            <a:ext cx="2805120" cy="2770200"/>
          </a:xfrm>
          <a:prstGeom prst="rect">
            <a:avLst/>
          </a:prstGeom>
          <a:ln w="0">
            <a:noFill/>
          </a:ln>
        </p:spPr>
      </p:pic>
      <p:pic>
        <p:nvPicPr>
          <p:cNvPr id="44" name="5 Imagen" descr="02-MONTJUIC.jpg"/>
          <p:cNvPicPr/>
          <p:nvPr/>
        </p:nvPicPr>
        <p:blipFill>
          <a:blip r:embed="rId2"/>
          <a:stretch/>
        </p:blipFill>
        <p:spPr>
          <a:xfrm>
            <a:off x="4714920" y="571680"/>
            <a:ext cx="349236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6 Imagen" descr="p_61_La-Sagrada-Familia-barcelon-765232.jpg"/>
          <p:cNvPicPr/>
          <p:nvPr/>
        </p:nvPicPr>
        <p:blipFill>
          <a:blip r:embed="rId3"/>
          <a:stretch/>
        </p:blipFill>
        <p:spPr>
          <a:xfrm>
            <a:off x="857160" y="3571920"/>
            <a:ext cx="2867040" cy="2886120"/>
          </a:xfrm>
          <a:prstGeom prst="rect">
            <a:avLst/>
          </a:prstGeom>
          <a:ln w="0">
            <a:noFill/>
          </a:ln>
        </p:spPr>
      </p:pic>
      <p:pic>
        <p:nvPicPr>
          <p:cNvPr id="46" name="7 Imagen" descr="rebollo.jpg"/>
          <p:cNvPicPr/>
          <p:nvPr/>
        </p:nvPicPr>
        <p:blipFill>
          <a:blip r:embed="rId4"/>
          <a:stretch/>
        </p:blipFill>
        <p:spPr>
          <a:xfrm>
            <a:off x="4214880" y="3786120"/>
            <a:ext cx="397836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ummary of language 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 want someone to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 wish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t was the first time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et / Mak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f + subject + b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Freddie Mercu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orn on Sept. 5, 1946 in Zanzibar (Tanzani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ed on Nov. 24, 1991 in Lond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3 Imagen" descr="freddie-mercury-dios-rock.jpg"/>
          <p:cNvPicPr/>
          <p:nvPr/>
        </p:nvPicPr>
        <p:blipFill>
          <a:blip r:embed="rId1"/>
          <a:stretch/>
        </p:blipFill>
        <p:spPr>
          <a:xfrm>
            <a:off x="2071800" y="2143080"/>
            <a:ext cx="491652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5480" y="28548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British musician and composer.  Lead vocalist of the rock band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Queen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He composed ma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hits for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Queen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ncluding </a:t>
            </a: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Bohemi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Rhapsody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Don’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stop me now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Barcelona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and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s-ES" sz="4000" spc="-1" strike="noStrike">
                <a:solidFill>
                  <a:srgbClr val="000000"/>
                </a:solidFill>
                <a:latin typeface="Calibri"/>
              </a:rPr>
              <a:t>We are the Champions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3 Imagen" descr="queen.jpg"/>
          <p:cNvPicPr/>
          <p:nvPr/>
        </p:nvPicPr>
        <p:blipFill>
          <a:blip r:embed="rId1"/>
          <a:stretch/>
        </p:blipFill>
        <p:spPr>
          <a:xfrm>
            <a:off x="4857840" y="1857240"/>
            <a:ext cx="400032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ontserrat Caball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84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panish soprano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born in Barcelona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on April 12, 1933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Imagen" descr="montserrat-caballe-.jpg"/>
          <p:cNvPicPr/>
          <p:nvPr/>
        </p:nvPicPr>
        <p:blipFill>
          <a:blip r:embed="rId1"/>
          <a:stretch/>
        </p:blipFill>
        <p:spPr>
          <a:xfrm>
            <a:off x="4500720" y="1643040"/>
            <a:ext cx="41432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s sung with opera companies in Switzerland, Spain, New York, Philadelphia, Moscow and Italy, among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s appeared on stage with such famous tenors as José Carrera, Luciano Pavarotti and Plácido Domin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er voice is noted for its purity, precise control and pow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Barcel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reddie Mercury and Montserrat Caballé became friends in 1986, and she called on Freddie a year later when the mayor of Barcelona asked for a song to commemorate the Olympic Gam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We worked on some ideas, he sat at the piano and we ended up improvising all through the night, but it was worth it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Barcel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120" y="999720"/>
            <a:ext cx="84297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t was a hit in the UK, Spain, and around the world.  It became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ymn of the 199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mmer Olympic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ballé sang it live 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opening of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lympics with Mercury’s part played on a screen because he had died 10 months bef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3 Imagen" descr="Barcelona_album_cover.jpg"/>
          <p:cNvPicPr/>
          <p:nvPr/>
        </p:nvPicPr>
        <p:blipFill>
          <a:blip r:embed="rId1"/>
          <a:stretch/>
        </p:blipFill>
        <p:spPr>
          <a:xfrm>
            <a:off x="4786200" y="1573200"/>
            <a:ext cx="3429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had this perfect dream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 sueño me envolvió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s dream was me and you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al vez estás aquí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want all the world to se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 instinto me guiaba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miracle sensation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y guide and inspiration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w my dream is slowly coming tru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1:30:44Z</dcterms:created>
  <dc:creator>Sergio</dc:creator>
  <dc:description/>
  <dc:language>en-US</dc:language>
  <cp:lastModifiedBy>*</cp:lastModifiedBy>
  <dcterms:modified xsi:type="dcterms:W3CDTF">2013-11-03T17:26:45Z</dcterms:modified>
  <cp:revision>61</cp:revision>
  <dc:subject/>
  <dc:title>Talking about an athlete’s sports career</dc:title>
</cp:coreProperties>
</file>