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20.jpeg" ContentType="image/jpeg"/>
  <Override PartName="/ppt/media/image26.gif" ContentType="image/gif"/>
  <Override PartName="/ppt/media/image29.wmf" ContentType="image/x-wmf"/>
  <Override PartName="/ppt/media/image19.jpeg" ContentType="image/jpeg"/>
  <Override PartName="/ppt/media/image25.png" ContentType="image/png"/>
  <Override PartName="/ppt/media/image17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.wmf" ContentType="image/x-wmf"/>
  <Override PartName="/ppt/media/image32.wmf" ContentType="image/x-wmf"/>
  <Override PartName="/ppt/media/image39.wmf" ContentType="image/x-wmf"/>
  <Override PartName="/ppt/media/image9.wmf" ContentType="image/x-wmf"/>
  <Override PartName="/ppt/media/image34.wmf" ContentType="image/x-wmf"/>
  <Override PartName="/ppt/media/image11.wmf" ContentType="image/x-wmf"/>
  <Override PartName="/ppt/media/image13.wmf" ContentType="image/x-wmf"/>
  <Override PartName="/ppt/media/image12.wmf" ContentType="image/x-wmf"/>
  <Override PartName="/ppt/media/image36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1.wmf" ContentType="image/x-wmf"/>
  <Override PartName="/ppt/media/image38.png" ContentType="image/png"/>
  <Override PartName="/ppt/media/image8.png" ContentType="image/png"/>
  <Override PartName="/ppt/media/image16.wmf" ContentType="image/x-wmf"/>
  <Override PartName="/ppt/media/image18.wmf" ContentType="image/x-wmf"/>
  <Override PartName="/ppt/media/image10.wmf" ContentType="image/x-wmf"/>
  <Override PartName="/ppt/media/image4.jpeg" ContentType="image/jpeg"/>
  <Override PartName="/ppt/media/image6.png" ContentType="image/png"/>
  <Override PartName="/ppt/media/image14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7.jpeg" ContentType="image/jpeg"/>
  <Override PartName="/ppt/media/image7.gif" ContentType="image/gif"/>
  <Override PartName="/ppt/media/image33.wmf" ContentType="image/x-wmf"/>
  <Override PartName="/ppt/media/image3.wmf" ContentType="image/x-wmf"/>
  <Override PartName="/ppt/media/image1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0579-5349-47ED-8553-9C89F33D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5D01-E741-440B-8441-7E0C0B6F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AF89-D5FA-486E-81DC-BD69DE94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8179-134B-4B9D-9080-EE68750F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B365-C885-45F4-9FC8-4117BCF4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0277-151E-457E-993F-B84A7B7F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F6DD-E63A-4C26-933D-7454E2BE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7332-DB92-4E4B-9462-78C552CC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6AB6-E199-40AA-A3A8-10725995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36F7-114B-4F0E-ACA2-301F252E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49F2-5582-4805-B05C-DDC76568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1449-7B18-49CE-9CCD-7116BEE2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A5A2-E353-478E-9DBC-777F260B783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10.wmf"/><Relationship Id="rId3" Type="http://schemas.openxmlformats.org/officeDocument/2006/relationships/image" Target="../media/image13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5.png"/><Relationship Id="rId8" Type="http://schemas.openxmlformats.org/officeDocument/2006/relationships/image" Target="../media/image5.wmf"/><Relationship Id="rId9" Type="http://schemas.openxmlformats.org/officeDocument/2006/relationships/image" Target="../media/image3.wmf"/><Relationship Id="rId10" Type="http://schemas.openxmlformats.org/officeDocument/2006/relationships/image" Target="../media/image12.wmf"/><Relationship Id="rId11" Type="http://schemas.openxmlformats.org/officeDocument/2006/relationships/image" Target="../media/image26.gif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10.wmf"/><Relationship Id="rId3" Type="http://schemas.openxmlformats.org/officeDocument/2006/relationships/image" Target="../media/image13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5.png"/><Relationship Id="rId8" Type="http://schemas.openxmlformats.org/officeDocument/2006/relationships/image" Target="../media/image5.wmf"/><Relationship Id="rId9" Type="http://schemas.openxmlformats.org/officeDocument/2006/relationships/image" Target="../media/image3.wmf"/><Relationship Id="rId10" Type="http://schemas.openxmlformats.org/officeDocument/2006/relationships/image" Target="../media/image12.wmf"/><Relationship Id="rId11" Type="http://schemas.openxmlformats.org/officeDocument/2006/relationships/image" Target="../media/image26.gif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1.wmf"/><Relationship Id="rId3" Type="http://schemas.openxmlformats.org/officeDocument/2006/relationships/image" Target="../media/image24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4.wmf"/><Relationship Id="rId3" Type="http://schemas.openxmlformats.org/officeDocument/2006/relationships/image" Target="../media/image21.wmf"/><Relationship Id="rId4" Type="http://schemas.openxmlformats.org/officeDocument/2006/relationships/image" Target="../media/image37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9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j0215620"/>
          <p:cNvPicPr/>
          <p:nvPr/>
        </p:nvPicPr>
        <p:blipFill>
          <a:blip r:embed="rId1"/>
          <a:stretch/>
        </p:blipFill>
        <p:spPr>
          <a:xfrm rot="20281200">
            <a:off x="691920" y="3141720"/>
            <a:ext cx="2367000" cy="2273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j0215772"/>
          <p:cNvPicPr/>
          <p:nvPr/>
        </p:nvPicPr>
        <p:blipFill>
          <a:blip r:embed="rId2"/>
          <a:stretch/>
        </p:blipFill>
        <p:spPr>
          <a:xfrm rot="1359000">
            <a:off x="5940360" y="2428920"/>
            <a:ext cx="2371680" cy="2224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j0198936"/>
          <p:cNvPicPr/>
          <p:nvPr/>
        </p:nvPicPr>
        <p:blipFill>
          <a:blip r:embed="rId3"/>
          <a:stretch/>
        </p:blipFill>
        <p:spPr>
          <a:xfrm>
            <a:off x="4716360" y="4653000"/>
            <a:ext cx="1509840" cy="1692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ropas"/>
          <p:cNvPicPr/>
          <p:nvPr/>
        </p:nvPicPr>
        <p:blipFill>
          <a:blip r:embed="rId4"/>
          <a:stretch/>
        </p:blipFill>
        <p:spPr>
          <a:xfrm>
            <a:off x="2916360" y="1989000"/>
            <a:ext cx="3313080" cy="2592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395280" y="333360"/>
            <a:ext cx="7543800" cy="916920"/>
          </a:xfrm>
          <a:prstGeom prst="rect">
            <a:avLst/>
          </a:prstGeom>
          <a:gradFill rotWithShape="0">
            <a:gsLst>
              <a:gs pos="0">
                <a:srgbClr val="18185e"/>
              </a:gs>
              <a:gs pos="5000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The clothes we wea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684360" y="69228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3" descr="j0297265"/>
          <p:cNvPicPr/>
          <p:nvPr/>
        </p:nvPicPr>
        <p:blipFill>
          <a:blip r:embed="rId1"/>
          <a:stretch/>
        </p:blipFill>
        <p:spPr>
          <a:xfrm>
            <a:off x="2843280" y="314172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0" y="0"/>
            <a:ext cx="4895640" cy="6895800"/>
            <a:chOff x="0" y="0"/>
            <a:chExt cx="4895640" cy="6895800"/>
          </a:xfrm>
        </p:grpSpPr>
        <p:pic>
          <p:nvPicPr>
            <p:cNvPr id="109" name="Picture 3" descr="ROSELEIDYS06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895640" cy="685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4"/>
            <p:cNvSpPr/>
            <p:nvPr/>
          </p:nvSpPr>
          <p:spPr>
            <a:xfrm>
              <a:off x="2852280" y="174600"/>
              <a:ext cx="924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1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Text Box 5"/>
            <p:cNvSpPr/>
            <p:nvPr/>
          </p:nvSpPr>
          <p:spPr>
            <a:xfrm>
              <a:off x="2237040" y="1794240"/>
              <a:ext cx="924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Text Box 6"/>
            <p:cNvSpPr/>
            <p:nvPr/>
          </p:nvSpPr>
          <p:spPr>
            <a:xfrm>
              <a:off x="1618200" y="3411720"/>
              <a:ext cx="924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3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Text Box 7"/>
            <p:cNvSpPr/>
            <p:nvPr/>
          </p:nvSpPr>
          <p:spPr>
            <a:xfrm>
              <a:off x="1386720" y="5978880"/>
              <a:ext cx="924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4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Text Box 8"/>
            <p:cNvSpPr/>
            <p:nvPr/>
          </p:nvSpPr>
          <p:spPr>
            <a:xfrm>
              <a:off x="3624120" y="5130720"/>
              <a:ext cx="924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4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Text Box 9"/>
          <p:cNvSpPr/>
          <p:nvPr/>
        </p:nvSpPr>
        <p:spPr>
          <a:xfrm>
            <a:off x="5076720" y="692280"/>
            <a:ext cx="40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What is Rose wearing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5292720" y="2997360"/>
            <a:ext cx="36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hat color are they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4859280" y="2298600"/>
            <a:ext cx="403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66"/>
                </a:solidFill>
                <a:latin typeface="Times New Roman"/>
              </a:rPr>
              <a:t>2 … a  yellow  blous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932360" y="76500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66"/>
                </a:solidFill>
                <a:latin typeface="Times New Roman"/>
              </a:rPr>
              <a:t>1 … a white hat.  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4932360" y="386064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66"/>
                </a:solidFill>
                <a:latin typeface="Times New Roman"/>
              </a:rPr>
              <a:t>3 …  a blue skirt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4859280" y="5157720"/>
            <a:ext cx="42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66"/>
                </a:solidFill>
                <a:latin typeface="Times New Roman"/>
              </a:rPr>
              <a:t>4 … white </a:t>
            </a:r>
            <a:r>
              <a:rPr b="1" i="1" lang="es-ES_tradnl" sz="4800" spc="-1" strike="noStrike">
                <a:solidFill>
                  <a:srgbClr val="ffff66"/>
                </a:solidFill>
                <a:latin typeface="Times New Roman"/>
              </a:rPr>
              <a:t>high-heel</a:t>
            </a:r>
            <a:r>
              <a:rPr b="1" i="1" lang="es-ES_tradnl" sz="4400" spc="-1" strike="noStrike">
                <a:solidFill>
                  <a:srgbClr val="ffff66"/>
                </a:solidFill>
                <a:latin typeface="Times New Roman"/>
              </a:rPr>
              <a:t> shoes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50920" y="1461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Rose  is  wearing…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7" descr="ROSELEIDYS06"/>
          <p:cNvPicPr/>
          <p:nvPr/>
        </p:nvPicPr>
        <p:blipFill>
          <a:blip r:embed="rId1"/>
          <a:stretch/>
        </p:blipFill>
        <p:spPr>
          <a:xfrm>
            <a:off x="0" y="907920"/>
            <a:ext cx="4572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j0232897"/>
          <p:cNvPicPr/>
          <p:nvPr/>
        </p:nvPicPr>
        <p:blipFill>
          <a:blip r:embed="rId1"/>
          <a:stretch/>
        </p:blipFill>
        <p:spPr>
          <a:xfrm>
            <a:off x="5003640" y="1413000"/>
            <a:ext cx="1783080" cy="186516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12"/>
          <p:cNvGrpSpPr/>
          <p:nvPr/>
        </p:nvGrpSpPr>
        <p:grpSpPr>
          <a:xfrm>
            <a:off x="611280" y="333360"/>
            <a:ext cx="8267760" cy="6318000"/>
            <a:chOff x="611280" y="333360"/>
            <a:chExt cx="8267760" cy="6318000"/>
          </a:xfrm>
        </p:grpSpPr>
        <p:sp>
          <p:nvSpPr>
            <p:cNvPr id="125" name="Text Box 3"/>
            <p:cNvSpPr/>
            <p:nvPr/>
          </p:nvSpPr>
          <p:spPr>
            <a:xfrm>
              <a:off x="611280" y="333360"/>
              <a:ext cx="799308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What clothes would you  wear  to: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i="1" lang="es-ES_tradnl" sz="5400" spc="-1" strike="noStrike">
                  <a:solidFill>
                    <a:srgbClr val="ffffff"/>
                  </a:solidFill>
                  <a:latin typeface="Times New Roman"/>
                </a:rPr>
                <a:t>go camping?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i="1" lang="es-ES_tradnl" sz="5400" spc="-1" strike="noStrike">
                  <a:solidFill>
                    <a:srgbClr val="ffffff"/>
                  </a:solidFill>
                  <a:latin typeface="Times New Roman"/>
                </a:rPr>
                <a:t>go to a ballet performance?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i="1" lang="es-ES_tradnl" sz="5400" spc="-1" strike="noStrike">
                  <a:solidFill>
                    <a:srgbClr val="ffffff"/>
                  </a:solidFill>
                  <a:latin typeface="Times New Roman"/>
                </a:rPr>
                <a:t>go to a baseball game?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6" name="Picture 6" descr=""/>
            <p:cNvPicPr/>
            <p:nvPr/>
          </p:nvPicPr>
          <p:blipFill>
            <a:blip r:embed="rId2"/>
            <a:srcRect l="21672" t="0" r="26361" b="18475"/>
            <a:stretch/>
          </p:blipFill>
          <p:spPr>
            <a:xfrm>
              <a:off x="5292720" y="3429000"/>
              <a:ext cx="180036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9" descr="j0199036"/>
            <p:cNvPicPr/>
            <p:nvPr/>
          </p:nvPicPr>
          <p:blipFill>
            <a:blip r:embed="rId3"/>
            <a:stretch/>
          </p:blipFill>
          <p:spPr>
            <a:xfrm>
              <a:off x="7380360" y="4869000"/>
              <a:ext cx="1498680" cy="1730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971640" y="692280"/>
            <a:ext cx="727236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66"/>
                </a:solidFill>
                <a:latin typeface="Times New Roman"/>
              </a:rPr>
              <a:t>C </a:t>
            </a:r>
            <a:r>
              <a:rPr b="1" i="1" lang="es-ES_tradnl" sz="7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camping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66"/>
                </a:solidFill>
                <a:latin typeface="Times New Roman"/>
              </a:rPr>
              <a:t>B  </a:t>
            </a:r>
            <a:r>
              <a:rPr b="1" i="1" lang="es-ES_tradnl" sz="7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ballet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66"/>
                </a:solidFill>
                <a:latin typeface="Times New Roman"/>
              </a:rPr>
              <a:t>G  </a:t>
            </a:r>
            <a:r>
              <a:rPr b="1" i="1" lang="es-ES_tradnl" sz="7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gam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5" descr="j0232897"/>
          <p:cNvPicPr/>
          <p:nvPr/>
        </p:nvPicPr>
        <p:blipFill>
          <a:blip r:embed="rId1"/>
          <a:stretch/>
        </p:blipFill>
        <p:spPr>
          <a:xfrm>
            <a:off x="6227640" y="333360"/>
            <a:ext cx="1782720" cy="1865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2"/>
          <a:srcRect l="21672" t="0" r="26361" b="18475"/>
          <a:stretch/>
        </p:blipFill>
        <p:spPr>
          <a:xfrm>
            <a:off x="4788000" y="2349360"/>
            <a:ext cx="1584360" cy="1871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j0199036"/>
          <p:cNvPicPr/>
          <p:nvPr/>
        </p:nvPicPr>
        <p:blipFill>
          <a:blip r:embed="rId3"/>
          <a:stretch/>
        </p:blipFill>
        <p:spPr>
          <a:xfrm>
            <a:off x="4643280" y="4653000"/>
            <a:ext cx="157032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j0233060"/>
          <p:cNvPicPr/>
          <p:nvPr/>
        </p:nvPicPr>
        <p:blipFill>
          <a:blip r:embed="rId1"/>
          <a:stretch/>
        </p:blipFill>
        <p:spPr>
          <a:xfrm>
            <a:off x="395280" y="692280"/>
            <a:ext cx="2230560" cy="1981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j0281148"/>
          <p:cNvPicPr/>
          <p:nvPr/>
        </p:nvPicPr>
        <p:blipFill>
          <a:blip r:embed="rId2"/>
          <a:stretch/>
        </p:blipFill>
        <p:spPr>
          <a:xfrm>
            <a:off x="3419640" y="404640"/>
            <a:ext cx="2814480" cy="1981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5" descr="j0280270"/>
          <p:cNvPicPr/>
          <p:nvPr/>
        </p:nvPicPr>
        <p:blipFill>
          <a:blip r:embed="rId3"/>
          <a:stretch/>
        </p:blipFill>
        <p:spPr>
          <a:xfrm>
            <a:off x="395280" y="2852640"/>
            <a:ext cx="1805040" cy="1779840"/>
          </a:xfrm>
          <a:prstGeom prst="rect">
            <a:avLst/>
          </a:prstGeom>
          <a:ln w="0">
            <a:noFill/>
          </a:ln>
        </p:spPr>
      </p:pic>
      <p:sp>
        <p:nvSpPr>
          <p:cNvPr id="135" name="Line 7"/>
          <p:cNvSpPr/>
          <p:nvPr/>
        </p:nvSpPr>
        <p:spPr>
          <a:xfrm>
            <a:off x="2217600" y="3056040"/>
            <a:ext cx="9684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Object 8"/>
          <p:cNvGraphicFramePr/>
          <p:nvPr/>
        </p:nvGraphicFramePr>
        <p:xfrm>
          <a:off x="3851280" y="5300640"/>
          <a:ext cx="1479600" cy="1289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51280" y="5300640"/>
                    <a:ext cx="14796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9"/>
          <p:cNvGraphicFramePr/>
          <p:nvPr/>
        </p:nvGraphicFramePr>
        <p:xfrm>
          <a:off x="1042920" y="5013360"/>
          <a:ext cx="1157400" cy="1576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9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42920" y="5013360"/>
                    <a:ext cx="11574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Line 10"/>
          <p:cNvSpPr/>
          <p:nvPr/>
        </p:nvSpPr>
        <p:spPr>
          <a:xfrm>
            <a:off x="2192400" y="4919760"/>
            <a:ext cx="9684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2217600" y="6276960"/>
            <a:ext cx="9684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6702480" y="2979720"/>
            <a:ext cx="94608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6683400" y="4532400"/>
            <a:ext cx="98892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6726240" y="6254640"/>
            <a:ext cx="9684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18" descr="j0232952"/>
          <p:cNvPicPr/>
          <p:nvPr/>
        </p:nvPicPr>
        <p:blipFill>
          <a:blip r:embed="rId8"/>
          <a:stretch/>
        </p:blipFill>
        <p:spPr>
          <a:xfrm>
            <a:off x="3419640" y="2637000"/>
            <a:ext cx="1973160" cy="1981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1" descr="j0198936"/>
          <p:cNvPicPr/>
          <p:nvPr/>
        </p:nvPicPr>
        <p:blipFill>
          <a:blip r:embed="rId9"/>
          <a:stretch/>
        </p:blipFill>
        <p:spPr>
          <a:xfrm>
            <a:off x="6659640" y="2276640"/>
            <a:ext cx="1509480" cy="1692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2" descr="j0350020"/>
          <p:cNvPicPr/>
          <p:nvPr/>
        </p:nvPicPr>
        <p:blipFill>
          <a:blip r:embed="rId10"/>
          <a:stretch/>
        </p:blipFill>
        <p:spPr>
          <a:xfrm>
            <a:off x="6804000" y="4797360"/>
            <a:ext cx="1814400" cy="136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3" descr="j0189237"/>
          <p:cNvPicPr/>
          <p:nvPr/>
        </p:nvPicPr>
        <p:blipFill>
          <a:blip r:embed="rId11"/>
          <a:stretch/>
        </p:blipFill>
        <p:spPr>
          <a:xfrm>
            <a:off x="6732720" y="333360"/>
            <a:ext cx="133344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j0233060"/>
          <p:cNvPicPr/>
          <p:nvPr/>
        </p:nvPicPr>
        <p:blipFill>
          <a:blip r:embed="rId1"/>
          <a:stretch/>
        </p:blipFill>
        <p:spPr>
          <a:xfrm>
            <a:off x="395280" y="692280"/>
            <a:ext cx="2230560" cy="1981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j0281148"/>
          <p:cNvPicPr/>
          <p:nvPr/>
        </p:nvPicPr>
        <p:blipFill>
          <a:blip r:embed="rId2"/>
          <a:stretch/>
        </p:blipFill>
        <p:spPr>
          <a:xfrm>
            <a:off x="3419640" y="404640"/>
            <a:ext cx="2814480" cy="1981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j0280270"/>
          <p:cNvPicPr/>
          <p:nvPr/>
        </p:nvPicPr>
        <p:blipFill>
          <a:blip r:embed="rId3"/>
          <a:stretch/>
        </p:blipFill>
        <p:spPr>
          <a:xfrm>
            <a:off x="395280" y="2852640"/>
            <a:ext cx="1805040" cy="1779840"/>
          </a:xfrm>
          <a:prstGeom prst="rect">
            <a:avLst/>
          </a:prstGeom>
          <a:ln w="0">
            <a:noFill/>
          </a:ln>
        </p:spPr>
      </p:pic>
      <p:sp>
        <p:nvSpPr>
          <p:cNvPr id="152" name="Line 5"/>
          <p:cNvSpPr/>
          <p:nvPr/>
        </p:nvSpPr>
        <p:spPr>
          <a:xfrm>
            <a:off x="2217600" y="3056040"/>
            <a:ext cx="9684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Object 6"/>
          <p:cNvGraphicFramePr/>
          <p:nvPr/>
        </p:nvGraphicFramePr>
        <p:xfrm>
          <a:off x="3851280" y="5300640"/>
          <a:ext cx="1479600" cy="1289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51280" y="5300640"/>
                    <a:ext cx="14796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7"/>
          <p:cNvGraphicFramePr/>
          <p:nvPr/>
        </p:nvGraphicFramePr>
        <p:xfrm>
          <a:off x="1042920" y="5013360"/>
          <a:ext cx="1157400" cy="1576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42920" y="5013360"/>
                    <a:ext cx="11574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Line 8"/>
          <p:cNvSpPr/>
          <p:nvPr/>
        </p:nvSpPr>
        <p:spPr>
          <a:xfrm>
            <a:off x="2192400" y="4919760"/>
            <a:ext cx="9684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2217600" y="6276960"/>
            <a:ext cx="9684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10"/>
          <p:cNvSpPr/>
          <p:nvPr/>
        </p:nvSpPr>
        <p:spPr>
          <a:xfrm>
            <a:off x="6702480" y="2979720"/>
            <a:ext cx="94608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6683400" y="4532400"/>
            <a:ext cx="98892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6726240" y="6254640"/>
            <a:ext cx="9684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13" descr="j0232952"/>
          <p:cNvPicPr/>
          <p:nvPr/>
        </p:nvPicPr>
        <p:blipFill>
          <a:blip r:embed="rId8"/>
          <a:stretch/>
        </p:blipFill>
        <p:spPr>
          <a:xfrm>
            <a:off x="3419640" y="2637000"/>
            <a:ext cx="1973160" cy="1981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j0198936"/>
          <p:cNvPicPr/>
          <p:nvPr/>
        </p:nvPicPr>
        <p:blipFill>
          <a:blip r:embed="rId9"/>
          <a:stretch/>
        </p:blipFill>
        <p:spPr>
          <a:xfrm>
            <a:off x="6659640" y="2276640"/>
            <a:ext cx="1509480" cy="169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j0350020"/>
          <p:cNvPicPr/>
          <p:nvPr/>
        </p:nvPicPr>
        <p:blipFill>
          <a:blip r:embed="rId10"/>
          <a:stretch/>
        </p:blipFill>
        <p:spPr>
          <a:xfrm>
            <a:off x="6804000" y="4797360"/>
            <a:ext cx="1814400" cy="1363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6" descr="j0189237"/>
          <p:cNvPicPr/>
          <p:nvPr/>
        </p:nvPicPr>
        <p:blipFill>
          <a:blip r:embed="rId11"/>
          <a:stretch/>
        </p:blipFill>
        <p:spPr>
          <a:xfrm>
            <a:off x="6732720" y="333360"/>
            <a:ext cx="1333440" cy="15829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7"/>
          <p:cNvSpPr/>
          <p:nvPr/>
        </p:nvSpPr>
        <p:spPr>
          <a:xfrm>
            <a:off x="3205080" y="299736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C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1908000" y="537372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C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1908000" y="76500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C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6877080" y="580536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C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5219640" y="465300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B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22"/>
          <p:cNvSpPr/>
          <p:nvPr/>
        </p:nvSpPr>
        <p:spPr>
          <a:xfrm>
            <a:off x="1835280" y="3500280"/>
            <a:ext cx="10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B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3060720" y="28260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C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6227640" y="301932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B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8028000" y="126828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B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8244000" y="445932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B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5076720" y="357336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G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28"/>
          <p:cNvSpPr/>
          <p:nvPr/>
        </p:nvSpPr>
        <p:spPr>
          <a:xfrm>
            <a:off x="5148360" y="1484280"/>
            <a:ext cx="10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G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11"/>
          <p:cNvGrpSpPr/>
          <p:nvPr/>
        </p:nvGrpSpPr>
        <p:grpSpPr>
          <a:xfrm>
            <a:off x="611280" y="-48960"/>
            <a:ext cx="8064360" cy="6662880"/>
            <a:chOff x="611280" y="-48960"/>
            <a:chExt cx="8064360" cy="6662880"/>
          </a:xfrm>
        </p:grpSpPr>
        <p:sp>
          <p:nvSpPr>
            <p:cNvPr id="179" name="Text Box 6"/>
            <p:cNvSpPr/>
            <p:nvPr/>
          </p:nvSpPr>
          <p:spPr>
            <a:xfrm>
              <a:off x="611280" y="1118880"/>
              <a:ext cx="8064360" cy="54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ff"/>
                  </a:solidFill>
                  <a:latin typeface="Times New Roman"/>
                </a:rPr>
                <a:t>A: Is this your_____    ?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ff"/>
                  </a:solidFill>
                  <a:latin typeface="Times New Roman"/>
                </a:rPr>
                <a:t>B: No. That one is blue and my______is white.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0" name="Picture 10" descr="j0198936"/>
            <p:cNvPicPr/>
            <p:nvPr/>
          </p:nvPicPr>
          <p:blipFill>
            <a:blip r:embed="rId1"/>
            <a:stretch/>
          </p:blipFill>
          <p:spPr>
            <a:xfrm rot="1482000">
              <a:off x="5149800" y="189000"/>
              <a:ext cx="1509840" cy="169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1" name="Picture 12" descr="j0198936"/>
          <p:cNvPicPr/>
          <p:nvPr/>
        </p:nvPicPr>
        <p:blipFill>
          <a:blip r:embed="rId2"/>
          <a:stretch/>
        </p:blipFill>
        <p:spPr>
          <a:xfrm>
            <a:off x="6858000" y="4316400"/>
            <a:ext cx="20001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9"/>
          <p:cNvGrpSpPr/>
          <p:nvPr/>
        </p:nvGrpSpPr>
        <p:grpSpPr>
          <a:xfrm>
            <a:off x="395280" y="189000"/>
            <a:ext cx="8209080" cy="6184800"/>
            <a:chOff x="395280" y="189000"/>
            <a:chExt cx="8209080" cy="6184800"/>
          </a:xfrm>
        </p:grpSpPr>
        <p:sp>
          <p:nvSpPr>
            <p:cNvPr id="183" name="Text Box 6"/>
            <p:cNvSpPr/>
            <p:nvPr/>
          </p:nvSpPr>
          <p:spPr>
            <a:xfrm>
              <a:off x="395280" y="189000"/>
              <a:ext cx="8209080" cy="50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ff"/>
                  </a:solidFill>
                  <a:latin typeface="Times New Roman"/>
                </a:rPr>
                <a:t>A: Are these your _____?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ff"/>
                  </a:solidFill>
                  <a:latin typeface="Times New Roman"/>
                </a:rPr>
                <a:t>B: No, they aren’t. Those are blue, and my ______ are brown.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4" name="Picture 7" descr="j0232952"/>
            <p:cNvPicPr/>
            <p:nvPr/>
          </p:nvPicPr>
          <p:blipFill>
            <a:blip r:embed="rId1"/>
            <a:stretch/>
          </p:blipFill>
          <p:spPr>
            <a:xfrm>
              <a:off x="5435640" y="4365720"/>
              <a:ext cx="200016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8" descr="j0232952"/>
            <p:cNvPicPr/>
            <p:nvPr/>
          </p:nvPicPr>
          <p:blipFill>
            <a:blip r:embed="rId2"/>
            <a:stretch/>
          </p:blipFill>
          <p:spPr>
            <a:xfrm>
              <a:off x="5867280" y="405000"/>
              <a:ext cx="1206720" cy="1863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539640" y="54936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Use the correct demonstrative pronoun as indicated by the arrow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j0198936"/>
          <p:cNvPicPr/>
          <p:nvPr/>
        </p:nvPicPr>
        <p:blipFill>
          <a:blip r:embed="rId1"/>
          <a:stretch/>
        </p:blipFill>
        <p:spPr>
          <a:xfrm>
            <a:off x="6732720" y="2924280"/>
            <a:ext cx="1509480" cy="169200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13"/>
          <p:cNvGrpSpPr/>
          <p:nvPr/>
        </p:nvGrpSpPr>
        <p:grpSpPr>
          <a:xfrm>
            <a:off x="55800" y="-27000"/>
            <a:ext cx="4371840" cy="2994120"/>
            <a:chOff x="55800" y="-27000"/>
            <a:chExt cx="4371840" cy="2994120"/>
          </a:xfrm>
        </p:grpSpPr>
        <p:grpSp>
          <p:nvGrpSpPr>
            <p:cNvPr id="48" name="Group 11"/>
            <p:cNvGrpSpPr/>
            <p:nvPr/>
          </p:nvGrpSpPr>
          <p:grpSpPr>
            <a:xfrm>
              <a:off x="55800" y="-27000"/>
              <a:ext cx="4227480" cy="2994120"/>
              <a:chOff x="55800" y="-27000"/>
              <a:chExt cx="4227480" cy="2994120"/>
            </a:xfrm>
          </p:grpSpPr>
          <p:pic>
            <p:nvPicPr>
              <p:cNvPr id="49" name="Picture 5" descr="j0215620"/>
              <p:cNvPicPr/>
              <p:nvPr/>
            </p:nvPicPr>
            <p:blipFill>
              <a:blip r:embed="rId2"/>
              <a:stretch/>
            </p:blipFill>
            <p:spPr>
              <a:xfrm rot="20281200">
                <a:off x="394920" y="333360"/>
                <a:ext cx="236700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Text Box 10"/>
              <p:cNvSpPr/>
              <p:nvPr/>
            </p:nvSpPr>
            <p:spPr>
              <a:xfrm>
                <a:off x="2178000" y="1281240"/>
                <a:ext cx="21052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5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1" i="1" lang="es-ES_tradnl" sz="5400" spc="-1" strike="noStrike">
                    <a:solidFill>
                      <a:srgbClr val="ffff66"/>
                    </a:solidFill>
                    <a:latin typeface="Times New Roman"/>
                  </a:rPr>
                  <a:t>gloves</a:t>
                </a:r>
                <a:endParaRPr b="1" i="1" lang="en-US" sz="5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" name="Text Box 12"/>
            <p:cNvSpPr/>
            <p:nvPr/>
          </p:nvSpPr>
          <p:spPr>
            <a:xfrm>
              <a:off x="2050920" y="476280"/>
              <a:ext cx="237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coat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Group 17"/>
          <p:cNvGrpSpPr/>
          <p:nvPr/>
        </p:nvGrpSpPr>
        <p:grpSpPr>
          <a:xfrm>
            <a:off x="5940360" y="189000"/>
            <a:ext cx="2664000" cy="2069280"/>
            <a:chOff x="5940360" y="189000"/>
            <a:chExt cx="2664000" cy="2069280"/>
          </a:xfrm>
        </p:grpSpPr>
        <p:pic>
          <p:nvPicPr>
            <p:cNvPr id="53" name="Picture 8" descr="j0232952"/>
            <p:cNvPicPr/>
            <p:nvPr/>
          </p:nvPicPr>
          <p:blipFill>
            <a:blip r:embed="rId3"/>
            <a:stretch/>
          </p:blipFill>
          <p:spPr>
            <a:xfrm>
              <a:off x="6372360" y="189000"/>
              <a:ext cx="2000160" cy="20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5"/>
            <p:cNvSpPr/>
            <p:nvPr/>
          </p:nvSpPr>
          <p:spPr>
            <a:xfrm>
              <a:off x="5940360" y="1341360"/>
              <a:ext cx="266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ff"/>
                  </a:solidFill>
                  <a:latin typeface="Times New Roman"/>
                </a:rPr>
                <a:t>jeans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324000" y="2708280"/>
            <a:ext cx="4968720" cy="2736720"/>
            <a:chOff x="324000" y="2708280"/>
            <a:chExt cx="4968720" cy="2736720"/>
          </a:xfrm>
        </p:grpSpPr>
        <p:pic>
          <p:nvPicPr>
            <p:cNvPr id="56" name="Picture 3" descr=""/>
            <p:cNvPicPr/>
            <p:nvPr/>
          </p:nvPicPr>
          <p:blipFill>
            <a:blip r:embed="rId4"/>
            <a:stretch/>
          </p:blipFill>
          <p:spPr>
            <a:xfrm>
              <a:off x="468360" y="3500280"/>
              <a:ext cx="158256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6"/>
            <p:cNvSpPr/>
            <p:nvPr/>
          </p:nvSpPr>
          <p:spPr>
            <a:xfrm>
              <a:off x="324000" y="270828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800" spc="-1" strike="noStrike">
                  <a:solidFill>
                    <a:srgbClr val="ffff66"/>
                  </a:solidFill>
                  <a:latin typeface="Times New Roman"/>
                </a:rPr>
                <a:t>swimming</a:t>
              </a: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 suit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Text Box 19"/>
          <p:cNvSpPr/>
          <p:nvPr/>
        </p:nvSpPr>
        <p:spPr>
          <a:xfrm>
            <a:off x="6804000" y="486900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shirt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Group 21"/>
          <p:cNvGrpSpPr/>
          <p:nvPr/>
        </p:nvGrpSpPr>
        <p:grpSpPr>
          <a:xfrm>
            <a:off x="2785680" y="4225320"/>
            <a:ext cx="3657600" cy="2504880"/>
            <a:chOff x="2785680" y="4225320"/>
            <a:chExt cx="3657600" cy="2504880"/>
          </a:xfrm>
        </p:grpSpPr>
        <p:pic>
          <p:nvPicPr>
            <p:cNvPr id="60" name="Picture 7" descr="j0215772"/>
            <p:cNvPicPr/>
            <p:nvPr/>
          </p:nvPicPr>
          <p:blipFill>
            <a:blip r:embed="rId5"/>
            <a:stretch/>
          </p:blipFill>
          <p:spPr>
            <a:xfrm rot="433800">
              <a:off x="2916360" y="4365360"/>
              <a:ext cx="237168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20"/>
            <p:cNvSpPr/>
            <p:nvPr/>
          </p:nvSpPr>
          <p:spPr>
            <a:xfrm>
              <a:off x="3851280" y="5589720"/>
              <a:ext cx="259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T-shirt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0239613"/>
          <p:cNvPicPr/>
          <p:nvPr/>
        </p:nvPicPr>
        <p:blipFill>
          <a:blip r:embed="rId1"/>
          <a:stretch/>
        </p:blipFill>
        <p:spPr>
          <a:xfrm>
            <a:off x="5796000" y="476280"/>
            <a:ext cx="2521080" cy="2070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1116000" y="371628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_____ are my boots, and ____ is my umbrella too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4284720" y="981000"/>
            <a:ext cx="2087640" cy="71928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258920" y="2421000"/>
            <a:ext cx="669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4932360" y="2637000"/>
            <a:ext cx="3887640" cy="3781080"/>
            <a:chOff x="4932360" y="2637000"/>
            <a:chExt cx="3887640" cy="3781080"/>
          </a:xfrm>
        </p:grpSpPr>
        <p:grpSp>
          <p:nvGrpSpPr>
            <p:cNvPr id="192" name="Group 4"/>
            <p:cNvGrpSpPr/>
            <p:nvPr/>
          </p:nvGrpSpPr>
          <p:grpSpPr>
            <a:xfrm>
              <a:off x="4932360" y="4581360"/>
              <a:ext cx="3679920" cy="1836720"/>
              <a:chOff x="4932360" y="4581360"/>
              <a:chExt cx="3679920" cy="1836720"/>
            </a:xfrm>
          </p:grpSpPr>
          <p:pic>
            <p:nvPicPr>
              <p:cNvPr id="193" name="Picture 5" descr="j0312012"/>
              <p:cNvPicPr/>
              <p:nvPr/>
            </p:nvPicPr>
            <p:blipFill>
              <a:blip r:embed="rId1"/>
              <a:stretch/>
            </p:blipFill>
            <p:spPr>
              <a:xfrm>
                <a:off x="6732720" y="4581360"/>
                <a:ext cx="1879560" cy="183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6" descr="j0350020"/>
              <p:cNvPicPr/>
              <p:nvPr/>
            </p:nvPicPr>
            <p:blipFill>
              <a:blip r:embed="rId2"/>
              <a:stretch/>
            </p:blipFill>
            <p:spPr>
              <a:xfrm>
                <a:off x="4932360" y="4941720"/>
                <a:ext cx="1814400" cy="136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5" name="Line 7"/>
            <p:cNvSpPr/>
            <p:nvPr/>
          </p:nvSpPr>
          <p:spPr>
            <a:xfrm flipH="1">
              <a:off x="7524720" y="2637000"/>
              <a:ext cx="1295280" cy="151272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Text Box 8"/>
          <p:cNvSpPr/>
          <p:nvPr/>
        </p:nvSpPr>
        <p:spPr>
          <a:xfrm>
            <a:off x="684360" y="2957400"/>
            <a:ext cx="691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____ is her dress but _______ are not her hat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" name="Group 9"/>
          <p:cNvGrpSpPr/>
          <p:nvPr/>
        </p:nvGrpSpPr>
        <p:grpSpPr>
          <a:xfrm>
            <a:off x="826920" y="333360"/>
            <a:ext cx="4249800" cy="1851120"/>
            <a:chOff x="826920" y="333360"/>
            <a:chExt cx="4249800" cy="1851120"/>
          </a:xfrm>
        </p:grpSpPr>
        <p:pic>
          <p:nvPicPr>
            <p:cNvPr id="198" name="Picture 10" descr="j0280270"/>
            <p:cNvPicPr/>
            <p:nvPr/>
          </p:nvPicPr>
          <p:blipFill>
            <a:blip r:embed="rId3"/>
            <a:stretch/>
          </p:blipFill>
          <p:spPr>
            <a:xfrm>
              <a:off x="826920" y="404640"/>
              <a:ext cx="1805040" cy="177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Line 11"/>
            <p:cNvSpPr/>
            <p:nvPr/>
          </p:nvSpPr>
          <p:spPr>
            <a:xfrm flipH="1">
              <a:off x="3132000" y="333360"/>
              <a:ext cx="1944720" cy="64764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j0239613"/>
          <p:cNvPicPr/>
          <p:nvPr/>
        </p:nvPicPr>
        <p:blipFill>
          <a:blip r:embed="rId1"/>
          <a:stretch/>
        </p:blipFill>
        <p:spPr>
          <a:xfrm>
            <a:off x="5796000" y="476280"/>
            <a:ext cx="2521080" cy="2070000"/>
          </a:xfrm>
          <a:prstGeom prst="rect">
            <a:avLst/>
          </a:prstGeom>
          <a:ln w="0">
            <a:noFill/>
          </a:ln>
        </p:spPr>
      </p:pic>
      <p:sp>
        <p:nvSpPr>
          <p:cNvPr id="201" name="Line 3"/>
          <p:cNvSpPr/>
          <p:nvPr/>
        </p:nvSpPr>
        <p:spPr>
          <a:xfrm>
            <a:off x="4284720" y="981000"/>
            <a:ext cx="2087640" cy="71928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1042920" y="3666960"/>
            <a:ext cx="7705800" cy="1789200"/>
            <a:chOff x="1042920" y="3666960"/>
            <a:chExt cx="7705800" cy="1789200"/>
          </a:xfrm>
        </p:grpSpPr>
        <p:sp>
          <p:nvSpPr>
            <p:cNvPr id="203" name="Text Box 5"/>
            <p:cNvSpPr/>
            <p:nvPr/>
          </p:nvSpPr>
          <p:spPr>
            <a:xfrm>
              <a:off x="1116000" y="3716280"/>
              <a:ext cx="76327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ff"/>
                  </a:solidFill>
                  <a:latin typeface="Times New Roman"/>
                </a:rPr>
                <a:t>_____ are my boots, and ____ is my umbrella too.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Text Box 6"/>
            <p:cNvSpPr/>
            <p:nvPr/>
          </p:nvSpPr>
          <p:spPr>
            <a:xfrm>
              <a:off x="1116000" y="4530600"/>
              <a:ext cx="1944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this 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Text Box 7"/>
            <p:cNvSpPr/>
            <p:nvPr/>
          </p:nvSpPr>
          <p:spPr>
            <a:xfrm>
              <a:off x="1042920" y="3666960"/>
              <a:ext cx="1944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These</a:t>
              </a:r>
              <a:r>
                <a:rPr b="1" i="1" lang="es-ES_tradnl" sz="5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258920" y="2421000"/>
            <a:ext cx="669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4932360" y="2637000"/>
            <a:ext cx="3887640" cy="3781080"/>
            <a:chOff x="4932360" y="2637000"/>
            <a:chExt cx="3887640" cy="3781080"/>
          </a:xfrm>
        </p:grpSpPr>
        <p:grpSp>
          <p:nvGrpSpPr>
            <p:cNvPr id="208" name="Group 4"/>
            <p:cNvGrpSpPr/>
            <p:nvPr/>
          </p:nvGrpSpPr>
          <p:grpSpPr>
            <a:xfrm>
              <a:off x="4932360" y="4581360"/>
              <a:ext cx="3679920" cy="1836720"/>
              <a:chOff x="4932360" y="4581360"/>
              <a:chExt cx="3679920" cy="1836720"/>
            </a:xfrm>
          </p:grpSpPr>
          <p:pic>
            <p:nvPicPr>
              <p:cNvPr id="209" name="Picture 5" descr="j0312012"/>
              <p:cNvPicPr/>
              <p:nvPr/>
            </p:nvPicPr>
            <p:blipFill>
              <a:blip r:embed="rId1"/>
              <a:stretch/>
            </p:blipFill>
            <p:spPr>
              <a:xfrm>
                <a:off x="6732720" y="4581360"/>
                <a:ext cx="1879560" cy="183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0" name="Picture 6" descr="j0350020"/>
              <p:cNvPicPr/>
              <p:nvPr/>
            </p:nvPicPr>
            <p:blipFill>
              <a:blip r:embed="rId2"/>
              <a:stretch/>
            </p:blipFill>
            <p:spPr>
              <a:xfrm>
                <a:off x="4932360" y="4941720"/>
                <a:ext cx="1814400" cy="136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1" name="Line 7"/>
            <p:cNvSpPr/>
            <p:nvPr/>
          </p:nvSpPr>
          <p:spPr>
            <a:xfrm flipH="1">
              <a:off x="7524720" y="2637000"/>
              <a:ext cx="1295280" cy="151272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Group 8"/>
          <p:cNvGrpSpPr/>
          <p:nvPr/>
        </p:nvGrpSpPr>
        <p:grpSpPr>
          <a:xfrm>
            <a:off x="826920" y="333360"/>
            <a:ext cx="4249800" cy="1851120"/>
            <a:chOff x="826920" y="333360"/>
            <a:chExt cx="4249800" cy="1851120"/>
          </a:xfrm>
        </p:grpSpPr>
        <p:pic>
          <p:nvPicPr>
            <p:cNvPr id="213" name="Picture 9" descr="j0280270"/>
            <p:cNvPicPr/>
            <p:nvPr/>
          </p:nvPicPr>
          <p:blipFill>
            <a:blip r:embed="rId3"/>
            <a:stretch/>
          </p:blipFill>
          <p:spPr>
            <a:xfrm>
              <a:off x="826920" y="404640"/>
              <a:ext cx="1805040" cy="177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Line 10"/>
            <p:cNvSpPr/>
            <p:nvPr/>
          </p:nvSpPr>
          <p:spPr>
            <a:xfrm flipH="1">
              <a:off x="3132000" y="333360"/>
              <a:ext cx="1944720" cy="64764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Group 11"/>
          <p:cNvGrpSpPr/>
          <p:nvPr/>
        </p:nvGrpSpPr>
        <p:grpSpPr>
          <a:xfrm>
            <a:off x="539640" y="2946240"/>
            <a:ext cx="7056720" cy="2574000"/>
            <a:chOff x="539640" y="2946240"/>
            <a:chExt cx="7056720" cy="2574000"/>
          </a:xfrm>
        </p:grpSpPr>
        <p:sp>
          <p:nvSpPr>
            <p:cNvPr id="216" name="Text Box 12"/>
            <p:cNvSpPr/>
            <p:nvPr/>
          </p:nvSpPr>
          <p:spPr>
            <a:xfrm>
              <a:off x="684360" y="2957400"/>
              <a:ext cx="69120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ff"/>
                  </a:solidFill>
                  <a:latin typeface="Times New Roman"/>
                </a:rPr>
                <a:t>____ is her dress but _______ are not her hats.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Text Box 13"/>
            <p:cNvSpPr/>
            <p:nvPr/>
          </p:nvSpPr>
          <p:spPr>
            <a:xfrm>
              <a:off x="539640" y="2946240"/>
              <a:ext cx="2087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That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Text Box 14"/>
            <p:cNvSpPr/>
            <p:nvPr/>
          </p:nvSpPr>
          <p:spPr>
            <a:xfrm>
              <a:off x="826920" y="3716280"/>
              <a:ext cx="2087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those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99360" y="252360"/>
            <a:ext cx="852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66"/>
                </a:solidFill>
                <a:latin typeface="Comic Sans MS"/>
              </a:rPr>
              <a:t>Organiza las letras para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66"/>
                </a:solidFill>
                <a:latin typeface="Comic Sans MS"/>
              </a:rPr>
              <a:t>formar palabras.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Picture 6" descr="j0281148"/>
          <p:cNvPicPr/>
          <p:nvPr/>
        </p:nvPicPr>
        <p:blipFill>
          <a:blip r:embed="rId1"/>
          <a:stretch/>
        </p:blipFill>
        <p:spPr>
          <a:xfrm>
            <a:off x="7388280" y="3789360"/>
            <a:ext cx="1576440" cy="1109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j0232897"/>
          <p:cNvPicPr/>
          <p:nvPr/>
        </p:nvPicPr>
        <p:blipFill>
          <a:blip r:embed="rId2"/>
          <a:stretch/>
        </p:blipFill>
        <p:spPr>
          <a:xfrm flipH="1">
            <a:off x="3492360" y="4941720"/>
            <a:ext cx="1440000" cy="1654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j0233060"/>
          <p:cNvPicPr/>
          <p:nvPr/>
        </p:nvPicPr>
        <p:blipFill>
          <a:blip r:embed="rId3"/>
          <a:stretch/>
        </p:blipFill>
        <p:spPr>
          <a:xfrm>
            <a:off x="5508720" y="4365720"/>
            <a:ext cx="1549440" cy="14414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36360" y="27082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Comic Sans MS"/>
              </a:rPr>
              <a:t>a) a-g-n-i-t-b-h  u-i-t-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Comic Sans MS"/>
              </a:rPr>
              <a:t>b) l-i-p-f  p-l-o-f-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Comic Sans MS"/>
              </a:rPr>
              <a:t>c) w-e-l-s-o-t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Comic Sans MS"/>
              </a:rPr>
              <a:t>e) e-n-t-t</a:t>
            </a:r>
            <a:r>
              <a:rPr b="1" lang="es-ES" sz="5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7574040" y="1270080"/>
          <a:ext cx="1245960" cy="1582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74040" y="1270080"/>
                    <a:ext cx="124596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j0233062"/>
          <p:cNvPicPr/>
          <p:nvPr/>
        </p:nvPicPr>
        <p:blipFill>
          <a:blip r:embed="rId1"/>
          <a:stretch/>
        </p:blipFill>
        <p:spPr>
          <a:xfrm flipH="1" rot="597600">
            <a:off x="7093080" y="1773000"/>
            <a:ext cx="1672920" cy="23493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6"/>
          <p:cNvSpPr/>
          <p:nvPr/>
        </p:nvSpPr>
        <p:spPr>
          <a:xfrm>
            <a:off x="611280" y="333360"/>
            <a:ext cx="7993080" cy="63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hat clothes would you  take  to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go camping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go to a ballet performance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go to a baseball game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4"/>
          <p:cNvSpPr/>
          <p:nvPr/>
        </p:nvSpPr>
        <p:spPr>
          <a:xfrm>
            <a:off x="1239840" y="114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62800" y="585720"/>
            <a:ext cx="8516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Paula: shorts, a blouse and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shoes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Johnny: shorts, a T-shirt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and shoes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7" descr="j0232063"/>
          <p:cNvPicPr/>
          <p:nvPr/>
        </p:nvPicPr>
        <p:blipFill>
          <a:blip r:embed="rId1"/>
          <a:stretch/>
        </p:blipFill>
        <p:spPr>
          <a:xfrm>
            <a:off x="1890720" y="3284640"/>
            <a:ext cx="2610000" cy="3500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j0233047"/>
          <p:cNvPicPr/>
          <p:nvPr/>
        </p:nvPicPr>
        <p:blipFill>
          <a:blip r:embed="rId2"/>
          <a:stretch/>
        </p:blipFill>
        <p:spPr>
          <a:xfrm flipH="1">
            <a:off x="5437080" y="3430440"/>
            <a:ext cx="30225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1600200" y="244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91960" y="333360"/>
            <a:ext cx="8561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B) Paula: bathing suit and flip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flops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Johnny: bathing suit and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flip flops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Picture 7" descr="j0232144"/>
          <p:cNvPicPr/>
          <p:nvPr/>
        </p:nvPicPr>
        <p:blipFill>
          <a:blip r:embed="rId1"/>
          <a:stretch/>
        </p:blipFill>
        <p:spPr>
          <a:xfrm>
            <a:off x="1547640" y="3357720"/>
            <a:ext cx="2800440" cy="3047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j0232435"/>
          <p:cNvPicPr/>
          <p:nvPr/>
        </p:nvPicPr>
        <p:blipFill>
          <a:blip r:embed="rId2"/>
          <a:stretch/>
        </p:blipFill>
        <p:spPr>
          <a:xfrm flipH="1">
            <a:off x="5508720" y="3357720"/>
            <a:ext cx="234288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439920" y="476280"/>
            <a:ext cx="8498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C) Paula: a skirt, a blouse and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shoes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Johnny: jeans, a T-shirt and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shoes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5" descr="j0232449"/>
          <p:cNvPicPr/>
          <p:nvPr/>
        </p:nvPicPr>
        <p:blipFill>
          <a:blip r:embed="rId1"/>
          <a:stretch/>
        </p:blipFill>
        <p:spPr>
          <a:xfrm flipH="1">
            <a:off x="5292360" y="3068640"/>
            <a:ext cx="2592360" cy="3789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j0232522"/>
          <p:cNvPicPr/>
          <p:nvPr/>
        </p:nvPicPr>
        <p:blipFill>
          <a:blip r:embed="rId2"/>
          <a:stretch/>
        </p:blipFill>
        <p:spPr>
          <a:xfrm>
            <a:off x="1979640" y="3284640"/>
            <a:ext cx="2241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324000" y="189000"/>
            <a:ext cx="83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ffff66"/>
                </a:solidFill>
                <a:latin typeface="Comic Sans MS"/>
              </a:rPr>
              <a:t>Tick the items you would take to  go camping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3" descr="j0281148"/>
          <p:cNvPicPr/>
          <p:nvPr/>
        </p:nvPicPr>
        <p:blipFill>
          <a:blip r:embed="rId1"/>
          <a:stretch/>
        </p:blipFill>
        <p:spPr>
          <a:xfrm>
            <a:off x="390600" y="5416560"/>
            <a:ext cx="1562040" cy="14414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j0233060"/>
          <p:cNvPicPr/>
          <p:nvPr/>
        </p:nvPicPr>
        <p:blipFill>
          <a:blip r:embed="rId2"/>
          <a:stretch/>
        </p:blipFill>
        <p:spPr>
          <a:xfrm>
            <a:off x="4721400" y="1692360"/>
            <a:ext cx="1844640" cy="1638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j0232897"/>
          <p:cNvPicPr/>
          <p:nvPr/>
        </p:nvPicPr>
        <p:blipFill>
          <a:blip r:embed="rId3"/>
          <a:stretch/>
        </p:blipFill>
        <p:spPr>
          <a:xfrm>
            <a:off x="4853160" y="5011560"/>
            <a:ext cx="1680840" cy="1683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j0185171"/>
          <p:cNvPicPr/>
          <p:nvPr/>
        </p:nvPicPr>
        <p:blipFill>
          <a:blip r:embed="rId4"/>
          <a:stretch/>
        </p:blipFill>
        <p:spPr>
          <a:xfrm>
            <a:off x="289080" y="1684440"/>
            <a:ext cx="1782720" cy="2031840"/>
          </a:xfrm>
          <a:prstGeom prst="rect">
            <a:avLst/>
          </a:prstGeom>
          <a:ln w="0">
            <a:noFill/>
          </a:ln>
        </p:spPr>
      </p:pic>
      <p:sp>
        <p:nvSpPr>
          <p:cNvPr id="244" name="Line 7"/>
          <p:cNvSpPr/>
          <p:nvPr/>
        </p:nvSpPr>
        <p:spPr>
          <a:xfrm>
            <a:off x="2217600" y="3056040"/>
            <a:ext cx="9684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Object 2"/>
          <p:cNvGraphicFramePr/>
          <p:nvPr/>
        </p:nvGraphicFramePr>
        <p:xfrm>
          <a:off x="4799160" y="3598920"/>
          <a:ext cx="1479240" cy="128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99160" y="3598920"/>
                    <a:ext cx="147924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3"/>
          <p:cNvGraphicFramePr/>
          <p:nvPr/>
        </p:nvGraphicFramePr>
        <p:xfrm>
          <a:off x="2484360" y="4005360"/>
          <a:ext cx="1157400" cy="157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8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4360" y="4005360"/>
                    <a:ext cx="11574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Line 10"/>
          <p:cNvSpPr/>
          <p:nvPr/>
        </p:nvSpPr>
        <p:spPr>
          <a:xfrm>
            <a:off x="2192400" y="4919760"/>
            <a:ext cx="9684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1"/>
          <p:cNvSpPr/>
          <p:nvPr/>
        </p:nvSpPr>
        <p:spPr>
          <a:xfrm>
            <a:off x="2217600" y="6276960"/>
            <a:ext cx="9684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2"/>
          <p:cNvSpPr/>
          <p:nvPr/>
        </p:nvSpPr>
        <p:spPr>
          <a:xfrm>
            <a:off x="6702480" y="2979720"/>
            <a:ext cx="94608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6683400" y="4532400"/>
            <a:ext cx="98892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4"/>
          <p:cNvSpPr/>
          <p:nvPr/>
        </p:nvSpPr>
        <p:spPr>
          <a:xfrm>
            <a:off x="6726240" y="6254640"/>
            <a:ext cx="9684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4"/>
          <p:cNvGrpSpPr/>
          <p:nvPr/>
        </p:nvGrpSpPr>
        <p:grpSpPr>
          <a:xfrm>
            <a:off x="5003640" y="189000"/>
            <a:ext cx="3706920" cy="1966680"/>
            <a:chOff x="5003640" y="189000"/>
            <a:chExt cx="3706920" cy="1966680"/>
          </a:xfrm>
        </p:grpSpPr>
        <p:pic>
          <p:nvPicPr>
            <p:cNvPr id="63" name="Picture 7" descr="j0283986"/>
            <p:cNvPicPr/>
            <p:nvPr/>
          </p:nvPicPr>
          <p:blipFill>
            <a:blip r:embed="rId1"/>
            <a:stretch/>
          </p:blipFill>
          <p:spPr>
            <a:xfrm>
              <a:off x="6443640" y="189000"/>
              <a:ext cx="2266920" cy="19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/>
            <p:cNvSpPr/>
            <p:nvPr/>
          </p:nvSpPr>
          <p:spPr>
            <a:xfrm>
              <a:off x="5003640" y="260280"/>
              <a:ext cx="180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shoes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Group 22"/>
          <p:cNvGrpSpPr/>
          <p:nvPr/>
        </p:nvGrpSpPr>
        <p:grpSpPr>
          <a:xfrm>
            <a:off x="684360" y="3809880"/>
            <a:ext cx="3816360" cy="2468520"/>
            <a:chOff x="684360" y="3809880"/>
            <a:chExt cx="3816360" cy="2468520"/>
          </a:xfrm>
        </p:grpSpPr>
        <p:pic>
          <p:nvPicPr>
            <p:cNvPr id="66" name="Picture 18" descr=""/>
            <p:cNvPicPr/>
            <p:nvPr/>
          </p:nvPicPr>
          <p:blipFill>
            <a:blip r:embed="rId2"/>
            <a:stretch/>
          </p:blipFill>
          <p:spPr>
            <a:xfrm>
              <a:off x="684360" y="4508640"/>
              <a:ext cx="2087280" cy="17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9"/>
            <p:cNvSpPr/>
            <p:nvPr/>
          </p:nvSpPr>
          <p:spPr>
            <a:xfrm>
              <a:off x="1403280" y="3809880"/>
              <a:ext cx="3097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sandals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" name="Group 23"/>
          <p:cNvGrpSpPr/>
          <p:nvPr/>
        </p:nvGrpSpPr>
        <p:grpSpPr>
          <a:xfrm>
            <a:off x="395280" y="333360"/>
            <a:ext cx="3168720" cy="1854360"/>
            <a:chOff x="395280" y="333360"/>
            <a:chExt cx="3168720" cy="1854360"/>
          </a:xfrm>
        </p:grpSpPr>
        <p:pic>
          <p:nvPicPr>
            <p:cNvPr id="69" name="Picture 16" descr="j0239613"/>
            <p:cNvPicPr/>
            <p:nvPr/>
          </p:nvPicPr>
          <p:blipFill>
            <a:blip r:embed="rId3"/>
            <a:stretch/>
          </p:blipFill>
          <p:spPr>
            <a:xfrm>
              <a:off x="395280" y="333360"/>
              <a:ext cx="1743120" cy="18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20"/>
            <p:cNvSpPr/>
            <p:nvPr/>
          </p:nvSpPr>
          <p:spPr>
            <a:xfrm>
              <a:off x="1619280" y="1125360"/>
              <a:ext cx="1944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boots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" name="Group 25"/>
          <p:cNvGrpSpPr/>
          <p:nvPr/>
        </p:nvGrpSpPr>
        <p:grpSpPr>
          <a:xfrm>
            <a:off x="5580000" y="3716280"/>
            <a:ext cx="3168720" cy="2046240"/>
            <a:chOff x="5580000" y="3716280"/>
            <a:chExt cx="3168720" cy="2046240"/>
          </a:xfrm>
        </p:grpSpPr>
        <p:pic>
          <p:nvPicPr>
            <p:cNvPr id="72" name="Picture 3" descr="j0281148"/>
            <p:cNvPicPr/>
            <p:nvPr/>
          </p:nvPicPr>
          <p:blipFill>
            <a:blip r:embed="rId4"/>
            <a:stretch/>
          </p:blipFill>
          <p:spPr>
            <a:xfrm>
              <a:off x="6300720" y="4653000"/>
              <a:ext cx="157644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21"/>
            <p:cNvSpPr/>
            <p:nvPr/>
          </p:nvSpPr>
          <p:spPr>
            <a:xfrm>
              <a:off x="5580000" y="3716280"/>
              <a:ext cx="31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flip flops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403560" y="692280"/>
            <a:ext cx="79668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200" spc="-1" strike="noStrike">
                <a:solidFill>
                  <a:srgbClr val="ffff66"/>
                </a:solidFill>
                <a:latin typeface="Comic Sans MS"/>
              </a:rPr>
              <a:t>I need to</a:t>
            </a:r>
            <a:r>
              <a:rPr b="1" lang="en-GB" sz="5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GB" sz="6200" spc="-1" strike="noStrike">
                <a:solidFill>
                  <a:srgbClr val="ffff66"/>
                </a:solidFill>
                <a:latin typeface="Comic Sans MS"/>
              </a:rPr>
              <a:t>pack </a:t>
            </a:r>
            <a:endParaRPr b="1" i="1" lang="en-US" sz="6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200" spc="-1" strike="noStrike">
                <a:solidFill>
                  <a:srgbClr val="ffff66"/>
                </a:solidFill>
                <a:latin typeface="Comic Sans MS"/>
              </a:rPr>
              <a:t>sheets, towels, a </a:t>
            </a:r>
            <a:endParaRPr b="1" i="1" lang="en-US" sz="6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200" spc="-1" strike="noStrike">
                <a:solidFill>
                  <a:srgbClr val="ffff66"/>
                </a:solidFill>
                <a:latin typeface="Comic Sans MS"/>
              </a:rPr>
              <a:t>tent, a bathing suit,</a:t>
            </a:r>
            <a:endParaRPr b="1" i="1" lang="en-US" sz="6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200" spc="-1" strike="noStrike">
                <a:solidFill>
                  <a:srgbClr val="ffff66"/>
                </a:solidFill>
                <a:latin typeface="Comic Sans MS"/>
              </a:rPr>
              <a:t>and flip flops.</a:t>
            </a:r>
            <a:r>
              <a:rPr b="1" lang="en-US" sz="62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1" i="1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5" name="Object 2"/>
          <p:cNvGraphicFramePr/>
          <p:nvPr/>
        </p:nvGraphicFramePr>
        <p:xfrm>
          <a:off x="6103800" y="3929040"/>
          <a:ext cx="2835360" cy="28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03800" y="3929040"/>
                    <a:ext cx="283536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06200" y="660240"/>
            <a:ext cx="9058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Comic Sans MS"/>
              </a:rPr>
              <a:t>Haz tu propia lista de lo que debemos llevar al campismo. 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Comic Sans MS"/>
              </a:rPr>
              <a:t>Selecciona palabras de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Comic Sans MS"/>
              </a:rPr>
              <a:t>la lista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3" descr="j0232889"/>
          <p:cNvPicPr/>
          <p:nvPr/>
        </p:nvPicPr>
        <p:blipFill>
          <a:blip r:embed="rId1"/>
          <a:stretch/>
        </p:blipFill>
        <p:spPr>
          <a:xfrm>
            <a:off x="6129360" y="4295880"/>
            <a:ext cx="290340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71360" y="76320"/>
            <a:ext cx="9144000" cy="58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66"/>
                </a:solidFill>
                <a:latin typeface="Comic Sans MS"/>
              </a:rPr>
              <a:t>     </a:t>
            </a:r>
            <a:r>
              <a:rPr b="1" lang="en-GB" sz="5400" spc="-1" strike="noStrike">
                <a:solidFill>
                  <a:srgbClr val="ffff66"/>
                </a:solidFill>
                <a:latin typeface="Comic Sans MS"/>
              </a:rPr>
              <a:t>I need to pack..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66"/>
                </a:solidFill>
                <a:latin typeface="Comic Sans MS"/>
              </a:rPr>
              <a:t>List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66"/>
                </a:solidFill>
                <a:latin typeface="Comic Sans MS"/>
              </a:rPr>
              <a:t>flip flops, a pair of shorts, T-shirts, a tent, a bathing suit, sheets, a pencil, a shirt, a bike, towels.</a:t>
            </a:r>
            <a:r>
              <a:rPr b="1" lang="en-US" sz="54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3" descr="j0232441"/>
          <p:cNvPicPr/>
          <p:nvPr/>
        </p:nvPicPr>
        <p:blipFill>
          <a:blip r:embed="rId1"/>
          <a:stretch/>
        </p:blipFill>
        <p:spPr>
          <a:xfrm>
            <a:off x="6427800" y="1174680"/>
            <a:ext cx="2095560" cy="12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703440" y="932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54000" y="712800"/>
            <a:ext cx="909000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GB" sz="5000" spc="-1" strike="noStrike">
                <a:solidFill>
                  <a:srgbClr val="ffff66"/>
                </a:solidFill>
                <a:latin typeface="Comic Sans MS"/>
              </a:rPr>
              <a:t>I need to pack flip flops,</a:t>
            </a:r>
            <a:endParaRPr b="1" i="1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GB" sz="5000" spc="-1" strike="noStrike">
                <a:solidFill>
                  <a:srgbClr val="ffff66"/>
                </a:solidFill>
                <a:latin typeface="Comic Sans MS"/>
              </a:rPr>
              <a:t>a pair of shorts, T-shirts,     </a:t>
            </a:r>
            <a:endParaRPr b="1" i="1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GB" sz="5000" spc="-1" strike="noStrike">
                <a:solidFill>
                  <a:srgbClr val="ffff66"/>
                </a:solidFill>
                <a:latin typeface="Comic Sans MS"/>
              </a:rPr>
              <a:t>a tent, a bathing suit,</a:t>
            </a:r>
            <a:endParaRPr b="1" i="1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GB" sz="5000" spc="-1" strike="noStrike">
                <a:solidFill>
                  <a:srgbClr val="ffff66"/>
                </a:solidFill>
                <a:latin typeface="Comic Sans MS"/>
              </a:rPr>
              <a:t>sheets, a shirt, </a:t>
            </a:r>
            <a:endParaRPr b="1" i="1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GB" sz="5000" spc="-1" strike="noStrike">
                <a:solidFill>
                  <a:srgbClr val="ffff66"/>
                </a:solidFill>
                <a:latin typeface="Comic Sans MS"/>
              </a:rPr>
              <a:t>and towels.</a:t>
            </a:r>
            <a:r>
              <a:rPr b="1" lang="en-US" sz="50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1" i="1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Picture 4" descr="j0232897"/>
          <p:cNvPicPr/>
          <p:nvPr/>
        </p:nvPicPr>
        <p:blipFill>
          <a:blip r:embed="rId1"/>
          <a:stretch/>
        </p:blipFill>
        <p:spPr>
          <a:xfrm>
            <a:off x="5675400" y="4141800"/>
            <a:ext cx="25495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j0232913"/>
          <p:cNvPicPr/>
          <p:nvPr/>
        </p:nvPicPr>
        <p:blipFill>
          <a:blip r:embed="rId1"/>
          <a:stretch/>
        </p:blipFill>
        <p:spPr>
          <a:xfrm flipH="1">
            <a:off x="6683400" y="3800520"/>
            <a:ext cx="2052720" cy="29113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j0232907"/>
          <p:cNvPicPr/>
          <p:nvPr/>
        </p:nvPicPr>
        <p:blipFill>
          <a:blip r:embed="rId2"/>
          <a:stretch/>
        </p:blipFill>
        <p:spPr>
          <a:xfrm>
            <a:off x="368280" y="103320"/>
            <a:ext cx="1504800" cy="24922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290520" y="554040"/>
            <a:ext cx="885348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66"/>
                </a:solidFill>
                <a:latin typeface="Comic Sans MS"/>
              </a:rPr>
              <a:t>     </a:t>
            </a:r>
            <a:r>
              <a:rPr b="1" lang="es-ES" sz="5400" spc="-1" strike="noStrike">
                <a:solidFill>
                  <a:srgbClr val="ffff66"/>
                </a:solidFill>
                <a:latin typeface="Comic Sans MS"/>
              </a:rPr>
              <a:t>Haz una lista de     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66"/>
                </a:solidFill>
                <a:latin typeface="Comic Sans MS"/>
              </a:rPr>
              <a:t>        </a:t>
            </a:r>
            <a:r>
              <a:rPr b="1" lang="es-ES" sz="5400" spc="-1" strike="noStrike">
                <a:solidFill>
                  <a:srgbClr val="ffff66"/>
                </a:solidFill>
                <a:latin typeface="Comic Sans MS"/>
              </a:rPr>
              <a:t>los comestibles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66"/>
                </a:solidFill>
                <a:latin typeface="Comic Sans MS"/>
              </a:rPr>
              <a:t>que llevarías al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66"/>
                </a:solidFill>
                <a:latin typeface="Comic Sans MS"/>
              </a:rPr>
              <a:t>         </a:t>
            </a:r>
            <a:r>
              <a:rPr b="1" lang="es-ES" sz="5400" spc="-1" strike="noStrike">
                <a:solidFill>
                  <a:srgbClr val="ffff66"/>
                </a:solidFill>
                <a:latin typeface="Comic Sans MS"/>
              </a:rPr>
              <a:t>campismo.</a:t>
            </a:r>
            <a:r>
              <a:rPr b="1" lang="en-US" sz="54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Picture 5" descr="j0232436"/>
          <p:cNvPicPr/>
          <p:nvPr/>
        </p:nvPicPr>
        <p:blipFill>
          <a:blip r:embed="rId3"/>
          <a:stretch/>
        </p:blipFill>
        <p:spPr>
          <a:xfrm flipH="1">
            <a:off x="7054920" y="65160"/>
            <a:ext cx="1861920" cy="24796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j0232161"/>
          <p:cNvPicPr/>
          <p:nvPr/>
        </p:nvPicPr>
        <p:blipFill>
          <a:blip r:embed="rId4"/>
          <a:stretch/>
        </p:blipFill>
        <p:spPr>
          <a:xfrm>
            <a:off x="968400" y="4170240"/>
            <a:ext cx="161604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3"/>
          <p:cNvSpPr/>
          <p:nvPr/>
        </p:nvSpPr>
        <p:spPr>
          <a:xfrm>
            <a:off x="1044720" y="2382840"/>
            <a:ext cx="705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reate a dialogue with your partner. Use the prompts as help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755640" y="115920"/>
            <a:ext cx="70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Student   A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611280" y="1197000"/>
            <a:ext cx="777708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Gree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Ask what items of clothing he/she would take to go camping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Thank him / her for the information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Say good-by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684360" y="228600"/>
            <a:ext cx="82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Possible expressions for Std A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900000" y="2708280"/>
            <a:ext cx="7559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324000" y="1197000"/>
            <a:ext cx="882000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What  clothes could we need for camping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Do you think we could need a…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What items of clothing could we need to go camping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What do we need to pack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755640" y="115920"/>
            <a:ext cx="70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Student   B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611280" y="1197000"/>
            <a:ext cx="777708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Answer greeting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Tell him/her the items of clothing  you would take to go camping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Reply to thanks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Say good-by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684360" y="228600"/>
            <a:ext cx="82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Possible expressions for Std B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900000" y="2708280"/>
            <a:ext cx="7559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6920" y="1341360"/>
            <a:ext cx="77774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We could need a.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We need to pack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. are very useful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j0232937"/>
          <p:cNvPicPr/>
          <p:nvPr/>
        </p:nvPicPr>
        <p:blipFill>
          <a:blip r:embed="rId1"/>
          <a:stretch/>
        </p:blipFill>
        <p:spPr>
          <a:xfrm>
            <a:off x="468360" y="4797360"/>
            <a:ext cx="2043000" cy="1633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j0239613"/>
          <p:cNvPicPr/>
          <p:nvPr/>
        </p:nvPicPr>
        <p:blipFill>
          <a:blip r:embed="rId2"/>
          <a:stretch/>
        </p:blipFill>
        <p:spPr>
          <a:xfrm>
            <a:off x="6732720" y="2637000"/>
            <a:ext cx="1743120" cy="127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j0350020"/>
          <p:cNvPicPr/>
          <p:nvPr/>
        </p:nvPicPr>
        <p:blipFill>
          <a:blip r:embed="rId3"/>
          <a:stretch/>
        </p:blipFill>
        <p:spPr>
          <a:xfrm>
            <a:off x="611280" y="3213000"/>
            <a:ext cx="1814400" cy="1363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j0280270"/>
          <p:cNvPicPr/>
          <p:nvPr/>
        </p:nvPicPr>
        <p:blipFill>
          <a:blip r:embed="rId4"/>
          <a:stretch/>
        </p:blipFill>
        <p:spPr>
          <a:xfrm>
            <a:off x="6588000" y="333360"/>
            <a:ext cx="1805040" cy="1779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j0237604"/>
          <p:cNvPicPr/>
          <p:nvPr/>
        </p:nvPicPr>
        <p:blipFill>
          <a:blip r:embed="rId5"/>
          <a:stretch/>
        </p:blipFill>
        <p:spPr>
          <a:xfrm>
            <a:off x="539640" y="0"/>
            <a:ext cx="2562480" cy="25160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3"/>
          <p:cNvSpPr/>
          <p:nvPr/>
        </p:nvSpPr>
        <p:spPr>
          <a:xfrm>
            <a:off x="4643280" y="2565360"/>
            <a:ext cx="28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umbrella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1909800" y="2060640"/>
            <a:ext cx="200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blous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2268360" y="47973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coat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4788000" y="836640"/>
            <a:ext cx="25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dres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2411280" y="3429000"/>
            <a:ext cx="20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hat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Group 19"/>
          <p:cNvGrpSpPr/>
          <p:nvPr/>
        </p:nvGrpSpPr>
        <p:grpSpPr>
          <a:xfrm>
            <a:off x="3924360" y="4653000"/>
            <a:ext cx="5035320" cy="1944720"/>
            <a:chOff x="3924360" y="4653000"/>
            <a:chExt cx="5035320" cy="1944720"/>
          </a:xfrm>
        </p:grpSpPr>
        <p:pic>
          <p:nvPicPr>
            <p:cNvPr id="85" name="Picture 20" descr="j0216166"/>
            <p:cNvPicPr/>
            <p:nvPr/>
          </p:nvPicPr>
          <p:blipFill>
            <a:blip r:embed="rId6"/>
            <a:srcRect l="0" t="13288" r="0" b="0"/>
            <a:stretch/>
          </p:blipFill>
          <p:spPr>
            <a:xfrm>
              <a:off x="3924360" y="4653000"/>
              <a:ext cx="287964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21"/>
            <p:cNvSpPr/>
            <p:nvPr/>
          </p:nvSpPr>
          <p:spPr>
            <a:xfrm>
              <a:off x="6302520" y="5373720"/>
              <a:ext cx="2657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necklace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79280" y="404640"/>
            <a:ext cx="878544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Provide the Spanish equivalent of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his =        these =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hat =        those =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79280" y="404640"/>
            <a:ext cx="89647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Answer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his = este       these = esto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hat = aquel   those = aquello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97164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Language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j0299125"/>
          <p:cNvPicPr/>
          <p:nvPr/>
        </p:nvPicPr>
        <p:blipFill>
          <a:blip r:embed="rId2"/>
          <a:stretch/>
        </p:blipFill>
        <p:spPr>
          <a:xfrm>
            <a:off x="7093080" y="4292640"/>
            <a:ext cx="172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826920" y="476280"/>
            <a:ext cx="763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276720" y="333360"/>
            <a:ext cx="72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24000" y="4059360"/>
            <a:ext cx="8316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5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2233440" cy="2232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3780000" y="260280"/>
            <a:ext cx="4537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Demonstrativ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pronoun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971640" y="4292640"/>
            <a:ext cx="748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79280" y="2852640"/>
            <a:ext cx="896472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this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/  </a:t>
            </a: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these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(things which are near us)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that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/ </a:t>
            </a: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those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( things which are not near )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826920" y="476280"/>
            <a:ext cx="763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276720" y="333360"/>
            <a:ext cx="72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24000" y="4059360"/>
            <a:ext cx="8316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5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2520720" cy="2881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3851280" y="549360"/>
            <a:ext cx="45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To talk about clothing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71640" y="4292640"/>
            <a:ext cx="748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179280" y="3284640"/>
            <a:ext cx="8964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hat are you wearing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hat is he/she wearing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hat color is…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de los Angeles</cp:lastModifiedBy>
  <dcterms:modified xsi:type="dcterms:W3CDTF">2013-10-30T08:45:56Z</dcterms:modified>
  <cp:revision>34</cp:revision>
  <dc:subject/>
  <dc:title>PowerPoint Presentation</dc:title>
</cp:coreProperties>
</file>