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wmf" ContentType="image/x-wmf"/>
  <Override PartName="/ppt/media/image11.gif" ContentType="image/gi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418-2E09-4BB3-B19B-85CC94C0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EC7-EEFC-4EBB-9B88-1DF9EDCE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492-4380-4D20-8E51-E25145F4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438-0303-4487-AA1D-CB16E4BA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275-B12B-422E-9E27-73A69A56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4F5-0BA4-4E52-97D0-0BC12DE9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1D7-8160-4059-AE19-2311FDC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FB5-6EDE-4561-930E-CEC3B602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883-9EB6-4081-864A-AF8478C5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DF9-E4DA-4241-974E-0BC9204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041-F2F7-478D-9CD3-FCF29AD6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2E9-909A-45AA-B846-A6A5ED9F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8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8E0D-81A7-484E-94AD-BABB4C4340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1213560" y="2565360"/>
            <a:ext cx="1164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ffffff"/>
                </a:solidFill>
                <a:latin typeface="Monotype Corsiva"/>
              </a:rPr>
              <a:t>What are you doing?</a:t>
            </a:r>
            <a:endParaRPr b="1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14" descr="j0236446"/>
          <p:cNvPicPr/>
          <p:nvPr/>
        </p:nvPicPr>
        <p:blipFill>
          <a:blip r:embed="rId1"/>
          <a:stretch/>
        </p:blipFill>
        <p:spPr>
          <a:xfrm>
            <a:off x="5435640" y="371628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j0236466"/>
          <p:cNvPicPr/>
          <p:nvPr/>
        </p:nvPicPr>
        <p:blipFill>
          <a:blip r:embed="rId2"/>
          <a:stretch/>
        </p:blipFill>
        <p:spPr>
          <a:xfrm>
            <a:off x="181080" y="-316080"/>
            <a:ext cx="3311280" cy="331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j0283742"/>
          <p:cNvPicPr/>
          <p:nvPr/>
        </p:nvPicPr>
        <p:blipFill>
          <a:blip r:embed="rId3"/>
          <a:stretch/>
        </p:blipFill>
        <p:spPr>
          <a:xfrm>
            <a:off x="395280" y="3944880"/>
            <a:ext cx="31687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332000" y="404640"/>
            <a:ext cx="78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3" descr="j0293466"/>
          <p:cNvPicPr/>
          <p:nvPr/>
        </p:nvPicPr>
        <p:blipFill>
          <a:blip r:embed="rId1"/>
          <a:stretch/>
        </p:blipFill>
        <p:spPr>
          <a:xfrm>
            <a:off x="0" y="-27000"/>
            <a:ext cx="2124000" cy="1511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627280" y="6660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2178000"/>
            <a:ext cx="85694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– l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ng        d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ing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–</a:t>
            </a:r>
            <a:r>
              <a:rPr b="1" i="1" lang="es-ES_tradnl" sz="4800" spc="-1" strike="noStrike" u="sng">
                <a:solidFill>
                  <a:srgbClr val="ffff00"/>
                </a:solidFill>
                <a:uFillTx/>
                <a:latin typeface="Times New Roman"/>
              </a:rPr>
              <a:t>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, eliminate –e  : writ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-writ</a:t>
            </a: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24000" y="23065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-ie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,eliminate  </a:t>
            </a:r>
            <a:r>
              <a:rPr b="1" i="1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–ie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and  take </a:t>
            </a:r>
            <a:r>
              <a:rPr b="1" i="1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–y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197080" y="1052640"/>
            <a:ext cx="63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Verbs ending in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39640" y="333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 the answer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11280" y="1557360"/>
            <a:ext cx="82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ob____ cooking spaghetti because he always cooks spaghetti on Wednes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9640" y="333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Possible  answer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11280" y="1557360"/>
            <a:ext cx="82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ob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i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cooking spaghetti because he always cooks spaghetti on Wednesday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11280" y="140328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imes New Roman"/>
              </a:rPr>
              <a:t>Select the correct alternative.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68360" y="189000"/>
            <a:ext cx="8424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hey refer to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Frequent and regular activitie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he activities occurring at the moment of speaking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Past activities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57120" y="1000080"/>
            <a:ext cx="8425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y refer to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Frequent and regular activiti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 activities occurring at the moment of speaking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Past activiti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214200" y="3571920"/>
            <a:ext cx="914400" cy="914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6 Rectángulo"/>
          <p:cNvSpPr/>
          <p:nvPr/>
        </p:nvSpPr>
        <p:spPr>
          <a:xfrm>
            <a:off x="2309760" y="214200"/>
            <a:ext cx="48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Possible answer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J0286724"/>
          <p:cNvPicPr/>
          <p:nvPr/>
        </p:nvPicPr>
        <p:blipFill>
          <a:blip r:embed="rId1"/>
          <a:stretch/>
        </p:blipFill>
        <p:spPr>
          <a:xfrm rot="20832000">
            <a:off x="698400" y="2201400"/>
            <a:ext cx="26640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J0295173"/>
          <p:cNvPicPr/>
          <p:nvPr/>
        </p:nvPicPr>
        <p:blipFill>
          <a:blip r:embed="rId2"/>
          <a:stretch/>
        </p:blipFill>
        <p:spPr>
          <a:xfrm>
            <a:off x="5867280" y="4308480"/>
            <a:ext cx="3276720" cy="254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0297013"/>
          <p:cNvPicPr/>
          <p:nvPr/>
        </p:nvPicPr>
        <p:blipFill>
          <a:blip r:embed="rId3"/>
          <a:stretch/>
        </p:blipFill>
        <p:spPr>
          <a:xfrm>
            <a:off x="2627280" y="4049640"/>
            <a:ext cx="331308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00493"/>
          <p:cNvPicPr/>
          <p:nvPr/>
        </p:nvPicPr>
        <p:blipFill>
          <a:blip r:embed="rId4"/>
          <a:stretch/>
        </p:blipFill>
        <p:spPr>
          <a:xfrm>
            <a:off x="2843280" y="2205000"/>
            <a:ext cx="276840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03468"/>
          <p:cNvPicPr/>
          <p:nvPr/>
        </p:nvPicPr>
        <p:blipFill>
          <a:blip r:embed="rId5"/>
          <a:stretch/>
        </p:blipFill>
        <p:spPr>
          <a:xfrm rot="808200">
            <a:off x="5392440" y="2079720"/>
            <a:ext cx="2449440" cy="2282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0150103"/>
          <p:cNvPicPr/>
          <p:nvPr/>
        </p:nvPicPr>
        <p:blipFill>
          <a:blip r:embed="rId6"/>
          <a:stretch/>
        </p:blipFill>
        <p:spPr>
          <a:xfrm>
            <a:off x="900000" y="4552920"/>
            <a:ext cx="2259000" cy="230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J0158189"/>
          <p:cNvPicPr/>
          <p:nvPr/>
        </p:nvPicPr>
        <p:blipFill>
          <a:blip r:embed="rId7"/>
          <a:stretch/>
        </p:blipFill>
        <p:spPr>
          <a:xfrm>
            <a:off x="7612200" y="2349360"/>
            <a:ext cx="2000160" cy="232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755640" y="4046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24000" y="155736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419640" y="141300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0360" y="134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-252360" y="48196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7667640" y="1557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427640" y="48909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7308720" y="6093000"/>
            <a:ext cx="841680" cy="626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7380360" y="5943600"/>
            <a:ext cx="4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J0286724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162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300493"/>
          <p:cNvPicPr/>
          <p:nvPr/>
        </p:nvPicPr>
        <p:blipFill>
          <a:blip r:embed="rId2"/>
          <a:stretch/>
        </p:blipFill>
        <p:spPr>
          <a:xfrm>
            <a:off x="0" y="1484280"/>
            <a:ext cx="1979640" cy="1297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J0303468"/>
          <p:cNvPicPr/>
          <p:nvPr/>
        </p:nvPicPr>
        <p:blipFill>
          <a:blip r:embed="rId3"/>
          <a:stretch/>
        </p:blipFill>
        <p:spPr>
          <a:xfrm rot="808200">
            <a:off x="6443640" y="2986200"/>
            <a:ext cx="2230560" cy="1234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J0158189"/>
          <p:cNvPicPr/>
          <p:nvPr/>
        </p:nvPicPr>
        <p:blipFill>
          <a:blip r:embed="rId4"/>
          <a:stretch/>
        </p:blipFill>
        <p:spPr>
          <a:xfrm>
            <a:off x="433440" y="4724280"/>
            <a:ext cx="1258920" cy="1368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395280" y="260280"/>
            <a:ext cx="87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He’s  cutting the gras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2411280" y="1700280"/>
            <a:ext cx="504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2556000" y="1628640"/>
            <a:ext cx="235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1582560" y="181296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2. They’re rowing a boat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-541440" y="34686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3. They’re swimming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619280" y="4005360"/>
            <a:ext cx="691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250920" y="51260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4. She’s kneating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J0295173"/>
          <p:cNvPicPr/>
          <p:nvPr/>
        </p:nvPicPr>
        <p:blipFill>
          <a:blip r:embed="rId1"/>
          <a:stretch/>
        </p:blipFill>
        <p:spPr>
          <a:xfrm>
            <a:off x="5867280" y="4941720"/>
            <a:ext cx="327672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J0297013"/>
          <p:cNvPicPr/>
          <p:nvPr/>
        </p:nvPicPr>
        <p:blipFill>
          <a:blip r:embed="rId2"/>
          <a:stretch/>
        </p:blipFill>
        <p:spPr>
          <a:xfrm>
            <a:off x="0" y="1484280"/>
            <a:ext cx="302436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J0150103"/>
          <p:cNvPicPr/>
          <p:nvPr/>
        </p:nvPicPr>
        <p:blipFill>
          <a:blip r:embed="rId3"/>
          <a:stretch/>
        </p:blipFill>
        <p:spPr>
          <a:xfrm>
            <a:off x="6885000" y="0"/>
            <a:ext cx="2259000" cy="1700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95280" y="260280"/>
            <a:ext cx="87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5. He’s  gardening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411280" y="1700280"/>
            <a:ext cx="504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556000" y="1628640"/>
            <a:ext cx="235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3635280" y="220500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6. She’s dancing.                    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0" y="4221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7.  They’re picking fruits.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619280" y="4005360"/>
            <a:ext cx="691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971640" y="907920"/>
            <a:ext cx="7632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Reflecting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ES_tradnl" sz="8000" spc="-1" strike="noStrike">
                <a:solidFill>
                  <a:srgbClr val="ffff00"/>
                </a:solidFill>
                <a:latin typeface="Times New Roman"/>
              </a:rPr>
              <a:t>Language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j0299125"/>
          <p:cNvPicPr/>
          <p:nvPr/>
        </p:nvPicPr>
        <p:blipFill>
          <a:blip r:embed="rId2"/>
          <a:stretch/>
        </p:blipFill>
        <p:spPr>
          <a:xfrm>
            <a:off x="7093080" y="4292640"/>
            <a:ext cx="17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84360" y="189000"/>
            <a:ext cx="66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he  Present Continuous Tense is used to: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234936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. a)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express actions  happening at the moment of speaking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34120" y="5465880"/>
            <a:ext cx="7188120" cy="1008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Eg. I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’m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teach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ing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now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5" descr="j0293466"/>
          <p:cNvPicPr/>
          <p:nvPr/>
        </p:nvPicPr>
        <p:blipFill>
          <a:blip r:embed="rId1"/>
          <a:stretch/>
        </p:blipFill>
        <p:spPr>
          <a:xfrm>
            <a:off x="0" y="0"/>
            <a:ext cx="2422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556000" y="260280"/>
            <a:ext cx="63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1.b)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efer to actions that are happening about the moment of speaking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4221000"/>
            <a:ext cx="849780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g. I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’m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practic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ng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for the match these day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j0293466"/>
          <p:cNvPicPr/>
          <p:nvPr/>
        </p:nvPicPr>
        <p:blipFill>
          <a:blip r:embed="rId1"/>
          <a:stretch/>
        </p:blipFill>
        <p:spPr>
          <a:xfrm>
            <a:off x="0" y="0"/>
            <a:ext cx="2422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050920" y="293760"/>
            <a:ext cx="70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Refer to actions that are going to take place in the near future.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02280" y="2997360"/>
            <a:ext cx="799596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g. I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’m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clean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ng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my house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on Saturday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11280" y="4811760"/>
            <a:ext cx="799308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g. She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cook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ng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chicken       for dinner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next Sunday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5" descr="j0293466"/>
          <p:cNvPicPr/>
          <p:nvPr/>
        </p:nvPicPr>
        <p:blipFill>
          <a:blip r:embed="rId1"/>
          <a:stretch/>
        </p:blipFill>
        <p:spPr>
          <a:xfrm>
            <a:off x="0" y="-27000"/>
            <a:ext cx="1835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78160" y="968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Form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40000" y="1774800"/>
            <a:ext cx="60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1" i="1" lang="es-ES_tradnl" sz="6000" spc="-1" strike="noStrike" u="sng">
                <a:solidFill>
                  <a:srgbClr val="ffffff"/>
                </a:solidFill>
                <a:uFillTx/>
                <a:latin typeface="Times New Roman"/>
              </a:rPr>
              <a:t> eating</a:t>
            </a: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  now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04480" y="3459240"/>
            <a:ext cx="1983600" cy="825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 Narrow"/>
              </a:rPr>
              <a:t>Subject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1547640" y="1700280"/>
            <a:ext cx="1008360" cy="1152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932360" y="1773360"/>
            <a:ext cx="1368360" cy="11509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718360" y="5024520"/>
            <a:ext cx="156744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 Narrow"/>
              </a:rPr>
              <a:t>To Be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784320" y="3471840"/>
            <a:ext cx="275472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Action Verb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+  (-ing)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234480" y="5176800"/>
            <a:ext cx="287208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 Narrow"/>
              </a:rPr>
              <a:t>Time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Arial Narrow"/>
              </a:rPr>
              <a:t>Expression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971640" y="2637000"/>
            <a:ext cx="288720" cy="7905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1979640" y="2781360"/>
            <a:ext cx="1511280" cy="216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4067280" y="2708280"/>
            <a:ext cx="360360" cy="719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19"/>
          <p:cNvSpPr/>
          <p:nvPr/>
        </p:nvSpPr>
        <p:spPr>
          <a:xfrm>
            <a:off x="6443640" y="2565360"/>
            <a:ext cx="1800360" cy="2519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20" descr="j0293466"/>
          <p:cNvPicPr/>
          <p:nvPr/>
        </p:nvPicPr>
        <p:blipFill>
          <a:blip r:embed="rId1"/>
          <a:stretch/>
        </p:blipFill>
        <p:spPr>
          <a:xfrm>
            <a:off x="0" y="-27000"/>
            <a:ext cx="1835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32000" y="404640"/>
            <a:ext cx="78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5" descr="j0293466"/>
          <p:cNvPicPr/>
          <p:nvPr/>
        </p:nvPicPr>
        <p:blipFill>
          <a:blip r:embed="rId1"/>
          <a:stretch/>
        </p:blipFill>
        <p:spPr>
          <a:xfrm>
            <a:off x="0" y="-27000"/>
            <a:ext cx="2124000" cy="2592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771640" y="90792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Expressions of tim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332000" y="3141720"/>
            <a:ext cx="763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now    at the moment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ff"/>
                </a:solidFill>
                <a:latin typeface="Times New Roman"/>
              </a:rPr>
              <a:t>at present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700360" y="44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95280" y="1700280"/>
            <a:ext cx="874872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s,-h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-ch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-x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-o: -es: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ki</a:t>
            </a: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s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k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se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bru</a:t>
            </a: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sh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bru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she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 tea</a:t>
            </a: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ch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 tea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che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fi</a:t>
            </a: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f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xes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g</a:t>
            </a:r>
            <a:r>
              <a:rPr b="1" i="1" lang="es-ES_tradnl" sz="44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g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o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consonant + y: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eliminate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–y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and take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 –ies: try – tries.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vowel + y:  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ake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-s: buy-buys. 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68360" y="83664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Verbs  ending in: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8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332000" y="404640"/>
            <a:ext cx="78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3" descr="j0293466"/>
          <p:cNvPicPr/>
          <p:nvPr/>
        </p:nvPicPr>
        <p:blipFill>
          <a:blip r:embed="rId1"/>
          <a:stretch/>
        </p:blipFill>
        <p:spPr>
          <a:xfrm>
            <a:off x="0" y="-27000"/>
            <a:ext cx="1619280" cy="1440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2771640" y="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0920" y="2924280"/>
            <a:ext cx="8893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w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- sw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mm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g        walk- wa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lk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 si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tt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g                    wait-wa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it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trave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- trave</a:t>
            </a:r>
            <a:r>
              <a:rPr b="1" i="1" lang="es-ES_tradnl" sz="4400" spc="-1" strike="noStrike">
                <a:solidFill>
                  <a:srgbClr val="ffff00"/>
                </a:solidFill>
                <a:latin typeface="Times New Roman"/>
              </a:rPr>
              <a:t>ll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419640" y="465300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BUT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547640" y="907920"/>
            <a:ext cx="712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Cuando  el  verbo termina en una vocal acentuada entre consonantes o termina en </a:t>
            </a:r>
            <a:r>
              <a:rPr b="1" i="1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-l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, se dobla la consonante: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11-03-13T13:50:47Z</dcterms:modified>
  <cp:revision>53</cp:revision>
  <dc:subject/>
  <dc:title>PowerPoint Presentation</dc:title>
</cp:coreProperties>
</file>