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media/image11.gif" ContentType="image/gi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6A6-CC7E-4099-9DFC-6C5BD505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086-E7B5-4199-9A1D-7891AA50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836-1662-4F58-B23F-7AC2018D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331-6DB7-401E-AA60-2E33AA3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94E-86FB-4816-88DF-AA7AAA17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B36-DEFB-4457-AB42-C81DE2D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D00-8CCA-446C-AF3E-4815715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291-2A73-4A85-9BC9-12554F3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027-6090-478C-AB39-5D49141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117-EF05-40D4-8290-1DF1F51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416-02C6-45F6-BFAB-6B2CD1D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AE2-1F12-429C-890D-308CE65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34C3-6ABB-411D-B385-EEC67E7159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213560" y="2565360"/>
            <a:ext cx="1164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ffff"/>
                </a:solidFill>
                <a:latin typeface="Monotype Corsiva"/>
              </a:rPr>
              <a:t>What are you doing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4" descr="j0236446"/>
          <p:cNvPicPr/>
          <p:nvPr/>
        </p:nvPicPr>
        <p:blipFill>
          <a:blip r:embed="rId1"/>
          <a:stretch/>
        </p:blipFill>
        <p:spPr>
          <a:xfrm>
            <a:off x="5435640" y="3716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j0236466"/>
          <p:cNvPicPr/>
          <p:nvPr/>
        </p:nvPicPr>
        <p:blipFill>
          <a:blip r:embed="rId2"/>
          <a:stretch/>
        </p:blipFill>
        <p:spPr>
          <a:xfrm>
            <a:off x="181080" y="-316080"/>
            <a:ext cx="3311280" cy="331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j0283742"/>
          <p:cNvPicPr/>
          <p:nvPr/>
        </p:nvPicPr>
        <p:blipFill>
          <a:blip r:embed="rId3"/>
          <a:stretch/>
        </p:blipFill>
        <p:spPr>
          <a:xfrm>
            <a:off x="395280" y="3944880"/>
            <a:ext cx="3168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212400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627280" y="666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2178000"/>
            <a:ext cx="85694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– l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g        d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g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, eliminate –e  : writ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-writ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4000" y="23065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-ie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,eliminate 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–ie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and  take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–y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97080" y="1052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Verbs ending in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964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answer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11280" y="1557360"/>
            <a:ext cx="82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____ cooking spaghetti because he always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 answer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11280" y="1557360"/>
            <a:ext cx="82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ooking spaghetti because he always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140328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elect the correct alternative.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68360" y="18900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hey refer to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requent and regular activi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he activities occurring at the moment of speaking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ast activi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57120" y="1000080"/>
            <a:ext cx="842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y refer to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Frequent and regular activiti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 activities occurring a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Past activiti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214200" y="357192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6 Rectángulo"/>
          <p:cNvSpPr/>
          <p:nvPr/>
        </p:nvSpPr>
        <p:spPr>
          <a:xfrm>
            <a:off x="2309760" y="214200"/>
            <a:ext cx="48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J0286724"/>
          <p:cNvPicPr/>
          <p:nvPr/>
        </p:nvPicPr>
        <p:blipFill>
          <a:blip r:embed="rId1"/>
          <a:stretch/>
        </p:blipFill>
        <p:spPr>
          <a:xfrm rot="20832000">
            <a:off x="698400" y="220140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J0295173"/>
          <p:cNvPicPr/>
          <p:nvPr/>
        </p:nvPicPr>
        <p:blipFill>
          <a:blip r:embed="rId2"/>
          <a:stretch/>
        </p:blipFill>
        <p:spPr>
          <a:xfrm>
            <a:off x="5867280" y="4308480"/>
            <a:ext cx="3276720" cy="254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97013"/>
          <p:cNvPicPr/>
          <p:nvPr/>
        </p:nvPicPr>
        <p:blipFill>
          <a:blip r:embed="rId3"/>
          <a:stretch/>
        </p:blipFill>
        <p:spPr>
          <a:xfrm>
            <a:off x="2627280" y="404964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00493"/>
          <p:cNvPicPr/>
          <p:nvPr/>
        </p:nvPicPr>
        <p:blipFill>
          <a:blip r:embed="rId4"/>
          <a:stretch/>
        </p:blipFill>
        <p:spPr>
          <a:xfrm>
            <a:off x="2843280" y="220500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03468"/>
          <p:cNvPicPr/>
          <p:nvPr/>
        </p:nvPicPr>
        <p:blipFill>
          <a:blip r:embed="rId5"/>
          <a:stretch/>
        </p:blipFill>
        <p:spPr>
          <a:xfrm rot="808200">
            <a:off x="5392440" y="2079720"/>
            <a:ext cx="2449440" cy="228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0150103"/>
          <p:cNvPicPr/>
          <p:nvPr/>
        </p:nvPicPr>
        <p:blipFill>
          <a:blip r:embed="rId6"/>
          <a:stretch/>
        </p:blipFill>
        <p:spPr>
          <a:xfrm>
            <a:off x="900000" y="4552920"/>
            <a:ext cx="225900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J0158189"/>
          <p:cNvPicPr/>
          <p:nvPr/>
        </p:nvPicPr>
        <p:blipFill>
          <a:blip r:embed="rId7"/>
          <a:stretch/>
        </p:blipFill>
        <p:spPr>
          <a:xfrm>
            <a:off x="7612200" y="2349360"/>
            <a:ext cx="2000160" cy="232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755640" y="4046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24000" y="1557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419640" y="1413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0360" y="134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-252360" y="48196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667640" y="1557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427640" y="48909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7308720" y="6093000"/>
            <a:ext cx="841680" cy="62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380360" y="594360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J0286724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300493"/>
          <p:cNvPicPr/>
          <p:nvPr/>
        </p:nvPicPr>
        <p:blipFill>
          <a:blip r:embed="rId2"/>
          <a:stretch/>
        </p:blipFill>
        <p:spPr>
          <a:xfrm>
            <a:off x="0" y="1484280"/>
            <a:ext cx="19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303468"/>
          <p:cNvPicPr/>
          <p:nvPr/>
        </p:nvPicPr>
        <p:blipFill>
          <a:blip r:embed="rId3"/>
          <a:stretch/>
        </p:blipFill>
        <p:spPr>
          <a:xfrm rot="808200">
            <a:off x="6443640" y="2986200"/>
            <a:ext cx="2230560" cy="1234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158189"/>
          <p:cNvPicPr/>
          <p:nvPr/>
        </p:nvPicPr>
        <p:blipFill>
          <a:blip r:embed="rId4"/>
          <a:stretch/>
        </p:blipFill>
        <p:spPr>
          <a:xfrm>
            <a:off x="433440" y="4724280"/>
            <a:ext cx="1258920" cy="1368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395280" y="26028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e’s  cutting the gras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411280" y="1700280"/>
            <a:ext cx="504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2556000" y="1628640"/>
            <a:ext cx="235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582560" y="181296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2. They’re rowing a boa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-541440" y="34686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3. They’re swimm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619280" y="4005360"/>
            <a:ext cx="691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250920" y="51260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4. She’s kneat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J0295173"/>
          <p:cNvPicPr/>
          <p:nvPr/>
        </p:nvPicPr>
        <p:blipFill>
          <a:blip r:embed="rId1"/>
          <a:stretch/>
        </p:blipFill>
        <p:spPr>
          <a:xfrm>
            <a:off x="5867280" y="4941720"/>
            <a:ext cx="327672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97013"/>
          <p:cNvPicPr/>
          <p:nvPr/>
        </p:nvPicPr>
        <p:blipFill>
          <a:blip r:embed="rId2"/>
          <a:stretch/>
        </p:blipFill>
        <p:spPr>
          <a:xfrm>
            <a:off x="0" y="148428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J0150103"/>
          <p:cNvPicPr/>
          <p:nvPr/>
        </p:nvPicPr>
        <p:blipFill>
          <a:blip r:embed="rId3"/>
          <a:stretch/>
        </p:blipFill>
        <p:spPr>
          <a:xfrm>
            <a:off x="6885000" y="0"/>
            <a:ext cx="2259000" cy="1700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95280" y="26028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5. He’s  garden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411280" y="1700280"/>
            <a:ext cx="504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556000" y="1628640"/>
            <a:ext cx="235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635280" y="22050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6. She’s dancing.                   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0" y="4221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7.  They’re picking fruit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619280" y="4005360"/>
            <a:ext cx="691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84360" y="189000"/>
            <a:ext cx="66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he  Present Continuous Tense is used to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2349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 a)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express actions  happening a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4120" y="5465880"/>
            <a:ext cx="7188120" cy="100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teach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g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now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5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422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56000" y="26028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b)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 to actions that are happening abou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221000"/>
            <a:ext cx="8497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practic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or the match these day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422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0920" y="29376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Refer to actions that are going to take place in the near future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02280" y="2997360"/>
            <a:ext cx="799596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lean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hous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on Saturda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11280" y="4811760"/>
            <a:ext cx="79930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She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ook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hicken       for dinner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next Sunda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835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78160" y="968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40000" y="1774800"/>
            <a:ext cx="60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1" i="1" lang="es-ES_tradnl" sz="6000" spc="-1" strike="noStrike" u="sng">
                <a:solidFill>
                  <a:srgbClr val="ffffff"/>
                </a:solidFill>
                <a:uFillTx/>
                <a:latin typeface="Times New Roman"/>
              </a:rPr>
              <a:t> eating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now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4480" y="3459240"/>
            <a:ext cx="1983600" cy="825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Subjec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547640" y="1700280"/>
            <a:ext cx="1008360" cy="1152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932360" y="1773360"/>
            <a:ext cx="1368360" cy="11509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718360" y="5024520"/>
            <a:ext cx="156744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784320" y="3471840"/>
            <a:ext cx="275472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Action Verb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+  (-ing)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234480" y="5176800"/>
            <a:ext cx="287208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Tim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Expression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971640" y="2637000"/>
            <a:ext cx="288720" cy="790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1979640" y="2781360"/>
            <a:ext cx="1511280" cy="21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067280" y="2708280"/>
            <a:ext cx="360360" cy="7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6443640" y="2565360"/>
            <a:ext cx="1800360" cy="25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20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83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5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212400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771640" y="90792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xpressions of ti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332000" y="3141720"/>
            <a:ext cx="76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now    at the moment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t presen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700360" y="44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1700280"/>
            <a:ext cx="874872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s,-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c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x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o: -es: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ki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s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k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s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bru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s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bru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h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 tea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te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h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fi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f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x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g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g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onsonant + y: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eliminat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–y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and tak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–ies: try – tri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vowel + y: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ak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s: buy-buys.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68360" y="83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Verbs  ending in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8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3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61928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771640" y="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2924280"/>
            <a:ext cx="8893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w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- sw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mm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        walk- w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k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s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t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                    wait-w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rav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trav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l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419640" y="465300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BU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547640" y="907920"/>
            <a:ext cx="71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uando  el  verbo termina en una vocal acentuada entre consonantes o termina en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-l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se dobla la consonante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3:50:47Z</dcterms:modified>
  <cp:revision>53</cp:revision>
  <dc:subject/>
  <dc:title>PowerPoint Presentation</dc:title>
</cp:coreProperties>
</file>