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7.wmf" ContentType="image/x-wmf"/>
  <Override PartName="/ppt/media/image11.jpeg" ContentType="image/jpeg"/>
  <Override PartName="/ppt/media/image12.jpeg" ContentType="image/jpe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EE4-31BF-446E-9B55-C5417186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D33A-2D8D-4053-8A2B-7203C020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6A4-D74A-4623-BB4F-E895C8A9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94C-073B-47A5-BD89-BFF672F5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96AA-9045-4193-8575-0BEE9BC2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C6B7-8C94-4796-B6DB-C4E9CDC4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BF4-7114-4794-8C55-900C0B47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618D-A537-44A1-9517-B5891DC5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5A68-4D66-4D88-BCF2-2CB34C93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6959-C6C3-4DB9-81E0-90478506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2F58-21FC-4C43-AC74-A34483FD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47F-C8B4-4FF4-AD2A-122E9249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B135-10E2-4E16-A738-78A986B5D98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0" t="0" r="0" b="4765"/>
          <a:stretch/>
        </p:blipFill>
        <p:spPr>
          <a:xfrm>
            <a:off x="2270160" y="0"/>
            <a:ext cx="3678120" cy="4175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Jennifer 36"/>
          <p:cNvPicPr/>
          <p:nvPr/>
        </p:nvPicPr>
        <p:blipFill>
          <a:blip r:embed="rId2"/>
          <a:stretch/>
        </p:blipFill>
        <p:spPr>
          <a:xfrm rot="842400">
            <a:off x="5435640" y="549360"/>
            <a:ext cx="2857320" cy="323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7"/>
          <p:cNvGraphicFramePr/>
          <p:nvPr/>
        </p:nvGraphicFramePr>
        <p:xfrm>
          <a:off x="1116000" y="3284640"/>
          <a:ext cx="2243160" cy="29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3284640"/>
                    <a:ext cx="224316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Picture 8" descr="ronaldo"/>
          <p:cNvPicPr/>
          <p:nvPr/>
        </p:nvPicPr>
        <p:blipFill>
          <a:blip r:embed="rId5"/>
          <a:stretch/>
        </p:blipFill>
        <p:spPr>
          <a:xfrm rot="20083200">
            <a:off x="498600" y="541440"/>
            <a:ext cx="2382840" cy="2950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MAnthony"/>
          <p:cNvPicPr/>
          <p:nvPr/>
        </p:nvPicPr>
        <p:blipFill>
          <a:blip r:embed="rId6"/>
          <a:stretch/>
        </p:blipFill>
        <p:spPr>
          <a:xfrm>
            <a:off x="3276720" y="3429000"/>
            <a:ext cx="2663640" cy="2808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"/>
          <p:cNvPicPr/>
          <p:nvPr/>
        </p:nvPicPr>
        <p:blipFill>
          <a:blip r:embed="rId7"/>
          <a:srcRect l="0" t="0" r="0" b="11813"/>
          <a:stretch/>
        </p:blipFill>
        <p:spPr>
          <a:xfrm rot="948000">
            <a:off x="5651280" y="3357720"/>
            <a:ext cx="3008160" cy="2520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395280" y="5805360"/>
            <a:ext cx="7543800" cy="764280"/>
          </a:xfrm>
          <a:prstGeom prst="rect">
            <a:avLst/>
          </a:prstGeom>
          <a:gradFill rotWithShape="0">
            <a:gsLst>
              <a:gs pos="0">
                <a:srgbClr val="18185e"/>
              </a:gs>
              <a:gs pos="5000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What do they look like?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619280" y="385920"/>
            <a:ext cx="77058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j0293466"/>
          <p:cNvPicPr/>
          <p:nvPr/>
        </p:nvPicPr>
        <p:blipFill>
          <a:blip r:embed="rId1"/>
          <a:stretch/>
        </p:blipFill>
        <p:spPr>
          <a:xfrm>
            <a:off x="179280" y="115920"/>
            <a:ext cx="2089080" cy="2808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3059280" y="40464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Describing others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059280" y="1268280"/>
            <a:ext cx="59054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Age : (?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Physical characteristics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79280" y="4365720"/>
            <a:ext cx="8640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he is short./  He’s thin.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They’re strong.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619280" y="385920"/>
            <a:ext cx="7705800" cy="12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Describing people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physically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979640" y="15476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What  do/does … look like?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852720" y="3278160"/>
            <a:ext cx="44643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tall      short        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pretty    ugly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handsome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9" descr="j0293466"/>
          <p:cNvPicPr/>
          <p:nvPr/>
        </p:nvPicPr>
        <p:blipFill>
          <a:blip r:embed="rId1"/>
          <a:stretch/>
        </p:blipFill>
        <p:spPr>
          <a:xfrm>
            <a:off x="179280" y="115920"/>
            <a:ext cx="2089080" cy="2808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"/>
          <p:cNvSpPr/>
          <p:nvPr/>
        </p:nvSpPr>
        <p:spPr>
          <a:xfrm>
            <a:off x="612720" y="424332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1"/>
          <p:cNvSpPr/>
          <p:nvPr/>
        </p:nvSpPr>
        <p:spPr>
          <a:xfrm>
            <a:off x="3132000" y="3284640"/>
            <a:ext cx="863640" cy="3168720"/>
          </a:xfrm>
          <a:custGeom>
            <a:avLst/>
            <a:gdLst>
              <a:gd name="textAreaLeft" fmla="*/ 0 w 863640"/>
              <a:gd name="textAreaRight" fmla="*/ 311760 w 86364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619280" y="385920"/>
            <a:ext cx="7705800" cy="12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Describing people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physically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979640" y="15476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What  do/does … look like?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852720" y="3278160"/>
            <a:ext cx="44643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tall      short        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pretty    ugly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handsome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12720" y="424332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3132000" y="3284640"/>
            <a:ext cx="863640" cy="3168720"/>
          </a:xfrm>
          <a:custGeom>
            <a:avLst/>
            <a:gdLst>
              <a:gd name="textAreaLeft" fmla="*/ 0 w 863640"/>
              <a:gd name="textAreaRight" fmla="*/ 311760 w 86364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250920" y="209160"/>
            <a:ext cx="2939040" cy="1995840"/>
            <a:chOff x="250920" y="209160"/>
            <a:chExt cx="2939040" cy="1995840"/>
          </a:xfrm>
        </p:grpSpPr>
        <p:pic>
          <p:nvPicPr>
            <p:cNvPr id="89" name="Picture 9" descr="j0199371"/>
            <p:cNvPicPr/>
            <p:nvPr/>
          </p:nvPicPr>
          <p:blipFill>
            <a:blip r:embed="rId1"/>
            <a:stretch/>
          </p:blipFill>
          <p:spPr>
            <a:xfrm>
              <a:off x="250920" y="549360"/>
              <a:ext cx="208764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0"/>
            <p:cNvSpPr/>
            <p:nvPr/>
          </p:nvSpPr>
          <p:spPr>
            <a:xfrm rot="20385000">
              <a:off x="612360" y="620640"/>
              <a:ext cx="2519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Learning 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diary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j0297265"/>
          <p:cNvPicPr/>
          <p:nvPr/>
        </p:nvPicPr>
        <p:blipFill>
          <a:blip r:embed="rId1"/>
          <a:stretch/>
        </p:blipFill>
        <p:spPr>
          <a:xfrm>
            <a:off x="277164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468360" y="40464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-17280" y="0"/>
            <a:ext cx="8963280" cy="6240600"/>
            <a:chOff x="-17280" y="0"/>
            <a:chExt cx="8963280" cy="6240600"/>
          </a:xfrm>
        </p:grpSpPr>
        <p:pic>
          <p:nvPicPr>
            <p:cNvPr id="94" name="Picture 3" descr=""/>
            <p:cNvPicPr/>
            <p:nvPr/>
          </p:nvPicPr>
          <p:blipFill>
            <a:blip r:embed="rId1"/>
            <a:srcRect l="0" t="0" r="0" b="4765"/>
            <a:stretch/>
          </p:blipFill>
          <p:spPr>
            <a:xfrm>
              <a:off x="2270160" y="0"/>
              <a:ext cx="3678120" cy="417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4" descr="Jennifer 36"/>
            <p:cNvPicPr/>
            <p:nvPr/>
          </p:nvPicPr>
          <p:blipFill>
            <a:blip r:embed="rId2"/>
            <a:stretch/>
          </p:blipFill>
          <p:spPr>
            <a:xfrm rot="842400">
              <a:off x="5435640" y="549360"/>
              <a:ext cx="2857320" cy="3235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6" name="Object 5"/>
            <p:cNvGraphicFramePr/>
            <p:nvPr/>
          </p:nvGraphicFramePr>
          <p:xfrm>
            <a:off x="1116000" y="3284640"/>
            <a:ext cx="2243160" cy="295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16000" y="3284640"/>
                      <a:ext cx="2243160" cy="295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8" name="Picture 6" descr="ronaldo"/>
            <p:cNvPicPr/>
            <p:nvPr/>
          </p:nvPicPr>
          <p:blipFill>
            <a:blip r:embed="rId5"/>
            <a:stretch/>
          </p:blipFill>
          <p:spPr>
            <a:xfrm rot="20083200">
              <a:off x="498600" y="541440"/>
              <a:ext cx="2382840" cy="29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7" descr="MAnthony"/>
            <p:cNvPicPr/>
            <p:nvPr/>
          </p:nvPicPr>
          <p:blipFill>
            <a:blip r:embed="rId6"/>
            <a:stretch/>
          </p:blipFill>
          <p:spPr>
            <a:xfrm>
              <a:off x="3276720" y="3429000"/>
              <a:ext cx="2663640" cy="28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8" descr=""/>
            <p:cNvPicPr/>
            <p:nvPr/>
          </p:nvPicPr>
          <p:blipFill>
            <a:blip r:embed="rId7"/>
            <a:srcRect l="0" t="0" r="0" b="11813"/>
            <a:stretch/>
          </p:blipFill>
          <p:spPr>
            <a:xfrm rot="948000">
              <a:off x="5651280" y="3357720"/>
              <a:ext cx="3008160" cy="25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9"/>
            <p:cNvSpPr/>
            <p:nvPr/>
          </p:nvSpPr>
          <p:spPr>
            <a:xfrm>
              <a:off x="1258920" y="3933720"/>
              <a:ext cx="57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1" i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8317080" y="765000"/>
              <a:ext cx="57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1" i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11"/>
            <p:cNvSpPr/>
            <p:nvPr/>
          </p:nvSpPr>
          <p:spPr>
            <a:xfrm>
              <a:off x="5003640" y="44280"/>
              <a:ext cx="57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1" i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12"/>
            <p:cNvSpPr/>
            <p:nvPr/>
          </p:nvSpPr>
          <p:spPr>
            <a:xfrm>
              <a:off x="1692360" y="549360"/>
              <a:ext cx="57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i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3"/>
            <p:cNvSpPr/>
            <p:nvPr/>
          </p:nvSpPr>
          <p:spPr>
            <a:xfrm>
              <a:off x="5003640" y="3306600"/>
              <a:ext cx="57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1" i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8028000" y="5013360"/>
              <a:ext cx="57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54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1" i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Text Box 15"/>
          <p:cNvSpPr/>
          <p:nvPr/>
        </p:nvSpPr>
        <p:spPr>
          <a:xfrm>
            <a:off x="395280" y="5805360"/>
            <a:ext cx="7543800" cy="764280"/>
          </a:xfrm>
          <a:prstGeom prst="rect">
            <a:avLst/>
          </a:prstGeom>
          <a:gradFill rotWithShape="0">
            <a:gsLst>
              <a:gs pos="0">
                <a:srgbClr val="18185e"/>
              </a:gs>
              <a:gs pos="5000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What do they look like?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ronaldo"/>
          <p:cNvPicPr/>
          <p:nvPr/>
        </p:nvPicPr>
        <p:blipFill>
          <a:blip r:embed="rId1"/>
          <a:stretch/>
        </p:blipFill>
        <p:spPr>
          <a:xfrm>
            <a:off x="498600" y="333360"/>
            <a:ext cx="1841400" cy="2374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9"/>
          <p:cNvSpPr/>
          <p:nvPr/>
        </p:nvSpPr>
        <p:spPr>
          <a:xfrm>
            <a:off x="250920" y="3500280"/>
            <a:ext cx="5905440" cy="1434600"/>
          </a:xfrm>
          <a:prstGeom prst="rect">
            <a:avLst/>
          </a:prstGeom>
          <a:gradFill rotWithShape="0">
            <a:gsLst>
              <a:gs pos="0">
                <a:srgbClr val="18185e"/>
              </a:gs>
              <a:gs pos="5000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he’s Jennifer Lopez She’s  very pretty.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2357280" y="620640"/>
            <a:ext cx="6786720" cy="1434600"/>
          </a:xfrm>
          <a:prstGeom prst="rect">
            <a:avLst/>
          </a:prstGeom>
          <a:gradFill rotWithShape="0">
            <a:gsLst>
              <a:gs pos="0">
                <a:srgbClr val="18185e"/>
              </a:gs>
              <a:gs pos="5000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His name is Ronaldo. He’s strong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1" descr="Jennifer 36"/>
          <p:cNvPicPr/>
          <p:nvPr/>
        </p:nvPicPr>
        <p:blipFill>
          <a:blip r:embed="rId2"/>
          <a:stretch/>
        </p:blipFill>
        <p:spPr>
          <a:xfrm>
            <a:off x="6178680" y="2421000"/>
            <a:ext cx="285732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rcRect l="0" t="0" r="0" b="4765"/>
          <a:stretch/>
        </p:blipFill>
        <p:spPr>
          <a:xfrm>
            <a:off x="250920" y="0"/>
            <a:ext cx="2671560" cy="2924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rcRect l="0" t="0" r="0" b="11813"/>
          <a:stretch/>
        </p:blipFill>
        <p:spPr>
          <a:xfrm>
            <a:off x="6732720" y="3357720"/>
            <a:ext cx="2232000" cy="2520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3076560" y="549360"/>
            <a:ext cx="5959440" cy="2104920"/>
          </a:xfrm>
          <a:prstGeom prst="rect">
            <a:avLst/>
          </a:prstGeom>
          <a:gradFill rotWithShape="0">
            <a:gsLst>
              <a:gs pos="0">
                <a:srgbClr val="18185e"/>
              </a:gs>
              <a:gs pos="5000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This is Brat Pitt. He is an actor. He is very handsome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900000" y="3097080"/>
            <a:ext cx="5327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Her name is Jodie Foster. She is thin. She’s got blue eyes and straight long hair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4932360" y="0"/>
            <a:ext cx="4465800" cy="2736720"/>
          </a:xfrm>
          <a:prstGeom prst="cloudCallout">
            <a:avLst>
              <a:gd name="adj1" fmla="val -19143"/>
              <a:gd name="adj2" fmla="val 6490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684360" y="2060640"/>
            <a:ext cx="5327640" cy="2089080"/>
          </a:xfrm>
          <a:prstGeom prst="wedgeEllipseCallout">
            <a:avLst>
              <a:gd name="adj1" fmla="val -37546"/>
              <a:gd name="adj2" fmla="val 9528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Comic Sans MS"/>
              </a:rPr>
              <a:t>What does your girlfriend look like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ROSELEIDYS05"/>
          <p:cNvPicPr/>
          <p:nvPr/>
        </p:nvPicPr>
        <p:blipFill>
          <a:blip r:embed="rId1"/>
          <a:stretch/>
        </p:blipFill>
        <p:spPr>
          <a:xfrm>
            <a:off x="6372360" y="404640"/>
            <a:ext cx="1871640" cy="1837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j0216020"/>
          <p:cNvPicPr/>
          <p:nvPr/>
        </p:nvPicPr>
        <p:blipFill>
          <a:blip r:embed="rId2"/>
          <a:stretch/>
        </p:blipFill>
        <p:spPr>
          <a:xfrm>
            <a:off x="250920" y="4437000"/>
            <a:ext cx="1549440" cy="21970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>
            <a:off x="6588000" y="2708280"/>
            <a:ext cx="2232000" cy="1833480"/>
          </a:xfrm>
          <a:prstGeom prst="wedgeEllipseCallout">
            <a:avLst>
              <a:gd name="adj1" fmla="val 47439"/>
              <a:gd name="adj2" fmla="val 7034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7" descr="j0284961"/>
          <p:cNvPicPr/>
          <p:nvPr/>
        </p:nvPicPr>
        <p:blipFill>
          <a:blip r:embed="rId3"/>
          <a:stretch/>
        </p:blipFill>
        <p:spPr>
          <a:xfrm>
            <a:off x="7842240" y="4876920"/>
            <a:ext cx="1301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324000" y="404640"/>
            <a:ext cx="5256000" cy="2737080"/>
          </a:xfrm>
          <a:prstGeom prst="cloudCallout">
            <a:avLst>
              <a:gd name="adj1" fmla="val 39037"/>
              <a:gd name="adj2" fmla="val 5289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ROSELEIDYS05"/>
          <p:cNvPicPr/>
          <p:nvPr/>
        </p:nvPicPr>
        <p:blipFill>
          <a:blip r:embed="rId1"/>
          <a:stretch/>
        </p:blipFill>
        <p:spPr>
          <a:xfrm>
            <a:off x="6372360" y="144360"/>
            <a:ext cx="2376360" cy="299736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4"/>
          <p:cNvSpPr/>
          <p:nvPr/>
        </p:nvSpPr>
        <p:spPr>
          <a:xfrm>
            <a:off x="2124000" y="3213000"/>
            <a:ext cx="4824360" cy="1833840"/>
          </a:xfrm>
          <a:prstGeom prst="wedgeEllipseCallout">
            <a:avLst>
              <a:gd name="adj1" fmla="val 69611"/>
              <a:gd name="adj2" fmla="val 7606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j0284961"/>
          <p:cNvPicPr/>
          <p:nvPr/>
        </p:nvPicPr>
        <p:blipFill>
          <a:blip r:embed="rId2"/>
          <a:stretch/>
        </p:blipFill>
        <p:spPr>
          <a:xfrm>
            <a:off x="7842240" y="4876920"/>
            <a:ext cx="1301760" cy="1981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900000" y="797040"/>
            <a:ext cx="6336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Her name is Rosie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She is  15 years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old. 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916360" y="3284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She’s young and pretty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95280" y="549360"/>
            <a:ext cx="8748720" cy="42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000000"/>
                </a:solidFill>
                <a:latin typeface="Times New Roman"/>
              </a:rPr>
              <a:t>Suppose you received a letter from a pen friend, who wants to know how you are.  In your reply, </a:t>
            </a:r>
            <a:r>
              <a:rPr b="1" i="1" lang="es-MX" sz="4800" spc="-1" strike="noStrike">
                <a:solidFill>
                  <a:srgbClr val="ffff00"/>
                </a:solidFill>
                <a:latin typeface="Times New Roman"/>
              </a:rPr>
              <a:t>describe yourself</a:t>
            </a:r>
            <a:r>
              <a:rPr b="1" i="1" lang="es-MX" sz="4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95280" y="-2700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rite the Spanish equivalent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628640"/>
            <a:ext cx="720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95280" y="1522440"/>
            <a:ext cx="828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tall                  short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young             old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heavy              thin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handsome      ugly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rich                poor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large             small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noisy             quiet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95280" y="-2700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rite the Spanish equivalent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00000" y="1628640"/>
            <a:ext cx="720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95280" y="1522440"/>
            <a:ext cx="9145440" cy="52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tall            =  alto       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young       =  joven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heavy        =  pesado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handsome = buen tipo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rich          = rico           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large        = grande, amplio         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noisy         = ruidoso         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95280" y="-2700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rite the Spanish equivalent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900000" y="1628640"/>
            <a:ext cx="720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95280" y="1522440"/>
            <a:ext cx="874872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short  =  bajito, corto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old     =  viejo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thin   =  delgado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ugly   =  feo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poor   =  pobre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small  =  pequeño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quiet  =  silencioso, tranquilo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826920" y="620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Complete the description.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826920" y="177336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____. I’m Dolly. ____ a model. I’m _____,I’m _____ and _____. I have blue eyes.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j0297265"/>
          <p:cNvPicPr/>
          <p:nvPr/>
        </p:nvPicPr>
        <p:blipFill>
          <a:blip r:embed="rId1"/>
          <a:stretch/>
        </p:blipFill>
        <p:spPr>
          <a:xfrm>
            <a:off x="3286080" y="3500280"/>
            <a:ext cx="2952720" cy="2476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468360" y="404640"/>
            <a:ext cx="7632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POSSIBLE      ANSWER</a:t>
            </a: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826920" y="620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Complete the description.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826920" y="177336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Hi!.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 I’m Dolly. I’m  a model. I’m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young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. I’m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thin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beautiful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. I have blue eyes.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97164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Language</a:t>
            </a:r>
            <a:endParaRPr b="1" i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j0299125"/>
          <p:cNvPicPr/>
          <p:nvPr/>
        </p:nvPicPr>
        <p:blipFill>
          <a:blip r:embed="rId2"/>
          <a:stretch/>
        </p:blipFill>
        <p:spPr>
          <a:xfrm>
            <a:off x="7093080" y="4292640"/>
            <a:ext cx="172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619280" y="385920"/>
            <a:ext cx="77058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j0293466"/>
          <p:cNvPicPr/>
          <p:nvPr/>
        </p:nvPicPr>
        <p:blipFill>
          <a:blip r:embed="rId1"/>
          <a:stretch/>
        </p:blipFill>
        <p:spPr>
          <a:xfrm>
            <a:off x="179280" y="115920"/>
            <a:ext cx="2089080" cy="2808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059280" y="40464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Describing oneself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059280" y="1268280"/>
            <a:ext cx="59054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Age : (?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Physical characteristics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9640" y="4365720"/>
            <a:ext cx="748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 am short.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’m thin.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21:23:27Z</dcterms:created>
  <dc:creator>MINED</dc:creator>
  <dc:description/>
  <dc:language>en-US</dc:language>
  <cp:lastModifiedBy>Maria de los Angeles</cp:lastModifiedBy>
  <dcterms:modified xsi:type="dcterms:W3CDTF">2013-10-30T09:08:18Z</dcterms:modified>
  <cp:revision>35</cp:revision>
  <dc:subject/>
  <dc:title>Sin título de diapositiva</dc:title>
</cp:coreProperties>
</file>