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585-B40D-4FDF-98C3-BE6362C2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92F-5B09-4483-894D-A3CCA230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0D3-3115-4552-A523-C52563E7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538-603E-4FF4-ACA9-6B485CA5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80E-B3B0-4540-A91B-41EC6B0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DB9-FC09-4F85-9594-8E25719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C36-F020-4CD1-9270-F564637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DF6-C432-4F69-969D-70D28602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1D1-4A40-4FA6-8847-746C441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92D-CBCD-40C1-B24C-A72E5F1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CCC-C6A3-4100-B9B5-099FBEC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F67-3F8D-46B2-AC97-56BDD67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D42-7DC9-46C1-A9D2-256F060A2B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0"/>
            <a:ext cx="761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eveloping Reading   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743280" y="189000"/>
            <a:ext cx="54007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Use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Controls diarrhea within 24 hr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oothes heartburn and indigestion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elieves nausea and upset stomach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0920" y="2205000"/>
            <a:ext cx="316872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Warn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o not use if you are allergic to aspirin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3708360" y="260280"/>
            <a:ext cx="5435640" cy="6193080"/>
            <a:chOff x="3708360" y="260280"/>
            <a:chExt cx="5435640" cy="6193080"/>
          </a:xfrm>
        </p:grpSpPr>
        <p:sp>
          <p:nvSpPr>
            <p:cNvPr id="59" name="Rectangle 6"/>
            <p:cNvSpPr/>
            <p:nvPr/>
          </p:nvSpPr>
          <p:spPr>
            <a:xfrm>
              <a:off x="370836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3743280" y="549360"/>
              <a:ext cx="5400720" cy="56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ff"/>
                  </a:solidFill>
                  <a:latin typeface="Times New Roman"/>
                </a:rPr>
                <a:t>Use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ontrols diarrhea within 24 hrs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Soothes heartburn and indigestion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lieves nausea and upset stomach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1" name="Group 8"/>
          <p:cNvGrpSpPr/>
          <p:nvPr/>
        </p:nvGrpSpPr>
        <p:grpSpPr>
          <a:xfrm>
            <a:off x="179280" y="2349360"/>
            <a:ext cx="3313080" cy="4104000"/>
            <a:chOff x="179280" y="2349360"/>
            <a:chExt cx="3313080" cy="4104000"/>
          </a:xfrm>
        </p:grpSpPr>
        <p:sp>
          <p:nvSpPr>
            <p:cNvPr id="62" name="Rectangle 9"/>
            <p:cNvSpPr/>
            <p:nvPr/>
          </p:nvSpPr>
          <p:spPr>
            <a:xfrm>
              <a:off x="179280" y="2349360"/>
              <a:ext cx="3313080" cy="4104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250920" y="2708280"/>
              <a:ext cx="316872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ff"/>
                  </a:solidFill>
                  <a:latin typeface="Times New Roman"/>
                </a:rPr>
                <a:t>Warning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Do not use if you are allergic to aspirin.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260280"/>
            <a:ext cx="3457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OOTHE: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hewable tablet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959280" y="260280"/>
            <a:ext cx="5184720" cy="6193080"/>
            <a:chOff x="3959280" y="260280"/>
            <a:chExt cx="5184720" cy="6193080"/>
          </a:xfrm>
        </p:grpSpPr>
        <p:sp>
          <p:nvSpPr>
            <p:cNvPr id="66" name="Rectangle 4"/>
            <p:cNvSpPr/>
            <p:nvPr/>
          </p:nvSpPr>
          <p:spPr>
            <a:xfrm>
              <a:off x="3959280" y="260280"/>
              <a:ext cx="5184720" cy="61930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4030920" y="260280"/>
              <a:ext cx="4825800" cy="61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0000ff"/>
                  </a:solidFill>
                  <a:latin typeface="Times New Roman"/>
                </a:rPr>
                <a:t>Directions</a:t>
              </a: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Chew  or dissolve tablets in mouth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Repeat every  ½ hr. to 1 hr., as needed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9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s-ES_tradnl" sz="4800" spc="-1" strike="noStrike">
                  <a:solidFill>
                    <a:srgbClr val="000000"/>
                  </a:solidFill>
                  <a:latin typeface="Times New Roman"/>
                </a:rPr>
                <a:t>Do not take more than 8 doses in 24 hours.</a:t>
              </a:r>
              <a:endParaRPr b="1" i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8" name="Group 6"/>
          <p:cNvGrpSpPr/>
          <p:nvPr/>
        </p:nvGrpSpPr>
        <p:grpSpPr>
          <a:xfrm>
            <a:off x="144360" y="1989000"/>
            <a:ext cx="3670560" cy="4517280"/>
            <a:chOff x="144360" y="1989000"/>
            <a:chExt cx="3670560" cy="4517280"/>
          </a:xfrm>
        </p:grpSpPr>
        <p:sp>
          <p:nvSpPr>
            <p:cNvPr id="69" name="Rectangle 7"/>
            <p:cNvSpPr/>
            <p:nvPr/>
          </p:nvSpPr>
          <p:spPr>
            <a:xfrm>
              <a:off x="144360" y="1989000"/>
              <a:ext cx="3635640" cy="44643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250920" y="2133720"/>
              <a:ext cx="3564000" cy="43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Adults &amp; children 12 years and over: 2 tablets</a:t>
              </a:r>
              <a:endParaRPr b="1" i="1" lang="en-US" sz="4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9-12 years:1 </a:t>
              </a:r>
              <a:r>
                <a:rPr b="1" i="1" lang="es-ES_tradnl" sz="4000" spc="-1" strike="noStrike">
                  <a:solidFill>
                    <a:srgbClr val="000000"/>
                  </a:solidFill>
                  <a:latin typeface="Times New Roman"/>
                </a:rPr>
                <a:t>tab.</a:t>
              </a:r>
              <a:endParaRPr b="1" i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39640" y="476280"/>
            <a:ext cx="860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with you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Picture 3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11280" y="1268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the following text to complete the char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95280" y="333360"/>
          <a:ext cx="8424720" cy="648036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31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8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Freeform 3"/>
          <p:cNvSpPr/>
          <p:nvPr/>
        </p:nvSpPr>
        <p:spPr>
          <a:xfrm>
            <a:off x="3448080" y="907920"/>
            <a:ext cx="735120" cy="76536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43657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Cienfuegos: The Pearl of the South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8360" y="230040"/>
            <a:ext cx="817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ienfuegos is a small province. Its capital city is on the lovely Bay of Cienfuegos. Visitors must not miss a walk along the boulevard. They should begin their explorations on th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Jose Mart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Par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3" descr="C-CIENFU"/>
          <p:cNvPicPr/>
          <p:nvPr/>
        </p:nvPicPr>
        <p:blipFill>
          <a:blip r:embed="rId1"/>
          <a:stretch/>
        </p:blipFill>
        <p:spPr>
          <a:xfrm>
            <a:off x="6084720" y="472428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9280" y="1760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y should also visit the Tomás Terry Theater, the City Hall and  the interesting Botanic Garden.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C-CIENFU"/>
          <p:cNvPicPr/>
          <p:nvPr/>
        </p:nvPicPr>
        <p:blipFill>
          <a:blip r:embed="rId1"/>
          <a:stretch/>
        </p:blipFill>
        <p:spPr>
          <a:xfrm>
            <a:off x="6659640" y="4930920"/>
            <a:ext cx="2520720" cy="1954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50920" y="35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Visitors admire the beauty of its architecture and the tidiness of the streets.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95280" y="333360"/>
          <a:ext cx="8424720" cy="6524640"/>
        </p:xfrm>
        <a:graphic>
          <a:graphicData uri="http://schemas.openxmlformats.org/drawingml/2006/table">
            <a:tbl>
              <a:tblPr/>
              <a:tblGrid>
                <a:gridCol w="2736720"/>
                <a:gridCol w="2808360"/>
                <a:gridCol w="2879640"/>
              </a:tblGrid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5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8"/>
          <p:cNvSpPr/>
          <p:nvPr/>
        </p:nvSpPr>
        <p:spPr>
          <a:xfrm>
            <a:off x="3203640" y="836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4859280" y="1052640"/>
            <a:ext cx="230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33480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5867280" y="83664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5796000" y="836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haract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468360" y="1844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rovince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95280" y="31100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324000" y="4437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Attraction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2987640" y="18842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98764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enfuegos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276720" y="414036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erry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ity Hall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3059280" y="5734080"/>
            <a:ext cx="30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Botanic G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6156360" y="1844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mall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6156360" y="321300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ovely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5867280" y="4581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6084720" y="458136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765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cann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Picture 3" descr="BD19590_"/>
          <p:cNvPicPr/>
          <p:nvPr/>
        </p:nvPicPr>
        <p:blipFill>
          <a:blip r:embed="rId1"/>
          <a:stretch/>
        </p:blipFill>
        <p:spPr>
          <a:xfrm>
            <a:off x="4932360" y="3886200"/>
            <a:ext cx="249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4000" y="1773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Writing Strategies     to describe places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4920" y="86688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1.Write the name of the place and its location.</a:t>
            </a: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549360"/>
            <a:ext cx="9144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2. Use adjectives and other phrases to describe 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549360"/>
            <a:ext cx="914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Times New Roman"/>
              </a:rPr>
              <a:t>3. Suggest places to visit.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476280"/>
            <a:ext cx="87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4. Write a closing sentence  (about importance, visitors, etc).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250920" y="-79920"/>
            <a:ext cx="2939040" cy="1995840"/>
            <a:chOff x="250920" y="-79920"/>
            <a:chExt cx="2939040" cy="1995840"/>
          </a:xfrm>
        </p:grpSpPr>
        <p:pic>
          <p:nvPicPr>
            <p:cNvPr id="122" name="Picture 5" descr="j0199371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 rot="20385000">
              <a:off x="612360" y="331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4" name="Text Box 7"/>
          <p:cNvSpPr/>
          <p:nvPr/>
        </p:nvSpPr>
        <p:spPr>
          <a:xfrm>
            <a:off x="2627280" y="476280"/>
            <a:ext cx="6227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ing and writing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rategie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9640" y="2781360"/>
            <a:ext cx="860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canning: locating specific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ing  descriptive texts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39640" y="527400"/>
            <a:ext cx="799308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wear...because of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visit...becaus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must see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0920" y="-153360"/>
            <a:ext cx="8496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iving advice and recommending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definitely visit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never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 avoid...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You shouldn’t miss…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1600" y="2095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o scan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s to read quickly to locate specific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80316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bserve the organization of the information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ead each question carefully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76040"/>
            <a:ext cx="87631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scan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ove your eyes quickly over the text, paying attention to key word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ind and write the answer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72880" y="209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ake a minute to look at the information. Then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the text to answer the question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5280" y="1241280"/>
            <a:ext cx="820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is Soothe good  for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should  you take it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ow many tablets should   a  7–year-old child take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07T08:41:28Z</dcterms:modified>
  <cp:revision>60</cp:revision>
  <dc:subject/>
  <dc:title>PowerPoint Presentation</dc:title>
</cp:coreProperties>
</file>