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7A0-E04E-4CB1-8018-AFCFF87E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0CE-43F7-4D2B-A4B6-0461A5C6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092-7B39-455A-9CE2-7191CD67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6B8-C03A-4974-B096-D8616E56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CE2-5B3C-4F6C-BDB6-BDA9903B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2C7-54D3-4883-BDD7-FA88853C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EC3-1284-4624-BD2E-9FE023F6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FD5-D668-41A6-87BF-AD84B9A0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021-D468-46EC-B075-449D6CFD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60B-E685-47B8-B77D-75D0CEBD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479-1A30-46B7-AABA-96C891B9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5A9-A4D6-4EEF-A625-60CAA6F5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B85D-BCF2-4BD7-AB86-37B2FC5D8FF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6000" y="55440"/>
            <a:ext cx="4131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600" spc="-1" strike="noStrike">
                <a:solidFill>
                  <a:srgbClr val="ffff00"/>
                </a:solidFill>
                <a:latin typeface="Monotype Corsiva"/>
              </a:rPr>
              <a:t>Topic:</a:t>
            </a:r>
            <a:endParaRPr b="1" i="1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-475920" y="2133720"/>
            <a:ext cx="94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ffffff"/>
                </a:solidFill>
                <a:latin typeface="Monotype Corsiva"/>
              </a:rPr>
              <a:t>How often do you…?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9" descr="AG00375_"/>
          <p:cNvPicPr/>
          <p:nvPr/>
        </p:nvPicPr>
        <p:blipFill>
          <a:blip r:embed="rId1"/>
          <a:stretch/>
        </p:blipFill>
        <p:spPr>
          <a:xfrm flipH="1">
            <a:off x="394920" y="4149720"/>
            <a:ext cx="3097080" cy="2708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j0150056"/>
          <p:cNvPicPr/>
          <p:nvPr/>
        </p:nvPicPr>
        <p:blipFill>
          <a:blip r:embed="rId2"/>
          <a:stretch/>
        </p:blipFill>
        <p:spPr>
          <a:xfrm>
            <a:off x="6443640" y="333360"/>
            <a:ext cx="2016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J0202098"/>
          <p:cNvPicPr/>
          <p:nvPr/>
        </p:nvPicPr>
        <p:blipFill>
          <a:blip r:embed="rId3"/>
          <a:stretch/>
        </p:blipFill>
        <p:spPr>
          <a:xfrm>
            <a:off x="7020000" y="3762360"/>
            <a:ext cx="212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1332000"/>
                <a:gridCol w="1716120"/>
                <a:gridCol w="1379520"/>
                <a:gridCol w="1439640"/>
                <a:gridCol w="1752840"/>
                <a:gridCol w="152388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53"/>
          <p:cNvSpPr/>
          <p:nvPr/>
        </p:nvSpPr>
        <p:spPr>
          <a:xfrm>
            <a:off x="0" y="333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Speak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4"/>
          <p:cNvSpPr/>
          <p:nvPr/>
        </p:nvSpPr>
        <p:spPr>
          <a:xfrm>
            <a:off x="448560" y="113652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5"/>
          <p:cNvSpPr/>
          <p:nvPr/>
        </p:nvSpPr>
        <p:spPr>
          <a:xfrm>
            <a:off x="324720" y="244332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251640" y="359424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7"/>
          <p:cNvSpPr/>
          <p:nvPr/>
        </p:nvSpPr>
        <p:spPr>
          <a:xfrm>
            <a:off x="180360" y="453060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8"/>
          <p:cNvSpPr/>
          <p:nvPr/>
        </p:nvSpPr>
        <p:spPr>
          <a:xfrm>
            <a:off x="108720" y="580536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5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9"/>
          <p:cNvSpPr/>
          <p:nvPr/>
        </p:nvSpPr>
        <p:spPr>
          <a:xfrm>
            <a:off x="1403280" y="2109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lways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0"/>
          <p:cNvSpPr/>
          <p:nvPr/>
        </p:nvSpPr>
        <p:spPr>
          <a:xfrm>
            <a:off x="5867280" y="260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usuall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1"/>
          <p:cNvSpPr/>
          <p:nvPr/>
        </p:nvSpPr>
        <p:spPr>
          <a:xfrm>
            <a:off x="4356000" y="26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rarel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2"/>
          <p:cNvSpPr/>
          <p:nvPr/>
        </p:nvSpPr>
        <p:spPr>
          <a:xfrm>
            <a:off x="3059280" y="26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63"/>
          <p:cNvSpPr/>
          <p:nvPr/>
        </p:nvSpPr>
        <p:spPr>
          <a:xfrm>
            <a:off x="7596360" y="233280"/>
            <a:ext cx="172872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some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times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64"/>
          <p:cNvSpPr/>
          <p:nvPr/>
        </p:nvSpPr>
        <p:spPr>
          <a:xfrm>
            <a:off x="1763640" y="1197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65"/>
          <p:cNvSpPr/>
          <p:nvPr/>
        </p:nvSpPr>
        <p:spPr>
          <a:xfrm>
            <a:off x="4665600" y="45306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66"/>
          <p:cNvSpPr/>
          <p:nvPr/>
        </p:nvSpPr>
        <p:spPr>
          <a:xfrm>
            <a:off x="7761240" y="34513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67"/>
          <p:cNvSpPr/>
          <p:nvPr/>
        </p:nvSpPr>
        <p:spPr>
          <a:xfrm>
            <a:off x="6227640" y="2298600"/>
            <a:ext cx="914400" cy="698760"/>
          </a:xfrm>
          <a:custGeom>
            <a:avLst/>
            <a:gdLst>
              <a:gd name="textAreaLeft" fmla="*/ 376560 w 914400"/>
              <a:gd name="textAreaRight" fmla="*/ 537840 w 914400"/>
              <a:gd name="textAreaTop" fmla="*/ 288000 h 698760"/>
              <a:gd name="textAreaBottom" fmla="*/ 4107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68"/>
          <p:cNvSpPr/>
          <p:nvPr/>
        </p:nvSpPr>
        <p:spPr>
          <a:xfrm>
            <a:off x="2627280" y="2060640"/>
            <a:ext cx="9144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9"/>
          <p:cNvSpPr/>
          <p:nvPr/>
        </p:nvSpPr>
        <p:spPr>
          <a:xfrm>
            <a:off x="31528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79800" y="785880"/>
            <a:ext cx="837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How often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at home in the morn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223280" y="3213000"/>
            <a:ext cx="651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’m _____at hom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n the morning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10200" y="1177920"/>
            <a:ext cx="789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s-ES" sz="66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6600" spc="-1" strike="noStrike">
                <a:solidFill>
                  <a:srgbClr val="ffff00"/>
                </a:solidFill>
                <a:latin typeface="Times New Roman"/>
              </a:rPr>
              <a:t>go</a:t>
            </a: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 to parties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35800" y="2781360"/>
            <a:ext cx="709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6600" spc="-1" strike="noStrike">
                <a:solidFill>
                  <a:srgbClr val="ffff00"/>
                </a:solidFill>
                <a:latin typeface="Times New Roman"/>
              </a:rPr>
              <a:t> am</a:t>
            </a: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6600" spc="-1" strike="noStrike" u="sng">
                <a:solidFill>
                  <a:srgbClr val="ffffff"/>
                </a:solidFill>
                <a:uFillTx/>
                <a:latin typeface="Times New Roman"/>
              </a:rPr>
              <a:t>never</a:t>
            </a: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 at home 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n the morning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468360" y="333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mplete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34136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.- I _______wash the dishes. _______ my wife washes the dishes, but usually it’s m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333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mplete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24000" y="13413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B.- My husband and I  ______ wash the dishes together. He _______washes the dishes. I _______ wash them and he dries them. We’re a good team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71640" y="620640"/>
            <a:ext cx="734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.- I _____wash the dishes. My roommate ______washes them. I_____all the cooking. It’s a good arrangemen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68360" y="333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ossible answe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24000" y="134136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.- 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usually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ash the dishes.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ometime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my wife washes the dishes, but usually it’s m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68360" y="333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mplete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24000" y="13413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B.- My husband and I 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always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wash the dishes together. He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rarely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washes the dishes. I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usually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wash them and he dries them. We’re a good team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971640" y="620640"/>
            <a:ext cx="734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.- 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never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ash the dishes. My roommate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always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ashes them. I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 do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all the cooking. It’s a good arrangemen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684360" y="404640"/>
            <a:ext cx="7559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Useful expresion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e’re a good team!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t’s a good arrangemen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50920" y="260280"/>
            <a:ext cx="88930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Talk about yourself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do you  always/never/sometimes/ rarely/usually  do after classes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8000" y="906480"/>
            <a:ext cx="896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How often do you </a:t>
            </a: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study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3"/>
          <p:cNvSpPr/>
          <p:nvPr/>
        </p:nvSpPr>
        <p:spPr>
          <a:xfrm>
            <a:off x="5724360" y="1844640"/>
            <a:ext cx="594000" cy="628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 flipH="1">
            <a:off x="4735440" y="1897200"/>
            <a:ext cx="503280" cy="107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5580000" y="1916280"/>
            <a:ext cx="306360" cy="192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283800" y="1895400"/>
            <a:ext cx="250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Work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049440" y="3333600"/>
            <a:ext cx="236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Read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25440" y="2638440"/>
            <a:ext cx="3021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go to 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Parties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103480" y="35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662440" y="6075360"/>
            <a:ext cx="2581560" cy="88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7878960" y="55958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084720" y="5495760"/>
            <a:ext cx="936720" cy="790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20%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861080" y="3767040"/>
            <a:ext cx="1223640" cy="2519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5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492360" y="2614680"/>
            <a:ext cx="1368720" cy="3673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6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2052720" y="1822320"/>
            <a:ext cx="1439640" cy="446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8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68360" y="887400"/>
            <a:ext cx="1584360" cy="540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10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1135080" y="11592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alway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2198520" y="981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usuall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4861080" y="2781360"/>
            <a:ext cx="37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sometim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3494160" y="17733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ofte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6086520" y="386064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rarel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7096680" y="5052960"/>
            <a:ext cx="180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Arial"/>
              </a:rPr>
              <a:t>never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5" descr="j0293466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034280" y="638280"/>
            <a:ext cx="706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Times New Roman"/>
              </a:rPr>
              <a:t>How often do you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7200" spc="-1" strike="noStrike">
                <a:solidFill>
                  <a:srgbClr val="ffff00"/>
                </a:solidFill>
                <a:latin typeface="Times New Roman"/>
              </a:rPr>
              <a:t>go to parties?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2360" y="38242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s-ES" sz="7200" spc="-1" strike="noStrike" u="sng">
                <a:solidFill>
                  <a:srgbClr val="ffff00"/>
                </a:solidFill>
                <a:uFillTx/>
                <a:latin typeface="Times New Roman"/>
              </a:rPr>
              <a:t>usually</a:t>
            </a:r>
            <a:r>
              <a:rPr b="1" i="1" lang="es-ES" sz="7200" spc="-1" strike="noStrike">
                <a:solidFill>
                  <a:srgbClr val="ffffff"/>
                </a:solidFill>
                <a:latin typeface="Times New Roman"/>
              </a:rPr>
              <a:t> go to parties.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79800" y="785880"/>
            <a:ext cx="837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How often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at home in the morn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23280" y="3213000"/>
            <a:ext cx="651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’m _____at hom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n the morning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773080" y="3286080"/>
            <a:ext cx="20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never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910440" y="317520"/>
            <a:ext cx="719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s-ES" sz="6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go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to partie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09840" y="3357720"/>
            <a:ext cx="799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am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6000" spc="-1" strike="noStrike" u="sng">
                <a:solidFill>
                  <a:srgbClr val="ffffff"/>
                </a:solidFill>
                <a:uFillTx/>
                <a:latin typeface="Times New Roman"/>
              </a:rPr>
              <a:t>sometimes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at home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556000" y="1268280"/>
            <a:ext cx="0" cy="57636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4356000" y="1197000"/>
            <a:ext cx="0" cy="647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1692360" y="4218120"/>
            <a:ext cx="0" cy="64908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4067280" y="4290840"/>
            <a:ext cx="0" cy="64800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47240" y="1892160"/>
            <a:ext cx="237240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frequency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word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088280" y="4987800"/>
            <a:ext cx="1512720" cy="1556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To Be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3851280" y="2349360"/>
            <a:ext cx="0" cy="50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635280" y="2565360"/>
            <a:ext cx="432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534840" y="4987800"/>
            <a:ext cx="237240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frequency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word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328280" y="1916280"/>
            <a:ext cx="165132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action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059280" y="5516640"/>
            <a:ext cx="0" cy="50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2843280" y="5732640"/>
            <a:ext cx="4316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95280" y="213372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Do you ever  watch TV?</a:t>
            </a:r>
            <a:endParaRPr b="1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34:03Z</dcterms:modified>
  <cp:revision>19</cp:revision>
  <dc:subject/>
  <dc:title>PowerPoint Presentation</dc:title>
</cp:coreProperties>
</file>