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gif" ContentType="image/gif"/>
  <Override PartName="/ppt/media/image4.wmf" ContentType="image/x-wmf"/>
  <Override PartName="/ppt/media/image2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849-C6BE-4ECF-8DFA-EFDE1685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2B7-3FBD-4FF0-B160-BBE01832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F2A-A685-447F-BB50-372CF699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9BA-2E59-446B-8BB3-9875D5AA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255-C374-49B6-81F6-07BAD88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899-29A7-4714-903A-1F80DF4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AD5-65F7-4C39-BE54-9614E832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CBB-3A5C-47DA-B80C-0FA13C5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9E6-38D2-4C6F-A570-D76593B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1E8-3AA0-486F-BCCA-B554465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1E0-2972-4217-93DC-EC855DA0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3C2-CF6F-4C35-B283-5039D4D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E804-806E-4448-B6C3-FF2E17788F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5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2160" y="46080"/>
            <a:ext cx="34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Topic: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51680" y="2117880"/>
            <a:ext cx="756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Times New Roman"/>
              </a:rPr>
              <a:t>How often do you…?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AG00375_"/>
          <p:cNvPicPr/>
          <p:nvPr/>
        </p:nvPicPr>
        <p:blipFill>
          <a:blip r:embed="rId1"/>
          <a:stretch/>
        </p:blipFill>
        <p:spPr>
          <a:xfrm flipH="1">
            <a:off x="394920" y="4149720"/>
            <a:ext cx="3097080" cy="2708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150056"/>
          <p:cNvPicPr/>
          <p:nvPr/>
        </p:nvPicPr>
        <p:blipFill>
          <a:blip r:embed="rId2"/>
          <a:stretch/>
        </p:blipFill>
        <p:spPr>
          <a:xfrm>
            <a:off x="6443640" y="333360"/>
            <a:ext cx="2016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0202098"/>
          <p:cNvPicPr/>
          <p:nvPr/>
        </p:nvPicPr>
        <p:blipFill>
          <a:blip r:embed="rId3"/>
          <a:stretch/>
        </p:blipFill>
        <p:spPr>
          <a:xfrm>
            <a:off x="7020000" y="3762360"/>
            <a:ext cx="212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68360" y="260280"/>
            <a:ext cx="86756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always  gets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’s  usually 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 sometimes  gets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never 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 never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ight! He  never 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39640" y="69228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Underline the correct adverb according to the graph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620640"/>
            <a:ext cx="8351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- The students ( always- sometimes-never) go camp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- They ( usually- rarely- never) study togethe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7667640" y="981000"/>
            <a:ext cx="936720" cy="1871640"/>
            <a:chOff x="7667640" y="981000"/>
            <a:chExt cx="936720" cy="1871640"/>
          </a:xfrm>
        </p:grpSpPr>
        <p:sp>
          <p:nvSpPr>
            <p:cNvPr id="63" name="Rectangle 17"/>
            <p:cNvSpPr/>
            <p:nvPr/>
          </p:nvSpPr>
          <p:spPr>
            <a:xfrm>
              <a:off x="7667640" y="981000"/>
              <a:ext cx="936720" cy="18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7667640" y="14842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7451640" y="4221000"/>
            <a:ext cx="1152720" cy="230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380360" y="5229360"/>
            <a:ext cx="79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7524720" y="5229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620640"/>
            <a:ext cx="8675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1.- The students ( always- sometimes-never) go  to school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2.- They ( usually- rarely- never) miss class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7451640" y="4221000"/>
            <a:ext cx="1152720" cy="2303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380360" y="5229360"/>
            <a:ext cx="79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524720" y="5229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7812000" y="692280"/>
            <a:ext cx="1224000" cy="23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740720" y="170028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82760" y="549360"/>
            <a:ext cx="8192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4000" y="404640"/>
            <a:ext cx="8569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Look at the activities in these pictures and answer the question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A: How often do you do each activit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79280" y="454968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82760" y="549360"/>
            <a:ext cx="8192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24000" y="260280"/>
            <a:ext cx="8569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Now, in pairs, ask and answer questions as in the exampl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: How often do you  go swimming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B: Not very often. What about you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: I usually go swimm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454968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6520" y="213372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o fish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572000" y="21337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go swimm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484360" y="45086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read a b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732720" y="57340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stud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95280" y="5805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cook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3" descr="j0282780"/>
          <p:cNvPicPr/>
          <p:nvPr/>
        </p:nvPicPr>
        <p:blipFill>
          <a:blip r:embed="rId1"/>
          <a:stretch/>
        </p:blipFill>
        <p:spPr>
          <a:xfrm>
            <a:off x="1042920" y="549360"/>
            <a:ext cx="127656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295381"/>
          <p:cNvPicPr/>
          <p:nvPr/>
        </p:nvPicPr>
        <p:blipFill>
          <a:blip r:embed="rId2"/>
          <a:stretch/>
        </p:blipFill>
        <p:spPr>
          <a:xfrm>
            <a:off x="5219640" y="620640"/>
            <a:ext cx="2457360" cy="16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j0229913"/>
          <p:cNvPicPr/>
          <p:nvPr/>
        </p:nvPicPr>
        <p:blipFill>
          <a:blip r:embed="rId3"/>
          <a:stretch/>
        </p:blipFill>
        <p:spPr>
          <a:xfrm>
            <a:off x="3708360" y="3068640"/>
            <a:ext cx="1336680" cy="1779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j0078756"/>
          <p:cNvPicPr/>
          <p:nvPr/>
        </p:nvPicPr>
        <p:blipFill>
          <a:blip r:embed="rId4"/>
          <a:stretch/>
        </p:blipFill>
        <p:spPr>
          <a:xfrm>
            <a:off x="324000" y="3789360"/>
            <a:ext cx="1807920" cy="200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j0287438"/>
          <p:cNvPicPr/>
          <p:nvPr/>
        </p:nvPicPr>
        <p:blipFill>
          <a:blip r:embed="rId5"/>
          <a:stretch/>
        </p:blipFill>
        <p:spPr>
          <a:xfrm>
            <a:off x="7093080" y="3789360"/>
            <a:ext cx="2050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69228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Make sentences as in the example.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68360" y="476280"/>
            <a:ext cx="867564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nswer the question using the information from the chart 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93"/>
          <p:cNvSpPr/>
          <p:nvPr/>
        </p:nvSpPr>
        <p:spPr>
          <a:xfrm>
            <a:off x="34920" y="2089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94"/>
          <p:cNvSpPr/>
          <p:nvPr/>
        </p:nvSpPr>
        <p:spPr>
          <a:xfrm>
            <a:off x="5506920" y="213840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usual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95"/>
          <p:cNvSpPr/>
          <p:nvPr/>
        </p:nvSpPr>
        <p:spPr>
          <a:xfrm>
            <a:off x="3706920" y="21384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rarel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6"/>
          <p:cNvSpPr/>
          <p:nvPr/>
        </p:nvSpPr>
        <p:spPr>
          <a:xfrm>
            <a:off x="1906560" y="21384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97"/>
          <p:cNvSpPr/>
          <p:nvPr/>
        </p:nvSpPr>
        <p:spPr>
          <a:xfrm>
            <a:off x="7596360" y="2133720"/>
            <a:ext cx="1728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som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times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250920" y="40464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hat does Ralph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108" descr="J0178795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91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9" descr="j0202106"/>
          <p:cNvPicPr/>
          <p:nvPr/>
        </p:nvPicPr>
        <p:blipFill>
          <a:blip r:embed="rId2"/>
          <a:stretch/>
        </p:blipFill>
        <p:spPr>
          <a:xfrm>
            <a:off x="5435640" y="508464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0" descr="j0282774"/>
          <p:cNvPicPr/>
          <p:nvPr/>
        </p:nvPicPr>
        <p:blipFill>
          <a:blip r:embed="rId3"/>
          <a:stretch/>
        </p:blipFill>
        <p:spPr>
          <a:xfrm>
            <a:off x="3924360" y="3141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1" descr="j0282777"/>
          <p:cNvPicPr/>
          <p:nvPr/>
        </p:nvPicPr>
        <p:blipFill>
          <a:blip r:embed="rId4"/>
          <a:stretch/>
        </p:blipFill>
        <p:spPr>
          <a:xfrm>
            <a:off x="7524720" y="3357720"/>
            <a:ext cx="1276560" cy="12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2" descr="j0282780"/>
          <p:cNvPicPr/>
          <p:nvPr/>
        </p:nvPicPr>
        <p:blipFill>
          <a:blip r:embed="rId5"/>
          <a:stretch/>
        </p:blipFill>
        <p:spPr>
          <a:xfrm>
            <a:off x="1835280" y="3938760"/>
            <a:ext cx="127620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4" descr="j0315837"/>
          <p:cNvPicPr/>
          <p:nvPr/>
        </p:nvPicPr>
        <p:blipFill>
          <a:blip r:embed="rId6"/>
          <a:stretch/>
        </p:blipFill>
        <p:spPr>
          <a:xfrm>
            <a:off x="250920" y="2997360"/>
            <a:ext cx="1152360" cy="936360"/>
          </a:xfrm>
          <a:prstGeom prst="rect">
            <a:avLst/>
          </a:prstGeom>
          <a:ln w="0">
            <a:noFill/>
          </a:ln>
        </p:spPr>
      </p:pic>
      <p:sp>
        <p:nvSpPr>
          <p:cNvPr id="104" name="Line 115"/>
          <p:cNvSpPr/>
          <p:nvPr/>
        </p:nvSpPr>
        <p:spPr>
          <a:xfrm>
            <a:off x="1692360" y="242100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116"/>
          <p:cNvSpPr/>
          <p:nvPr/>
        </p:nvSpPr>
        <p:spPr>
          <a:xfrm>
            <a:off x="3564000" y="242100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117"/>
          <p:cNvSpPr/>
          <p:nvPr/>
        </p:nvSpPr>
        <p:spPr>
          <a:xfrm>
            <a:off x="5435640" y="2349360"/>
            <a:ext cx="0" cy="443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18"/>
          <p:cNvSpPr/>
          <p:nvPr/>
        </p:nvSpPr>
        <p:spPr>
          <a:xfrm>
            <a:off x="7524720" y="2492280"/>
            <a:ext cx="0" cy="44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50920" y="260280"/>
            <a:ext cx="889308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alk about yourself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do you  always/never/sometimes/ rarely/usually  do Monday through Friday at different hours during the day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4000" y="189000"/>
            <a:ext cx="88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nderline the frequency adverb you hea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1916280"/>
            <a:ext cx="87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 (usually, always, never) works late on Mon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 (always, often, rarely)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000" y="189000"/>
            <a:ext cx="88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nderline the frequency adverb you hear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79280" y="1916280"/>
            <a:ext cx="87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he (usually,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way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, never) works late on Mon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e (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alway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, often, rarely)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42960" y="785880"/>
            <a:ext cx="738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rap using a frequency adverb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4360" y="260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 the rap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8360" y="1341360"/>
            <a:ext cx="867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______ get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_____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 ______ get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_____ 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____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468360" y="260280"/>
            <a:ext cx="867564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______ gets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’s _____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  ______ gets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He_____ 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____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Right! He _____ gets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42960" y="785880"/>
            <a:ext cx="7385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4360" y="260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omplete the rap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341360"/>
            <a:ext cx="867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 always  get to work on tim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 usually  here by eigh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 sometimes  get here early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 never 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! I never  get here late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3T13:50:57Z</dcterms:modified>
  <cp:revision>26</cp:revision>
  <dc:subject/>
  <dc:title>PowerPoint Presentation</dc:title>
</cp:coreProperties>
</file>