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4.wmf" ContentType="image/x-wmf"/>
  <Override PartName="/ppt/media/image2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017-B175-463D-95FA-EA0B17E3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BBB-5E3F-4A56-B94A-E3EAD10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572-8AEA-48B6-93CE-E6DD7B3F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7BB-373C-4CF2-B0A3-ECC0186D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A55-0780-4FE0-9036-E508876C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E6A-23FD-425B-AB1B-6260319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711-79CE-43B6-9DC1-F54B1A4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D83-4A6D-4984-BF70-A0774AB6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091-9EFA-4ECB-9ADB-FCCBEC86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50F-C781-423F-85C5-7089259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96B-74D1-48DC-8CF5-B5769A5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CF9-C4DD-44AC-8EF9-1FE4C47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6A22-3840-475C-A187-9857679ECA6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5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2160" y="46080"/>
            <a:ext cx="34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Topic: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1680" y="2117880"/>
            <a:ext cx="756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How often do you…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AG00375_"/>
          <p:cNvPicPr/>
          <p:nvPr/>
        </p:nvPicPr>
        <p:blipFill>
          <a:blip r:embed="rId1"/>
          <a:stretch/>
        </p:blipFill>
        <p:spPr>
          <a:xfrm flipH="1">
            <a:off x="394920" y="4149720"/>
            <a:ext cx="3097080" cy="27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150056"/>
          <p:cNvPicPr/>
          <p:nvPr/>
        </p:nvPicPr>
        <p:blipFill>
          <a:blip r:embed="rId2"/>
          <a:stretch/>
        </p:blipFill>
        <p:spPr>
          <a:xfrm>
            <a:off x="6443640" y="333360"/>
            <a:ext cx="2016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0202098"/>
          <p:cNvPicPr/>
          <p:nvPr/>
        </p:nvPicPr>
        <p:blipFill>
          <a:blip r:embed="rId3"/>
          <a:stretch/>
        </p:blipFill>
        <p:spPr>
          <a:xfrm>
            <a:off x="7020000" y="3762360"/>
            <a:ext cx="212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68360" y="260280"/>
            <a:ext cx="86756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always  gets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’s  usually 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 sometimes  gets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never 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 never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ight! He  never 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39640" y="69228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Underline the correct adverb according to the graph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620640"/>
            <a:ext cx="8351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- The students ( always- sometimes-never) go camp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- They ( usually- rarely- never) study togeth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7667640" y="981000"/>
            <a:ext cx="936720" cy="1871640"/>
            <a:chOff x="7667640" y="981000"/>
            <a:chExt cx="936720" cy="1871640"/>
          </a:xfrm>
        </p:grpSpPr>
        <p:sp>
          <p:nvSpPr>
            <p:cNvPr id="63" name="Rectangle 17"/>
            <p:cNvSpPr/>
            <p:nvPr/>
          </p:nvSpPr>
          <p:spPr>
            <a:xfrm>
              <a:off x="7667640" y="981000"/>
              <a:ext cx="936720" cy="18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7667640" y="14842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7451640" y="4221000"/>
            <a:ext cx="1152720" cy="230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380360" y="5229360"/>
            <a:ext cx="79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7524720" y="5229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620640"/>
            <a:ext cx="8675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- The students ( always- sometimes-never) go  to school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- They ( usually- rarely- never) miss class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7451640" y="4221000"/>
            <a:ext cx="1152720" cy="230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380360" y="5229360"/>
            <a:ext cx="79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524720" y="5229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7812000" y="692280"/>
            <a:ext cx="1224000" cy="23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740720" y="170028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82760" y="549360"/>
            <a:ext cx="8192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4000" y="404640"/>
            <a:ext cx="8569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Look at the activities in these pictures and answer the questio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A: How often do you do each activit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79280" y="454968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82760" y="549360"/>
            <a:ext cx="8192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4000" y="260280"/>
            <a:ext cx="8569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Now, in pairs, ask and answer questions as in the exampl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: How often do you  go swimming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B: Not very often. What about you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: I usually go swimm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454968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6520" y="213372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o fish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0" y="21337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o swimm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484360" y="45086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read a b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732720" y="57340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stud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95280" y="5805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c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3" descr="j0282780"/>
          <p:cNvPicPr/>
          <p:nvPr/>
        </p:nvPicPr>
        <p:blipFill>
          <a:blip r:embed="rId1"/>
          <a:stretch/>
        </p:blipFill>
        <p:spPr>
          <a:xfrm>
            <a:off x="1042920" y="549360"/>
            <a:ext cx="127656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295381"/>
          <p:cNvPicPr/>
          <p:nvPr/>
        </p:nvPicPr>
        <p:blipFill>
          <a:blip r:embed="rId2"/>
          <a:stretch/>
        </p:blipFill>
        <p:spPr>
          <a:xfrm>
            <a:off x="5219640" y="620640"/>
            <a:ext cx="2457360" cy="16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j0229913"/>
          <p:cNvPicPr/>
          <p:nvPr/>
        </p:nvPicPr>
        <p:blipFill>
          <a:blip r:embed="rId3"/>
          <a:stretch/>
        </p:blipFill>
        <p:spPr>
          <a:xfrm>
            <a:off x="3708360" y="3068640"/>
            <a:ext cx="1336680" cy="1779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j0078756"/>
          <p:cNvPicPr/>
          <p:nvPr/>
        </p:nvPicPr>
        <p:blipFill>
          <a:blip r:embed="rId4"/>
          <a:stretch/>
        </p:blipFill>
        <p:spPr>
          <a:xfrm>
            <a:off x="324000" y="3789360"/>
            <a:ext cx="1807920" cy="200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j0287438"/>
          <p:cNvPicPr/>
          <p:nvPr/>
        </p:nvPicPr>
        <p:blipFill>
          <a:blip r:embed="rId5"/>
          <a:stretch/>
        </p:blipFill>
        <p:spPr>
          <a:xfrm>
            <a:off x="7093080" y="3789360"/>
            <a:ext cx="2050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69228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Make sentences as in the example.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8360" y="476280"/>
            <a:ext cx="86756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swer the question using the information from the chart 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3"/>
          <p:cNvSpPr/>
          <p:nvPr/>
        </p:nvSpPr>
        <p:spPr>
          <a:xfrm>
            <a:off x="34920" y="2089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94"/>
          <p:cNvSpPr/>
          <p:nvPr/>
        </p:nvSpPr>
        <p:spPr>
          <a:xfrm>
            <a:off x="5506920" y="213840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usual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5"/>
          <p:cNvSpPr/>
          <p:nvPr/>
        </p:nvSpPr>
        <p:spPr>
          <a:xfrm>
            <a:off x="3706920" y="21384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rare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6"/>
          <p:cNvSpPr/>
          <p:nvPr/>
        </p:nvSpPr>
        <p:spPr>
          <a:xfrm>
            <a:off x="1906560" y="21384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7"/>
          <p:cNvSpPr/>
          <p:nvPr/>
        </p:nvSpPr>
        <p:spPr>
          <a:xfrm>
            <a:off x="7596360" y="2133720"/>
            <a:ext cx="1728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som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time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250920" y="40464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oes Ralph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108" descr="J0178795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91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9" descr="j0202106"/>
          <p:cNvPicPr/>
          <p:nvPr/>
        </p:nvPicPr>
        <p:blipFill>
          <a:blip r:embed="rId2"/>
          <a:stretch/>
        </p:blipFill>
        <p:spPr>
          <a:xfrm>
            <a:off x="5435640" y="508464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0" descr="j0282774"/>
          <p:cNvPicPr/>
          <p:nvPr/>
        </p:nvPicPr>
        <p:blipFill>
          <a:blip r:embed="rId3"/>
          <a:stretch/>
        </p:blipFill>
        <p:spPr>
          <a:xfrm>
            <a:off x="3924360" y="3141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1" descr="j0282777"/>
          <p:cNvPicPr/>
          <p:nvPr/>
        </p:nvPicPr>
        <p:blipFill>
          <a:blip r:embed="rId4"/>
          <a:stretch/>
        </p:blipFill>
        <p:spPr>
          <a:xfrm>
            <a:off x="7524720" y="3357720"/>
            <a:ext cx="1276560" cy="12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2" descr="j0282780"/>
          <p:cNvPicPr/>
          <p:nvPr/>
        </p:nvPicPr>
        <p:blipFill>
          <a:blip r:embed="rId5"/>
          <a:stretch/>
        </p:blipFill>
        <p:spPr>
          <a:xfrm>
            <a:off x="1835280" y="3938760"/>
            <a:ext cx="127620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4" descr="j0315837"/>
          <p:cNvPicPr/>
          <p:nvPr/>
        </p:nvPicPr>
        <p:blipFill>
          <a:blip r:embed="rId6"/>
          <a:stretch/>
        </p:blipFill>
        <p:spPr>
          <a:xfrm>
            <a:off x="250920" y="2997360"/>
            <a:ext cx="1152360" cy="936360"/>
          </a:xfrm>
          <a:prstGeom prst="rect">
            <a:avLst/>
          </a:prstGeom>
          <a:ln w="0">
            <a:noFill/>
          </a:ln>
        </p:spPr>
      </p:pic>
      <p:sp>
        <p:nvSpPr>
          <p:cNvPr id="104" name="Line 115"/>
          <p:cNvSpPr/>
          <p:nvPr/>
        </p:nvSpPr>
        <p:spPr>
          <a:xfrm>
            <a:off x="1692360" y="242100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16"/>
          <p:cNvSpPr/>
          <p:nvPr/>
        </p:nvSpPr>
        <p:spPr>
          <a:xfrm>
            <a:off x="3564000" y="242100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7"/>
          <p:cNvSpPr/>
          <p:nvPr/>
        </p:nvSpPr>
        <p:spPr>
          <a:xfrm>
            <a:off x="5435640" y="2349360"/>
            <a:ext cx="0" cy="443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18"/>
          <p:cNvSpPr/>
          <p:nvPr/>
        </p:nvSpPr>
        <p:spPr>
          <a:xfrm>
            <a:off x="7524720" y="249228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50920" y="260280"/>
            <a:ext cx="889308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alk about yourself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do you  always/never/sometimes/ rarely/usually  do Monday through Friday at different hours during the da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4000" y="189000"/>
            <a:ext cx="88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nderline the frequency adverb you hea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1916280"/>
            <a:ext cx="87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 (usually, always, never) works late on Mon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 (always, often, rarely)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000" y="189000"/>
            <a:ext cx="88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nderline the frequency adverb you hea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79280" y="1916280"/>
            <a:ext cx="87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 (usually,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way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, never) works late on Mon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 (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way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, often, rarely)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42960" y="785880"/>
            <a:ext cx="738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rap using a frequency adverb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260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 the rap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1341360"/>
            <a:ext cx="867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______ get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_____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 ______ get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_____ 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____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468360" y="260280"/>
            <a:ext cx="86756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______ gets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’s _____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 ______ gets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_____ 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____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ight! He _____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42960" y="785880"/>
            <a:ext cx="7385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4360" y="260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 the rap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341360"/>
            <a:ext cx="867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 always  get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 usually 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 sometimes  get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never 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 never 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3T13:50:57Z</dcterms:modified>
  <cp:revision>26</cp:revision>
  <dc:subject/>
  <dc:title>PowerPoint Presentation</dc:title>
</cp:coreProperties>
</file>