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9F0-1B01-48C1-B967-18BC4BA5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D5D-1158-46B8-9531-FE058EFF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431-1DC7-47F0-A7DF-93B93E44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FFA-E54D-47B3-A3C3-F885059E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231D-9057-4EE0-8C5E-BD4D50F4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3252-6E99-4796-8189-F98F8111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AC85-76D0-4ED1-B452-731C4C2D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F89-FFB7-46F0-8999-C4A37A35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7DF-7AA3-4ADD-A39F-11B93409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1C6C-FE09-4BE3-9548-DDD16E9F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06C-5CA8-4D39-B501-00FDC6FD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0F52-FEE8-4A63-8FDC-72A96E6F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D061-5CD9-4ABC-ACD7-45A07DFF679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j0284994"/>
          <p:cNvPicPr/>
          <p:nvPr/>
        </p:nvPicPr>
        <p:blipFill>
          <a:blip r:embed="rId1"/>
          <a:stretch/>
        </p:blipFill>
        <p:spPr>
          <a:xfrm>
            <a:off x="5580000" y="0"/>
            <a:ext cx="40672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j0289893"/>
          <p:cNvPicPr/>
          <p:nvPr/>
        </p:nvPicPr>
        <p:blipFill>
          <a:blip r:embed="rId2"/>
          <a:stretch/>
        </p:blipFill>
        <p:spPr>
          <a:xfrm>
            <a:off x="0" y="3860640"/>
            <a:ext cx="5580000" cy="2997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34920" y="260280"/>
            <a:ext cx="518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Comic Sans MS"/>
              </a:rPr>
              <a:t>Greeting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Comic Sans MS"/>
              </a:rPr>
              <a:t>and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Comic Sans MS"/>
              </a:rPr>
              <a:t>presentation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50920" y="260280"/>
            <a:ext cx="87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Introducing other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539640" y="2852640"/>
            <a:ext cx="7777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898560" y="1773360"/>
            <a:ext cx="49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his is my  friend, Sue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68360" y="3933720"/>
            <a:ext cx="70563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4643280" y="1700280"/>
            <a:ext cx="1295640" cy="1873080"/>
          </a:xfrm>
          <a:custGeom>
            <a:avLst/>
            <a:gdLst>
              <a:gd name="textAreaLeft" fmla="*/ 0 w 1295640"/>
              <a:gd name="textAreaRight" fmla="*/ 468000 w 129564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227640" y="1547640"/>
            <a:ext cx="291636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Nice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to meet you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476360" y="4425840"/>
            <a:ext cx="60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Nice to meet you, too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684360" y="69228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3" descr="j0297265"/>
          <p:cNvPicPr/>
          <p:nvPr/>
        </p:nvPicPr>
        <p:blipFill>
          <a:blip r:embed="rId1"/>
          <a:stretch/>
        </p:blipFill>
        <p:spPr>
          <a:xfrm>
            <a:off x="2843280" y="314172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j0216020"/>
          <p:cNvPicPr/>
          <p:nvPr/>
        </p:nvPicPr>
        <p:blipFill>
          <a:blip r:embed="rId1"/>
          <a:stretch/>
        </p:blipFill>
        <p:spPr>
          <a:xfrm>
            <a:off x="0" y="-27000"/>
            <a:ext cx="2457360" cy="3657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j0216032"/>
          <p:cNvPicPr/>
          <p:nvPr/>
        </p:nvPicPr>
        <p:blipFill>
          <a:blip r:embed="rId2"/>
          <a:stretch/>
        </p:blipFill>
        <p:spPr>
          <a:xfrm>
            <a:off x="6516720" y="3357720"/>
            <a:ext cx="2627280" cy="3500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"/>
          <p:cNvSpPr/>
          <p:nvPr/>
        </p:nvSpPr>
        <p:spPr>
          <a:xfrm>
            <a:off x="2700360" y="189000"/>
            <a:ext cx="4608360" cy="2592360"/>
          </a:xfrm>
          <a:prstGeom prst="cloudCallout">
            <a:avLst>
              <a:gd name="adj1" fmla="val -68393"/>
              <a:gd name="adj2" fmla="val -117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348000" y="47628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Hi!</a:t>
            </a: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 ____________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 rot="11607000">
            <a:off x="945720" y="3529800"/>
            <a:ext cx="4073760" cy="3357720"/>
          </a:xfrm>
          <a:prstGeom prst="cloudCallout">
            <a:avLst>
              <a:gd name="adj1" fmla="val -101453"/>
              <a:gd name="adj2" fmla="val 2866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692360" y="4076640"/>
            <a:ext cx="30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’m fine, thanks.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071720" y="0"/>
            <a:ext cx="763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ANSWER 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3" descr="j0297265"/>
          <p:cNvPicPr/>
          <p:nvPr/>
        </p:nvPicPr>
        <p:blipFill>
          <a:blip r:embed="rId1"/>
          <a:stretch/>
        </p:blipFill>
        <p:spPr>
          <a:xfrm>
            <a:off x="2786040" y="392904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j0216020"/>
          <p:cNvPicPr/>
          <p:nvPr/>
        </p:nvPicPr>
        <p:blipFill>
          <a:blip r:embed="rId1"/>
          <a:stretch/>
        </p:blipFill>
        <p:spPr>
          <a:xfrm>
            <a:off x="0" y="-27000"/>
            <a:ext cx="2457360" cy="3657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j0216032"/>
          <p:cNvPicPr/>
          <p:nvPr/>
        </p:nvPicPr>
        <p:blipFill>
          <a:blip r:embed="rId2"/>
          <a:stretch/>
        </p:blipFill>
        <p:spPr>
          <a:xfrm>
            <a:off x="6516720" y="3357720"/>
            <a:ext cx="2627280" cy="35002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4"/>
          <p:cNvSpPr/>
          <p:nvPr/>
        </p:nvSpPr>
        <p:spPr>
          <a:xfrm>
            <a:off x="2700360" y="189000"/>
            <a:ext cx="4608360" cy="2592360"/>
          </a:xfrm>
          <a:prstGeom prst="cloudCallout">
            <a:avLst>
              <a:gd name="adj1" fmla="val -68393"/>
              <a:gd name="adj2" fmla="val -117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348000" y="476280"/>
            <a:ext cx="3672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Hi!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 u="sng">
                <a:solidFill>
                  <a:srgbClr val="ffffff"/>
                </a:solidFill>
                <a:uFillTx/>
                <a:latin typeface="Times New Roman"/>
              </a:rPr>
              <a:t>How are you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 rot="11607000">
            <a:off x="945720" y="3529800"/>
            <a:ext cx="4073760" cy="3357720"/>
          </a:xfrm>
          <a:prstGeom prst="cloudCallout">
            <a:avLst>
              <a:gd name="adj1" fmla="val -101453"/>
              <a:gd name="adj2" fmla="val 2866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692360" y="4076640"/>
            <a:ext cx="30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’m fine, thanks.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4"/>
          <p:cNvSpPr/>
          <p:nvPr/>
        </p:nvSpPr>
        <p:spPr>
          <a:xfrm>
            <a:off x="2700360" y="189000"/>
            <a:ext cx="4608360" cy="2592360"/>
          </a:xfrm>
          <a:prstGeom prst="cloudCallout">
            <a:avLst>
              <a:gd name="adj1" fmla="val -68393"/>
              <a:gd name="adj2" fmla="val -117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276720" y="44280"/>
            <a:ext cx="4176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My name is Mr. Romero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 rot="11607000">
            <a:off x="323280" y="2923920"/>
            <a:ext cx="4073400" cy="3357360"/>
          </a:xfrm>
          <a:prstGeom prst="cloudCallout">
            <a:avLst>
              <a:gd name="adj1" fmla="val -87277"/>
              <a:gd name="adj2" fmla="val 2143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00000" y="4076640"/>
            <a:ext cx="302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______________, sir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8" descr="saludos 1"/>
          <p:cNvPicPr/>
          <p:nvPr/>
        </p:nvPicPr>
        <p:blipFill>
          <a:blip r:embed="rId1"/>
          <a:stretch/>
        </p:blipFill>
        <p:spPr>
          <a:xfrm>
            <a:off x="468360" y="333360"/>
            <a:ext cx="1836720" cy="2590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saludos 1"/>
          <p:cNvPicPr/>
          <p:nvPr/>
        </p:nvPicPr>
        <p:blipFill>
          <a:blip r:embed="rId2"/>
          <a:stretch/>
        </p:blipFill>
        <p:spPr>
          <a:xfrm>
            <a:off x="5560920" y="4005360"/>
            <a:ext cx="18892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071720" y="0"/>
            <a:ext cx="763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ANSWER 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3" descr="j0297265"/>
          <p:cNvPicPr/>
          <p:nvPr/>
        </p:nvPicPr>
        <p:blipFill>
          <a:blip r:embed="rId1"/>
          <a:stretch/>
        </p:blipFill>
        <p:spPr>
          <a:xfrm>
            <a:off x="2786040" y="392904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2411280" y="189000"/>
            <a:ext cx="6048360" cy="3240000"/>
          </a:xfrm>
          <a:prstGeom prst="cloudCallout">
            <a:avLst>
              <a:gd name="adj1" fmla="val -59240"/>
              <a:gd name="adj2" fmla="val -1942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276720" y="415800"/>
            <a:ext cx="4176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 u="sng">
                <a:solidFill>
                  <a:srgbClr val="ffffff"/>
                </a:solidFill>
                <a:uFillTx/>
                <a:latin typeface="Times New Roman"/>
              </a:rPr>
              <a:t>How do you do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 u="sng">
                <a:solidFill>
                  <a:srgbClr val="ffffff"/>
                </a:solidFill>
                <a:uFillTx/>
                <a:latin typeface="Times New Roman"/>
              </a:rPr>
              <a:t>My name is Mr. Romero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4"/>
          <p:cNvSpPr/>
          <p:nvPr/>
        </p:nvSpPr>
        <p:spPr>
          <a:xfrm rot="10543200">
            <a:off x="934560" y="3938400"/>
            <a:ext cx="5329440" cy="2082600"/>
          </a:xfrm>
          <a:prstGeom prst="cloudCallout">
            <a:avLst>
              <a:gd name="adj1" fmla="val -78185"/>
              <a:gd name="adj2" fmla="val -494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979640" y="4292640"/>
            <a:ext cx="41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Nice to meet you, sir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6" descr="saludos 1"/>
          <p:cNvPicPr/>
          <p:nvPr/>
        </p:nvPicPr>
        <p:blipFill>
          <a:blip r:embed="rId1"/>
          <a:stretch/>
        </p:blipFill>
        <p:spPr>
          <a:xfrm>
            <a:off x="468360" y="333360"/>
            <a:ext cx="1836720" cy="2590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saludos 1"/>
          <p:cNvPicPr/>
          <p:nvPr/>
        </p:nvPicPr>
        <p:blipFill>
          <a:blip r:embed="rId2"/>
          <a:stretch/>
        </p:blipFill>
        <p:spPr>
          <a:xfrm>
            <a:off x="7093080" y="4194000"/>
            <a:ext cx="18889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395280" y="258840"/>
            <a:ext cx="8748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rrange  the conversation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1. Mrs. Peabody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How do you do? I’m Priscilla. Are you Jack Stark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2. Nadine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Nice   to meet you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3. Mrs Peabody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How do you do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4. Jack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Yes, I am. And this is my secretary Nadine.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395280" y="2041200"/>
            <a:ext cx="8748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rrange  the conversation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1 -  4 -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3 -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405080" y="2060640"/>
            <a:ext cx="648000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403280" y="2060640"/>
            <a:ext cx="633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3333cc"/>
                </a:solidFill>
                <a:latin typeface="Comic Sans MS"/>
              </a:rPr>
              <a:t>When meeting someone new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Line 4"/>
          <p:cNvSpPr/>
          <p:nvPr/>
        </p:nvSpPr>
        <p:spPr>
          <a:xfrm flipH="1">
            <a:off x="2050920" y="3789360"/>
            <a:ext cx="144720" cy="719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Line 5"/>
          <p:cNvSpPr/>
          <p:nvPr/>
        </p:nvSpPr>
        <p:spPr>
          <a:xfrm flipH="1">
            <a:off x="3274560" y="3789360"/>
            <a:ext cx="792360" cy="187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Line 6"/>
          <p:cNvSpPr/>
          <p:nvPr/>
        </p:nvSpPr>
        <p:spPr>
          <a:xfrm>
            <a:off x="5651640" y="3789360"/>
            <a:ext cx="576000" cy="1944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Line 7"/>
          <p:cNvSpPr/>
          <p:nvPr/>
        </p:nvSpPr>
        <p:spPr>
          <a:xfrm>
            <a:off x="7308720" y="3789360"/>
            <a:ext cx="28764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H="1" flipV="1">
            <a:off x="1619280" y="836640"/>
            <a:ext cx="433440" cy="14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9"/>
          <p:cNvSpPr/>
          <p:nvPr/>
        </p:nvSpPr>
        <p:spPr>
          <a:xfrm flipV="1">
            <a:off x="3995640" y="1341360"/>
            <a:ext cx="0" cy="935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10"/>
          <p:cNvSpPr/>
          <p:nvPr/>
        </p:nvSpPr>
        <p:spPr>
          <a:xfrm flipV="1">
            <a:off x="6156360" y="691920"/>
            <a:ext cx="647640" cy="1584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Line 11"/>
          <p:cNvSpPr/>
          <p:nvPr/>
        </p:nvSpPr>
        <p:spPr>
          <a:xfrm flipV="1">
            <a:off x="7885080" y="1483920"/>
            <a:ext cx="358920" cy="792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69840" y="-100080"/>
            <a:ext cx="27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greeting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2319120" y="5467320"/>
            <a:ext cx="117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ag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7164360" y="620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origi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5365800" y="-10008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ationality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109800" y="429264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occupatio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294160" y="5661000"/>
            <a:ext cx="231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addres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2845080" y="-34920"/>
            <a:ext cx="239040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Phone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umb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6589800" y="4221000"/>
            <a:ext cx="22381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marital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tatu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4859280" y="3789360"/>
            <a:ext cx="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926160" y="431496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am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071720" y="0"/>
            <a:ext cx="763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ANSWER 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3" descr="j0297265"/>
          <p:cNvPicPr/>
          <p:nvPr/>
        </p:nvPicPr>
        <p:blipFill>
          <a:blip r:embed="rId1"/>
          <a:stretch/>
        </p:blipFill>
        <p:spPr>
          <a:xfrm>
            <a:off x="2786040" y="392904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621720"/>
            <a:ext cx="8642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rs. Peabody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How do you do? I’m Priscilla. Are you Jack Stark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Jack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Yes, I am. And this is my secretary Nadine.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rs Peabody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How do you do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Nadine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Nice   to meet you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502720" y="249120"/>
            <a:ext cx="32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Greeting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50920" y="1628640"/>
            <a:ext cx="8064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ello!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i!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ow are you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ow are you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doing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4" descr="j0251062"/>
          <p:cNvPicPr/>
          <p:nvPr/>
        </p:nvPicPr>
        <p:blipFill>
          <a:blip r:embed="rId1"/>
          <a:stretch/>
        </p:blipFill>
        <p:spPr>
          <a:xfrm rot="19849200">
            <a:off x="34560" y="549000"/>
            <a:ext cx="2590920" cy="121896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5"/>
          <p:cNvSpPr/>
          <p:nvPr/>
        </p:nvSpPr>
        <p:spPr>
          <a:xfrm>
            <a:off x="4500720" y="1484280"/>
            <a:ext cx="1295280" cy="4822920"/>
          </a:xfrm>
          <a:custGeom>
            <a:avLst/>
            <a:gdLst>
              <a:gd name="textAreaLeft" fmla="*/ 0 w 1295280"/>
              <a:gd name="textAreaRight" fmla="*/ 467640 w 1295280"/>
              <a:gd name="textAreaTop" fmla="*/ 125640 h 4822920"/>
              <a:gd name="textAreaBottom" fmla="*/ 4697280 h 482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292720" y="1268280"/>
            <a:ext cx="4103640" cy="70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I’m very well, thank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How are you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502720" y="249120"/>
            <a:ext cx="32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Greeting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50920" y="1628640"/>
            <a:ext cx="8064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ello!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i!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ow are you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ow are you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doing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Picture 4" descr="j0251062"/>
          <p:cNvPicPr/>
          <p:nvPr/>
        </p:nvPicPr>
        <p:blipFill>
          <a:blip r:embed="rId1"/>
          <a:stretch/>
        </p:blipFill>
        <p:spPr>
          <a:xfrm rot="19849200">
            <a:off x="34560" y="549000"/>
            <a:ext cx="2590920" cy="121896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5"/>
          <p:cNvSpPr/>
          <p:nvPr/>
        </p:nvSpPr>
        <p:spPr>
          <a:xfrm>
            <a:off x="4500720" y="1484280"/>
            <a:ext cx="1295280" cy="4822920"/>
          </a:xfrm>
          <a:custGeom>
            <a:avLst/>
            <a:gdLst>
              <a:gd name="textAreaLeft" fmla="*/ 0 w 1295280"/>
              <a:gd name="textAreaRight" fmla="*/ 467640 w 1295280"/>
              <a:gd name="textAreaTop" fmla="*/ 125640 h 4822920"/>
              <a:gd name="textAreaBottom" fmla="*/ 4697280 h 482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292720" y="1268280"/>
            <a:ext cx="410364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I’m fine, thanks. 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And you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250920" y="260280"/>
            <a:ext cx="87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Introducing oneself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39640" y="2852640"/>
            <a:ext cx="7777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95280" y="1484280"/>
            <a:ext cx="8748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How do you do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My name is Priscilla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68360" y="3933720"/>
            <a:ext cx="70563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95280" y="3935520"/>
            <a:ext cx="87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I’m Priscilla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j0284994"/>
          <p:cNvPicPr/>
          <p:nvPr/>
        </p:nvPicPr>
        <p:blipFill>
          <a:blip r:embed="rId1"/>
          <a:stretch/>
        </p:blipFill>
        <p:spPr>
          <a:xfrm>
            <a:off x="0" y="0"/>
            <a:ext cx="41385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3"/>
          <p:cNvSpPr/>
          <p:nvPr/>
        </p:nvSpPr>
        <p:spPr>
          <a:xfrm rot="9996000">
            <a:off x="4853160" y="653760"/>
            <a:ext cx="4356000" cy="3744720"/>
          </a:xfrm>
          <a:prstGeom prst="wedgeEllipseCallout">
            <a:avLst>
              <a:gd name="adj1" fmla="val 82356"/>
              <a:gd name="adj2" fmla="val 37842"/>
            </a:avLst>
          </a:prstGeom>
          <a:gradFill rotWithShape="0">
            <a:gsLst>
              <a:gs pos="0">
                <a:srgbClr val="00ffff">
                  <a:alpha val="52156"/>
                </a:srgbClr>
              </a:gs>
              <a:gs pos="100000">
                <a:srgbClr val="000000">
                  <a:alpha val="85098"/>
                </a:srgbClr>
              </a:gs>
            </a:gsLst>
            <a:lin ang="1700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435640" y="1341360"/>
            <a:ext cx="403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ow do you do? I’m  Mr. Garc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219640" y="5661000"/>
            <a:ext cx="32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j0227525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3"/>
          <p:cNvSpPr/>
          <p:nvPr/>
        </p:nvSpPr>
        <p:spPr>
          <a:xfrm>
            <a:off x="0" y="0"/>
            <a:ext cx="4103640" cy="3141720"/>
          </a:xfrm>
          <a:prstGeom prst="wedgeEllipseCallout">
            <a:avLst>
              <a:gd name="adj1" fmla="val 85009"/>
              <a:gd name="adj2" fmla="val 39592"/>
            </a:avLst>
          </a:prstGeom>
          <a:gradFill rotWithShape="0">
            <a:gsLst>
              <a:gs pos="0">
                <a:srgbClr val="00ffff">
                  <a:alpha val="52156"/>
                </a:srgbClr>
              </a:gs>
              <a:gs pos="100000">
                <a:srgbClr val="000000">
                  <a:alpha val="8509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95640" y="836640"/>
            <a:ext cx="365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Hi!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I’m Mar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-36360" y="5516640"/>
            <a:ext cx="511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Less formal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539640" y="2852640"/>
            <a:ext cx="7777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6" descr="j0284994"/>
          <p:cNvPicPr/>
          <p:nvPr/>
        </p:nvPicPr>
        <p:blipFill>
          <a:blip r:embed="rId1"/>
          <a:stretch/>
        </p:blipFill>
        <p:spPr>
          <a:xfrm>
            <a:off x="179280" y="1413000"/>
            <a:ext cx="4138560" cy="54450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7"/>
          <p:cNvSpPr/>
          <p:nvPr/>
        </p:nvSpPr>
        <p:spPr>
          <a:xfrm>
            <a:off x="4284720" y="333360"/>
            <a:ext cx="4608360" cy="2808360"/>
          </a:xfrm>
          <a:prstGeom prst="cloudCallout">
            <a:avLst>
              <a:gd name="adj1" fmla="val -62847"/>
              <a:gd name="adj2" fmla="val 2642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 flipH="1">
            <a:off x="1763280" y="1413000"/>
            <a:ext cx="3024360" cy="1728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716360" y="7650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This is my secretary Tania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4427640" y="475308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Introducing others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50920" y="260280"/>
            <a:ext cx="87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Introducing oneself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39640" y="2852640"/>
            <a:ext cx="7777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95280" y="1484280"/>
            <a:ext cx="49687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ow do you do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y name is Priscilla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’m Priscilla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68360" y="3933720"/>
            <a:ext cx="70563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4500720" y="1484280"/>
            <a:ext cx="1295280" cy="4822920"/>
          </a:xfrm>
          <a:custGeom>
            <a:avLst/>
            <a:gdLst>
              <a:gd name="textAreaLeft" fmla="*/ 0 w 1295280"/>
              <a:gd name="textAreaRight" fmla="*/ 467640 w 1295280"/>
              <a:gd name="textAreaTop" fmla="*/ 125640 h 4822920"/>
              <a:gd name="textAreaBottom" fmla="*/ 4697280 h 482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6227640" y="1773360"/>
            <a:ext cx="251964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Nice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to meet you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de los Angeles</cp:lastModifiedBy>
  <dcterms:modified xsi:type="dcterms:W3CDTF">2013-10-30T09:10:44Z</dcterms:modified>
  <cp:revision>46</cp:revision>
  <dc:subject/>
  <dc:title>PowerPoint Presentation</dc:title>
</cp:coreProperties>
</file>