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10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716-2BF7-40AF-9388-9F14C928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A2A-F599-4F39-8AEE-F2412730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4F9-E783-485D-A879-02354353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BC1-619C-4B6B-9039-85A62CED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BE0-766D-4E2F-B6A2-F0B4EBE4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436-ADBB-490B-8736-5FC60A3D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4C0-8A55-4BD9-BBFC-4BC37C7F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66D-BA90-479D-A767-E098ABA1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F55-34C0-44BC-BD38-F35E8E25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8AD-AF55-441F-8EBE-39B74E77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898-F7B8-4897-9B99-A380E29E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9F9-C092-45F5-B6E4-58BBADC5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A833-B306-4701-BAE0-8ACB04D57DC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j0237627"/>
          <p:cNvPicPr/>
          <p:nvPr/>
        </p:nvPicPr>
        <p:blipFill>
          <a:blip r:embed="rId1"/>
          <a:stretch/>
        </p:blipFill>
        <p:spPr>
          <a:xfrm>
            <a:off x="6775560" y="4564080"/>
            <a:ext cx="2368440" cy="229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J0303470"/>
          <p:cNvPicPr/>
          <p:nvPr/>
        </p:nvPicPr>
        <p:blipFill>
          <a:blip r:embed="rId2"/>
          <a:stretch/>
        </p:blipFill>
        <p:spPr>
          <a:xfrm>
            <a:off x="324000" y="5013360"/>
            <a:ext cx="3600360" cy="1224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j0215356"/>
          <p:cNvPicPr/>
          <p:nvPr/>
        </p:nvPicPr>
        <p:blipFill>
          <a:blip r:embed="rId3"/>
          <a:stretch/>
        </p:blipFill>
        <p:spPr>
          <a:xfrm>
            <a:off x="5580000" y="371520"/>
            <a:ext cx="3384720" cy="2336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5"/>
          <p:cNvSpPr/>
          <p:nvPr/>
        </p:nvSpPr>
        <p:spPr>
          <a:xfrm>
            <a:off x="468360" y="1557360"/>
            <a:ext cx="67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Developing writing strategies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651640" y="115920"/>
            <a:ext cx="244944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581800" y="4762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0360" y="12682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8360" y="220500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ear… </a:t>
            </a: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( friend’s first name)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24000" y="321300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ar. 1:Greetings- introduce oneself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95280" y="400536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ar. 2: Family and pe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68360" y="48690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ar. 3 Ending ( Please write soon.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492360" y="573408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Best wishes,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445080" y="602136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250920" y="-6840"/>
            <a:ext cx="2939040" cy="1995840"/>
            <a:chOff x="250920" y="-6840"/>
            <a:chExt cx="2939040" cy="1995840"/>
          </a:xfrm>
        </p:grpSpPr>
        <p:pic>
          <p:nvPicPr>
            <p:cNvPr id="90" name="Picture 13" descr="j0199371"/>
            <p:cNvPicPr/>
            <p:nvPr/>
          </p:nvPicPr>
          <p:blipFill>
            <a:blip r:embed="rId1"/>
            <a:stretch/>
          </p:blipFill>
          <p:spPr>
            <a:xfrm>
              <a:off x="250920" y="33336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4"/>
            <p:cNvSpPr/>
            <p:nvPr/>
          </p:nvSpPr>
          <p:spPr>
            <a:xfrm rot="20385000">
              <a:off x="612360" y="40464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earning </a:t>
              </a:r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iary</a:t>
              </a:r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24000" y="476280"/>
            <a:ext cx="9074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9640" y="2205000"/>
            <a:ext cx="80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rite a letter to a pen friend. Tell him/her about yourself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826920" y="549360"/>
            <a:ext cx="46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9640" y="189000"/>
            <a:ext cx="8209080" cy="61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’s your name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ere are you from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Where do you live?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What  do you look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lik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Who are your parents?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’s your family like?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j0237627"/>
          <p:cNvPicPr/>
          <p:nvPr/>
        </p:nvPicPr>
        <p:blipFill>
          <a:blip r:embed="rId1"/>
          <a:stretch/>
        </p:blipFill>
        <p:spPr>
          <a:xfrm>
            <a:off x="6775560" y="4564080"/>
            <a:ext cx="236844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J0303470"/>
          <p:cNvPicPr/>
          <p:nvPr/>
        </p:nvPicPr>
        <p:blipFill>
          <a:blip r:embed="rId2"/>
          <a:stretch/>
        </p:blipFill>
        <p:spPr>
          <a:xfrm>
            <a:off x="324000" y="5013360"/>
            <a:ext cx="3600360" cy="122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j0215356"/>
          <p:cNvPicPr/>
          <p:nvPr/>
        </p:nvPicPr>
        <p:blipFill>
          <a:blip r:embed="rId3"/>
          <a:stretch/>
        </p:blipFill>
        <p:spPr>
          <a:xfrm>
            <a:off x="5580000" y="371520"/>
            <a:ext cx="3384720" cy="23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95280" y="1268280"/>
            <a:ext cx="67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Dear pen-friend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j0293466"/>
          <p:cNvPicPr/>
          <p:nvPr/>
        </p:nvPicPr>
        <p:blipFill>
          <a:blip r:embed="rId1"/>
          <a:stretch/>
        </p:blipFill>
        <p:spPr>
          <a:xfrm>
            <a:off x="0" y="44280"/>
            <a:ext cx="2340000" cy="1729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556000" y="476280"/>
            <a:ext cx="65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Reflect and answer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5280" y="2133720"/>
            <a:ext cx="874872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. How does the letter start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2. How does the letter finish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3. What information do you have in paragraphs 1, 2, 3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95280" y="189000"/>
            <a:ext cx="849780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4211, 43rd Avenu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Cienfuegos, Cub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26th September, 2005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Dear Brian,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ello! My name is  Sarah García and I am your new pen-friend. I am  19 years old. I am  Cuban. I am from Cienfuegos but I am now in Havana studying Informatics.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5280" y="209520"/>
            <a:ext cx="87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hese are photographs of the people in my family. My parents’ names are Eduardo and Cary.  My father is a doctor and my mother is a dentist. They are nice people.                                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3" descr="J0182788"/>
          <p:cNvPicPr/>
          <p:nvPr/>
        </p:nvPicPr>
        <p:blipFill>
          <a:blip r:embed="rId1"/>
          <a:stretch/>
        </p:blipFill>
        <p:spPr>
          <a:xfrm>
            <a:off x="0" y="5300640"/>
            <a:ext cx="1800360" cy="155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j0202183"/>
          <p:cNvPicPr/>
          <p:nvPr/>
        </p:nvPicPr>
        <p:blipFill>
          <a:blip r:embed="rId2"/>
          <a:stretch/>
        </p:blipFill>
        <p:spPr>
          <a:xfrm>
            <a:off x="7308720" y="5013360"/>
            <a:ext cx="1835280" cy="1844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j0178720"/>
          <p:cNvPicPr/>
          <p:nvPr/>
        </p:nvPicPr>
        <p:blipFill>
          <a:blip r:embed="rId3"/>
          <a:stretch/>
        </p:blipFill>
        <p:spPr>
          <a:xfrm>
            <a:off x="5796000" y="4149720"/>
            <a:ext cx="1657440" cy="182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J0202099"/>
          <p:cNvPicPr/>
          <p:nvPr/>
        </p:nvPicPr>
        <p:blipFill>
          <a:blip r:embed="rId4"/>
          <a:stretch/>
        </p:blipFill>
        <p:spPr>
          <a:xfrm>
            <a:off x="3708360" y="4292640"/>
            <a:ext cx="2160720" cy="256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J0185167"/>
          <p:cNvPicPr/>
          <p:nvPr/>
        </p:nvPicPr>
        <p:blipFill>
          <a:blip r:embed="rId5"/>
          <a:stretch/>
        </p:blipFill>
        <p:spPr>
          <a:xfrm>
            <a:off x="1835280" y="4653000"/>
            <a:ext cx="1836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95280" y="260280"/>
            <a:ext cx="83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3" descr="j0178720"/>
          <p:cNvPicPr/>
          <p:nvPr/>
        </p:nvPicPr>
        <p:blipFill>
          <a:blip r:embed="rId1"/>
          <a:stretch/>
        </p:blipFill>
        <p:spPr>
          <a:xfrm>
            <a:off x="6300720" y="4581360"/>
            <a:ext cx="2843280" cy="227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202183"/>
          <p:cNvPicPr/>
          <p:nvPr/>
        </p:nvPicPr>
        <p:blipFill>
          <a:blip r:embed="rId2"/>
          <a:stretch/>
        </p:blipFill>
        <p:spPr>
          <a:xfrm>
            <a:off x="0" y="4653000"/>
            <a:ext cx="3276720" cy="220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24000" y="189000"/>
            <a:ext cx="85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My brother’s name is Carlos. He is strong and intelligent. My sister’s name is  Amelia. She’s pretty and smart.  I am the girl with long black hair in a red blous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6" descr="J0202099"/>
          <p:cNvPicPr/>
          <p:nvPr/>
        </p:nvPicPr>
        <p:blipFill>
          <a:blip r:embed="rId3"/>
          <a:stretch/>
        </p:blipFill>
        <p:spPr>
          <a:xfrm>
            <a:off x="3203640" y="4076640"/>
            <a:ext cx="3168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826920" y="549360"/>
            <a:ext cx="46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89000"/>
            <a:ext cx="8209080" cy="73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about you?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Where do you live? What’s your occupation? Who are your parents?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What  do you look like? What’s your family like? Please write soon and tell me about yourself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Best wishes,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                            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arah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6" descr="J0202099"/>
          <p:cNvPicPr/>
          <p:nvPr/>
        </p:nvPicPr>
        <p:blipFill>
          <a:blip r:embed="rId1"/>
          <a:stretch/>
        </p:blipFill>
        <p:spPr>
          <a:xfrm>
            <a:off x="7020000" y="3860640"/>
            <a:ext cx="2124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651640" y="115920"/>
            <a:ext cx="244944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581800" y="4762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940360" y="12682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68360" y="220500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Dear… </a:t>
            </a: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( friend’s first name)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24000" y="321300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ar. 1:Greetings- introduce oneself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95280" y="400536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ar. 2: Family and pe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68360" y="48690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ar. 3 Ending ( Please write soon.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492360" y="573408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Best wishes,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445080" y="602136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11" descr="j0293466"/>
          <p:cNvPicPr/>
          <p:nvPr/>
        </p:nvPicPr>
        <p:blipFill>
          <a:blip r:embed="rId1"/>
          <a:stretch/>
        </p:blipFill>
        <p:spPr>
          <a:xfrm>
            <a:off x="0" y="0"/>
            <a:ext cx="24224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ardo</cp:lastModifiedBy>
  <dcterms:modified xsi:type="dcterms:W3CDTF">2011-03-13T10:00:58Z</dcterms:modified>
  <cp:revision>15</cp:revision>
  <dc:subject/>
  <dc:title>PowerPoint Presentation</dc:title>
</cp:coreProperties>
</file>