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DABD-F25C-4731-9CF0-FAE75CE1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C359-C99D-46DA-A05F-738E8F39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704F-BDBD-402A-8118-7977B3E4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4CC9-F7AC-4D9B-9D36-67F98FD5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C5FC-468B-4D7C-916A-2003E6FA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910E-F6CF-4762-8023-1EE81B1F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B46A-A428-4718-8187-43BD0539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A72D-C877-4477-A062-C72B0BC9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610E-653B-4D88-9541-AF4B3D66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ECDE-A4DA-46CE-8FA8-0D48B6D9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C5B9-31AA-407A-9444-A49C8543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B033-BB19-464C-8D85-97D89B7C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DB3B-0D17-478F-B432-17C5FE71C04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j0237627"/>
          <p:cNvPicPr/>
          <p:nvPr/>
        </p:nvPicPr>
        <p:blipFill>
          <a:blip r:embed="rId1"/>
          <a:stretch/>
        </p:blipFill>
        <p:spPr>
          <a:xfrm>
            <a:off x="0" y="4941720"/>
            <a:ext cx="2050920" cy="1916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4" descr="j0215356"/>
          <p:cNvPicPr/>
          <p:nvPr/>
        </p:nvPicPr>
        <p:blipFill>
          <a:blip r:embed="rId2"/>
          <a:stretch/>
        </p:blipFill>
        <p:spPr>
          <a:xfrm>
            <a:off x="5580000" y="371520"/>
            <a:ext cx="3384720" cy="23367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5"/>
          <p:cNvSpPr/>
          <p:nvPr/>
        </p:nvSpPr>
        <p:spPr>
          <a:xfrm>
            <a:off x="468360" y="1557360"/>
            <a:ext cx="676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Developing writing strategies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1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619280" cy="1987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j0215356"/>
          <p:cNvPicPr/>
          <p:nvPr/>
        </p:nvPicPr>
        <p:blipFill>
          <a:blip r:embed="rId2"/>
          <a:stretch/>
        </p:blipFill>
        <p:spPr>
          <a:xfrm>
            <a:off x="1619280" y="476280"/>
            <a:ext cx="2016000" cy="1403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3"/>
          <p:cNvSpPr/>
          <p:nvPr/>
        </p:nvSpPr>
        <p:spPr>
          <a:xfrm>
            <a:off x="3780000" y="33336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riting about daily routine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324000" y="2492280"/>
            <a:ext cx="882000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Give information in chronological order: morning, afternoon, evening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End  by saying how you feel about your daily routine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Use the simple present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8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7"/>
          <p:cNvGrpSpPr/>
          <p:nvPr/>
        </p:nvGrpSpPr>
        <p:grpSpPr>
          <a:xfrm>
            <a:off x="1979640" y="-71280"/>
            <a:ext cx="7164000" cy="7551720"/>
            <a:chOff x="1979640" y="-71280"/>
            <a:chExt cx="7164000" cy="7551720"/>
          </a:xfrm>
        </p:grpSpPr>
        <p:sp>
          <p:nvSpPr>
            <p:cNvPr id="86" name="AutoShape 5"/>
            <p:cNvSpPr/>
            <p:nvPr/>
          </p:nvSpPr>
          <p:spPr>
            <a:xfrm>
              <a:off x="2055600" y="-71280"/>
              <a:ext cx="7011720" cy="68576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33ccff"/>
                </a:gs>
                <a:gs pos="100000">
                  <a:srgbClr val="18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Text Box 6"/>
            <p:cNvSpPr/>
            <p:nvPr/>
          </p:nvSpPr>
          <p:spPr>
            <a:xfrm>
              <a:off x="1979640" y="-71280"/>
              <a:ext cx="7164000" cy="75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PLAN</a:t>
              </a: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Par. 1 Introduce yourself… </a:t>
              </a: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Par. 2 In the morning…</a:t>
              </a: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Par. 3 In the afternoon…</a:t>
              </a: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Par. 4 In the evening… </a:t>
              </a: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Par. 5 How you feel at the end of the day…</a:t>
              </a: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8" name="Picture 8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116000" cy="1987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j0215356"/>
          <p:cNvPicPr/>
          <p:nvPr/>
        </p:nvPicPr>
        <p:blipFill>
          <a:blip r:embed="rId2"/>
          <a:stretch/>
        </p:blipFill>
        <p:spPr>
          <a:xfrm>
            <a:off x="0" y="1989000"/>
            <a:ext cx="1389240" cy="14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j0199371"/>
          <p:cNvPicPr/>
          <p:nvPr/>
        </p:nvPicPr>
        <p:blipFill>
          <a:blip r:embed="rId1"/>
          <a:stretch/>
        </p:blipFill>
        <p:spPr>
          <a:xfrm>
            <a:off x="1835280" y="404640"/>
            <a:ext cx="5976720" cy="5472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 rot="20385000">
            <a:off x="3394080" y="1789200"/>
            <a:ext cx="25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Times New Roman"/>
              </a:rPr>
              <a:t>Learning diary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8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15"/>
          <p:cNvGrpSpPr/>
          <p:nvPr/>
        </p:nvGrpSpPr>
        <p:grpSpPr>
          <a:xfrm>
            <a:off x="1836720" y="0"/>
            <a:ext cx="7414920" cy="7551720"/>
            <a:chOff x="1836720" y="0"/>
            <a:chExt cx="7414920" cy="7551720"/>
          </a:xfrm>
        </p:grpSpPr>
        <p:sp>
          <p:nvSpPr>
            <p:cNvPr id="93" name="AutoShape 16"/>
            <p:cNvSpPr/>
            <p:nvPr/>
          </p:nvSpPr>
          <p:spPr>
            <a:xfrm>
              <a:off x="1915560" y="0"/>
              <a:ext cx="7257240" cy="696600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33ccff"/>
                </a:gs>
                <a:gs pos="100000">
                  <a:srgbClr val="18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Text Box 17"/>
            <p:cNvSpPr/>
            <p:nvPr/>
          </p:nvSpPr>
          <p:spPr>
            <a:xfrm>
              <a:off x="1836720" y="0"/>
              <a:ext cx="7414920" cy="75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PLAN</a:t>
              </a: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Par. 1 Introduce yourself… </a:t>
              </a: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Par. 2 In the morning…</a:t>
              </a: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Par. 3 In the afternoon…</a:t>
              </a: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Par. 4 In the evening… </a:t>
              </a: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Par. 5 How you feel at the end of the day…</a:t>
              </a: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" name="Group 18"/>
          <p:cNvGrpSpPr/>
          <p:nvPr/>
        </p:nvGrpSpPr>
        <p:grpSpPr>
          <a:xfrm>
            <a:off x="-108000" y="-295920"/>
            <a:ext cx="2939040" cy="1995840"/>
            <a:chOff x="-108000" y="-295920"/>
            <a:chExt cx="2939040" cy="1995840"/>
          </a:xfrm>
        </p:grpSpPr>
        <p:pic>
          <p:nvPicPr>
            <p:cNvPr id="96" name="Picture 19" descr="j0199371"/>
            <p:cNvPicPr/>
            <p:nvPr/>
          </p:nvPicPr>
          <p:blipFill>
            <a:blip r:embed="rId1"/>
            <a:stretch/>
          </p:blipFill>
          <p:spPr>
            <a:xfrm>
              <a:off x="-108000" y="44280"/>
              <a:ext cx="208764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20"/>
            <p:cNvSpPr/>
            <p:nvPr/>
          </p:nvSpPr>
          <p:spPr>
            <a:xfrm rot="20385000">
              <a:off x="253440" y="115560"/>
              <a:ext cx="25192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Learning </a:t>
              </a:r>
              <a:endParaRPr b="1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diary</a:t>
              </a:r>
              <a:endParaRPr b="1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24000" y="476280"/>
            <a:ext cx="907416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After – viewing task     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95280" y="213372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rite an article  about your daily routine for the  school or local newspap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3276720" y="0"/>
            <a:ext cx="5867280" cy="6858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3" descr="050717-002"/>
          <p:cNvPicPr/>
          <p:nvPr/>
        </p:nvPicPr>
        <p:blipFill>
          <a:blip r:embed="rId1"/>
          <a:stretch/>
        </p:blipFill>
        <p:spPr>
          <a:xfrm rot="21193200">
            <a:off x="3419640" y="4382640"/>
            <a:ext cx="2000160" cy="247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Tesis 014"/>
          <p:cNvPicPr/>
          <p:nvPr/>
        </p:nvPicPr>
        <p:blipFill>
          <a:blip r:embed="rId2"/>
          <a:stretch/>
        </p:blipFill>
        <p:spPr>
          <a:xfrm>
            <a:off x="5219640" y="4049640"/>
            <a:ext cx="1876320" cy="2808360"/>
          </a:xfrm>
          <a:prstGeom prst="rect">
            <a:avLst/>
          </a:prstGeom>
          <a:ln w="0">
            <a:noFill/>
          </a:ln>
        </p:spPr>
      </p:pic>
      <p:sp>
        <p:nvSpPr>
          <p:cNvPr id="47" name="WordArt 5"/>
          <p:cNvSpPr txBox="1"/>
          <p:nvPr/>
        </p:nvSpPr>
        <p:spPr>
          <a:xfrm>
            <a:off x="5811840" y="325440"/>
            <a:ext cx="10684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HINE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4896000" y="873000"/>
            <a:ext cx="41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a  magazine for the youth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7101000" y="1617840"/>
            <a:ext cx="32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5050"/>
                </a:solidFill>
                <a:latin typeface="Times New Roman"/>
              </a:rPr>
              <a:t>This week…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8" descr="Graduacion 007"/>
          <p:cNvPicPr/>
          <p:nvPr/>
        </p:nvPicPr>
        <p:blipFill>
          <a:blip r:embed="rId3"/>
          <a:stretch/>
        </p:blipFill>
        <p:spPr>
          <a:xfrm>
            <a:off x="5148360" y="1689120"/>
            <a:ext cx="1947600" cy="2736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9"/>
          <p:cNvSpPr/>
          <p:nvPr/>
        </p:nvSpPr>
        <p:spPr>
          <a:xfrm>
            <a:off x="3740040" y="1689120"/>
            <a:ext cx="20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5050"/>
                </a:solidFill>
                <a:latin typeface="Times New Roman"/>
              </a:rPr>
              <a:t>INSIDE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10" descr="Tesis 075"/>
          <p:cNvPicPr/>
          <p:nvPr/>
        </p:nvPicPr>
        <p:blipFill>
          <a:blip r:embed="rId4"/>
          <a:stretch/>
        </p:blipFill>
        <p:spPr>
          <a:xfrm>
            <a:off x="7093080" y="4005360"/>
            <a:ext cx="2050920" cy="1944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3193920" y="2193840"/>
            <a:ext cx="20908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A university student’s typical day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Group 12"/>
          <p:cNvGrpSpPr/>
          <p:nvPr/>
        </p:nvGrpSpPr>
        <p:grpSpPr>
          <a:xfrm>
            <a:off x="6939000" y="1905120"/>
            <a:ext cx="4257360" cy="975240"/>
            <a:chOff x="6939000" y="1905120"/>
            <a:chExt cx="4257360" cy="975240"/>
          </a:xfrm>
        </p:grpSpPr>
        <p:sp>
          <p:nvSpPr>
            <p:cNvPr id="55" name="Text Box 13"/>
            <p:cNvSpPr/>
            <p:nvPr/>
          </p:nvSpPr>
          <p:spPr>
            <a:xfrm>
              <a:off x="6975720" y="2120760"/>
              <a:ext cx="422064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5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What do you 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do every day?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Text Box 14"/>
            <p:cNvSpPr/>
            <p:nvPr/>
          </p:nvSpPr>
          <p:spPr>
            <a:xfrm>
              <a:off x="6939000" y="1905120"/>
              <a:ext cx="1732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ff505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ff5050"/>
                  </a:solidFill>
                  <a:latin typeface="Times New Roman"/>
                </a:rPr>
                <a:t> </a:t>
              </a:r>
              <a:endParaRPr b="1" i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948360" y="2913120"/>
            <a:ext cx="5805360" cy="938880"/>
            <a:chOff x="6948360" y="2913120"/>
            <a:chExt cx="5805360" cy="938880"/>
          </a:xfrm>
        </p:grpSpPr>
        <p:sp>
          <p:nvSpPr>
            <p:cNvPr id="58" name="Text Box 16"/>
            <p:cNvSpPr/>
            <p:nvPr/>
          </p:nvSpPr>
          <p:spPr>
            <a:xfrm>
              <a:off x="6983280" y="3129120"/>
              <a:ext cx="577044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5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What’s your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favorite day?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Text Box 17"/>
            <p:cNvSpPr/>
            <p:nvPr/>
          </p:nvSpPr>
          <p:spPr>
            <a:xfrm>
              <a:off x="6948360" y="2913120"/>
              <a:ext cx="173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ff505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ff5050"/>
                  </a:solidFill>
                  <a:latin typeface="Times New Roman"/>
                </a:rPr>
                <a:t> </a:t>
              </a:r>
              <a:endParaRPr b="1" i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Text Box 18"/>
          <p:cNvSpPr/>
          <p:nvPr/>
        </p:nvSpPr>
        <p:spPr>
          <a:xfrm>
            <a:off x="179280" y="476280"/>
            <a:ext cx="3024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Look at the cover of the magazine and answer the question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16000" y="333360"/>
            <a:ext cx="8928000" cy="66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What’s the name of the magazine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Who is it for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What is the article inside the magazine about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Can you say the names of the days in English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What is the day today? Is it your favorite day? Why? Why not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7164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Writing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j0299125"/>
          <p:cNvPicPr/>
          <p:nvPr/>
        </p:nvPicPr>
        <p:blipFill>
          <a:blip r:embed="rId2"/>
          <a:stretch/>
        </p:blipFill>
        <p:spPr>
          <a:xfrm>
            <a:off x="7093080" y="4292640"/>
            <a:ext cx="172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179280" y="2060640"/>
            <a:ext cx="82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Read the article which Ed wrote about his daily  activities at the university and say what each paragraph tells us about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5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619280" cy="1987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j0215356"/>
          <p:cNvPicPr/>
          <p:nvPr/>
        </p:nvPicPr>
        <p:blipFill>
          <a:blip r:embed="rId2"/>
          <a:stretch/>
        </p:blipFill>
        <p:spPr>
          <a:xfrm>
            <a:off x="1619280" y="476280"/>
            <a:ext cx="201600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611280" y="260280"/>
            <a:ext cx="7921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763640" y="18900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A university student’s typical day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6" descr="Graduacion 007"/>
          <p:cNvPicPr/>
          <p:nvPr/>
        </p:nvPicPr>
        <p:blipFill>
          <a:blip r:embed="rId1"/>
          <a:stretch/>
        </p:blipFill>
        <p:spPr>
          <a:xfrm>
            <a:off x="0" y="0"/>
            <a:ext cx="1763640" cy="2349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3276720" y="907920"/>
            <a:ext cx="36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My Day!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611280" y="2651040"/>
            <a:ext cx="8137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My name is Ed. I’m 23 years old and I live in Havana, Cuba. From Monday to Friday my daily routine  at the university is always the same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611280" y="260280"/>
            <a:ext cx="7921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24000" y="189000"/>
            <a:ext cx="8424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I always get to school on time. I’m usually  there by 7.45 because classes start at 8 and I’m never late.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In the afternoon, I often  go to the library or to the computer lab to study. Sometimes,  I practice sports. I rarely stay after 5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611280" y="260280"/>
            <a:ext cx="7921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24000" y="189000"/>
            <a:ext cx="842472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After college, I go home. I  usually  talk to my friends and play soccer. Then, take a shower and have dinner with my family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In the evening, I often watch sports on TV. I like soccer but baseball is my favorite. I also love to listen to  music, specially to relax  when I go to bed after a busy day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511280" y="1197000"/>
            <a:ext cx="7632720" cy="44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Writing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Tips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Picture 3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547640" cy="1700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j0299125"/>
          <p:cNvPicPr/>
          <p:nvPr/>
        </p:nvPicPr>
        <p:blipFill>
          <a:blip r:embed="rId2"/>
          <a:stretch/>
        </p:blipFill>
        <p:spPr>
          <a:xfrm>
            <a:off x="7415280" y="5157720"/>
            <a:ext cx="1728720" cy="1700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j0215356"/>
          <p:cNvPicPr/>
          <p:nvPr/>
        </p:nvPicPr>
        <p:blipFill>
          <a:blip r:embed="rId3"/>
          <a:stretch/>
        </p:blipFill>
        <p:spPr>
          <a:xfrm>
            <a:off x="3635280" y="2708280"/>
            <a:ext cx="201636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ardo</cp:lastModifiedBy>
  <dcterms:modified xsi:type="dcterms:W3CDTF">2011-03-13T13:42:25Z</dcterms:modified>
  <cp:revision>33</cp:revision>
  <dc:subject/>
  <dc:title>PowerPoint Presentation</dc:title>
</cp:coreProperties>
</file>