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0DE-DB79-45B2-9E41-A3D04549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BF1-9856-42FF-82B4-2E51080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835-0C1B-4FC5-AA0E-C7FD013F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10D-C60D-4280-8D27-AB14AB1C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1A3-873D-4597-BE36-28468DC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8F7-D95D-4718-AF13-7D804A1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001-912D-405B-911C-794B5DA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6FA-5521-4364-B3F3-26AE038D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932-9DA0-464D-B069-E0600C7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95A-D28C-4260-9F1B-5E8E102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4F-042E-440B-ABA8-F182BE9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A95-CD7E-4A94-89DF-18825F6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E6A8-5F7A-4C1E-8322-427C8A1B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995640" y="2637000"/>
            <a:ext cx="460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nal information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3" descr="J0182534"/>
          <p:cNvPicPr/>
          <p:nvPr/>
        </p:nvPicPr>
        <p:blipFill>
          <a:blip r:embed="rId1"/>
          <a:stretch/>
        </p:blipFill>
        <p:spPr>
          <a:xfrm>
            <a:off x="250920" y="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J0182585"/>
          <p:cNvPicPr/>
          <p:nvPr/>
        </p:nvPicPr>
        <p:blipFill>
          <a:blip r:embed="rId2"/>
          <a:stretch/>
        </p:blipFill>
        <p:spPr>
          <a:xfrm>
            <a:off x="4932360" y="4221000"/>
            <a:ext cx="3657600" cy="2444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2771640" y="0"/>
            <a:ext cx="5400720" cy="2421000"/>
          </a:xfrm>
          <a:prstGeom prst="cloudCallout">
            <a:avLst>
              <a:gd name="adj1" fmla="val -58967"/>
              <a:gd name="adj2" fmla="val 1314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35280" y="11592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ll me about yourself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 rot="10800000">
            <a:off x="178920" y="3860640"/>
            <a:ext cx="5040360" cy="2089440"/>
          </a:xfrm>
          <a:prstGeom prst="cloudCallout">
            <a:avLst>
              <a:gd name="adj1" fmla="val -55263"/>
              <a:gd name="adj2" fmla="val 2986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042920" y="4005360"/>
            <a:ext cx="38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ell, my name is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28800" y="1643040"/>
            <a:ext cx="734508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50920" y="333360"/>
            <a:ext cx="8893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name is Adam Casas. I’m originally from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Mexico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. I remember I used to go to evening  classes. We </a:t>
            </a:r>
            <a:r>
              <a:rPr b="1" i="1" lang="es-ES_tradnl" sz="4800" spc="-1" strike="noStrike" u="sng">
                <a:solidFill>
                  <a:srgbClr val="ffffff"/>
                </a:solidFill>
                <a:uFillTx/>
                <a:latin typeface="Times New Roman"/>
              </a:rPr>
              <a:t>used to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gather in groups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to pla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socce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w, I  like 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to watch television, read, and 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play socce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8360" y="301680"/>
            <a:ext cx="86756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arie and Sam are in Cuba for the first time, they are talking before the class starts.  Try to imagine what they are talking about and complete the conversation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46200" y="260280"/>
            <a:ext cx="84978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Hello!I’m new in town. My name is Sam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e:________.Nice to meet you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am:_____._____my friend Jam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11280" y="549360"/>
            <a:ext cx="8353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James:Hi!__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am:Where are you from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:_________Bolivi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am:__________, now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aria:______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26920" y="549360"/>
            <a:ext cx="756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187200"/>
            <a:ext cx="8604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am:When did you arrive here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aria:________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am:Do you often come to the sports center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aria:Yes.I_______sports very much. I______volleyball for the school team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95280" y="260280"/>
            <a:ext cx="84978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am:Did you practice sports in high school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aria:Yes,____.I______to play tennis too, but not anymor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am:________next weekend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aria:Maybe. Well, I need to go now. See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am:______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836640"/>
            <a:ext cx="84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Tom asks his teacher the following question. Complete the teacher’s answer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79280" y="44280"/>
            <a:ext cx="882036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om: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How will our lives be different in twenty years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eacher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- People of different races ____ learn to love each other.  - All countries ______ share the world’s wealth equall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549360"/>
            <a:ext cx="87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- Scientists _______ discover a cure for AID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1558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Fill in the gaps using  should, must, have to/has to.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9640" y="476280"/>
            <a:ext cx="860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with you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41580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nterview a friend or relative and prepare his/her profil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95280" y="95400"/>
            <a:ext cx="914400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Name: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Age 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Address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elephon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Occupation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Favorite  sport, music 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372360" y="692280"/>
            <a:ext cx="230328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hoto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95280" y="620640"/>
            <a:ext cx="8209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atient: _____ I   take the pills every da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octor: They  are  very  strong.You ____ take one every other  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11280" y="692280"/>
            <a:ext cx="75610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tudent: What_____ I  do  to pass the final exams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acher: You_____ do the homework every day, and you ______ study with other studen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124000" y="1773360"/>
            <a:ext cx="49690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620640"/>
            <a:ext cx="82090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atient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hould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  take the pills every da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hey  are  very  strong.You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t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ake one every other  day or  you may have other problem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11280" y="655560"/>
            <a:ext cx="813744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udent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What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hould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 do to pass the final exams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eache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ave to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do the homework every day, and you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hould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tudy with other studen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8000" y="18446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Complete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50920" y="333360"/>
            <a:ext cx="88930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name is Adam Casas. I’m originally from_________. I remember I used to go to evening  classes. We _______gather in groups  _____ socce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w, I  like ________, ______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and  play socce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30T08:23:55Z</dcterms:modified>
  <cp:revision>113</cp:revision>
  <dc:subject/>
  <dc:title>Diapositiva 1</dc:title>
</cp:coreProperties>
</file>