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2E5-FDDF-44E8-8BED-8C0695EB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AE9-5AED-4096-A27E-F9497B7A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902-0567-469E-87AB-C24E67A1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C13-5284-49BD-8279-E9F69AA2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A15-8AF4-4566-B709-73F831A5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AE4-D30D-4295-AED8-BE907FF3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C86-A243-46B1-9909-B16D5398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215-42DA-4BDA-9B28-38909AD8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394-5144-4517-B951-22B9BA6C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121-D6CD-49DE-AF47-E02E1521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D6E-0D5E-43B9-9345-C450892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21C-1DF4-4526-9BDA-5B905DC5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826E-3105-4DA4-BCD5-CEA602545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84720" y="836640"/>
            <a:ext cx="2880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view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5" descr="J0182534"/>
          <p:cNvPicPr/>
          <p:nvPr/>
        </p:nvPicPr>
        <p:blipFill>
          <a:blip r:embed="rId1"/>
          <a:stretch/>
        </p:blipFill>
        <p:spPr>
          <a:xfrm>
            <a:off x="250920" y="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J0182585"/>
          <p:cNvPicPr/>
          <p:nvPr/>
        </p:nvPicPr>
        <p:blipFill>
          <a:blip r:embed="rId2"/>
          <a:stretch/>
        </p:blipFill>
        <p:spPr>
          <a:xfrm>
            <a:off x="4932360" y="4221000"/>
            <a:ext cx="3657600" cy="24447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7"/>
          <p:cNvSpPr/>
          <p:nvPr/>
        </p:nvSpPr>
        <p:spPr>
          <a:xfrm>
            <a:off x="2771640" y="0"/>
            <a:ext cx="5400720" cy="2421000"/>
          </a:xfrm>
          <a:prstGeom prst="cloudCallout">
            <a:avLst>
              <a:gd name="adj1" fmla="val -58967"/>
              <a:gd name="adj2" fmla="val 13148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635280" y="11592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ell me about yourself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9"/>
          <p:cNvSpPr/>
          <p:nvPr/>
        </p:nvSpPr>
        <p:spPr>
          <a:xfrm rot="10800000">
            <a:off x="178920" y="3860640"/>
            <a:ext cx="5040360" cy="2089440"/>
          </a:xfrm>
          <a:prstGeom prst="cloudCallout">
            <a:avLst>
              <a:gd name="adj1" fmla="val -55263"/>
              <a:gd name="adj2" fmla="val 2986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042920" y="4005360"/>
            <a:ext cx="381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ell, my name is…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619280" y="385920"/>
            <a:ext cx="770580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escribing peopl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hysicall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979640" y="1547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 do/does … look like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851280" y="3141720"/>
            <a:ext cx="4464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all      short        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retty    ugl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andsom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j0293466"/>
          <p:cNvPicPr/>
          <p:nvPr/>
        </p:nvPicPr>
        <p:blipFill>
          <a:blip r:embed="rId1"/>
          <a:stretch/>
        </p:blipFill>
        <p:spPr>
          <a:xfrm>
            <a:off x="179280" y="115920"/>
            <a:ext cx="2089080" cy="2808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612720" y="424332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djectiv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132000" y="3284640"/>
            <a:ext cx="863640" cy="3168720"/>
          </a:xfrm>
          <a:custGeom>
            <a:avLst/>
            <a:gdLst>
              <a:gd name="textAreaLeft" fmla="*/ 0 w 863640"/>
              <a:gd name="textAreaRight" fmla="*/ 311760 w 86364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619280" y="385920"/>
            <a:ext cx="770580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escribing personality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trait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979640" y="1547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 is/ are … like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995640" y="2997360"/>
            <a:ext cx="446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mart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mportant       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telligen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2720" y="424332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djectiv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132000" y="3284640"/>
            <a:ext cx="863640" cy="3168720"/>
          </a:xfrm>
          <a:custGeom>
            <a:avLst/>
            <a:gdLst>
              <a:gd name="textAreaLeft" fmla="*/ 0 w 863640"/>
              <a:gd name="textAreaRight" fmla="*/ 311760 w 86364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7" descr="j0293466"/>
          <p:cNvPicPr/>
          <p:nvPr/>
        </p:nvPicPr>
        <p:blipFill>
          <a:blip r:embed="rId1"/>
          <a:stretch/>
        </p:blipFill>
        <p:spPr>
          <a:xfrm>
            <a:off x="179280" y="115920"/>
            <a:ext cx="2089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476360" cy="2060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979640" y="476280"/>
            <a:ext cx="69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We use the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simple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present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talk about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95280" y="2708280"/>
            <a:ext cx="8748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permanent states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repeated actions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daily routines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j0293466"/>
          <p:cNvPicPr/>
          <p:nvPr/>
        </p:nvPicPr>
        <p:blipFill>
          <a:blip r:embed="rId1"/>
          <a:stretch/>
        </p:blipFill>
        <p:spPr>
          <a:xfrm>
            <a:off x="0" y="44280"/>
            <a:ext cx="1476360" cy="2160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3851280" y="26028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aily activities &amp; routin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79280" y="2637000"/>
            <a:ext cx="874872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: What do you do every day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: I  go to school in the morning and practice sports in the afternoo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08000" y="906480"/>
            <a:ext cx="896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How often do you </a:t>
            </a: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study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3"/>
          <p:cNvSpPr/>
          <p:nvPr/>
        </p:nvSpPr>
        <p:spPr>
          <a:xfrm>
            <a:off x="5724360" y="1844640"/>
            <a:ext cx="594000" cy="628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4"/>
          <p:cNvSpPr/>
          <p:nvPr/>
        </p:nvSpPr>
        <p:spPr>
          <a:xfrm flipH="1">
            <a:off x="4735440" y="1897200"/>
            <a:ext cx="503280" cy="107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5580000" y="1916280"/>
            <a:ext cx="306360" cy="192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283800" y="1895400"/>
            <a:ext cx="250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Work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049440" y="3333600"/>
            <a:ext cx="236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Read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025440" y="2638440"/>
            <a:ext cx="3021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go to 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Parties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103480" y="35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662440" y="6075360"/>
            <a:ext cx="2581560" cy="88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878960" y="55958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084720" y="5495760"/>
            <a:ext cx="936720" cy="790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20%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861080" y="3767040"/>
            <a:ext cx="1223640" cy="2519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5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492360" y="2614680"/>
            <a:ext cx="1368720" cy="3673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6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052720" y="1822320"/>
            <a:ext cx="1439640" cy="446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8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68360" y="887400"/>
            <a:ext cx="1584360" cy="540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100%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135080" y="11592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alway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198520" y="981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usuall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861080" y="2781360"/>
            <a:ext cx="37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sometim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3494160" y="17733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ofte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6086520" y="386064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Arial"/>
              </a:rPr>
              <a:t>rarel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7096680" y="5052960"/>
            <a:ext cx="180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Arial"/>
              </a:rPr>
              <a:t>never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16" descr="j0293466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909000" y="187200"/>
            <a:ext cx="719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s-ES" sz="60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go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to parties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09840" y="3139920"/>
            <a:ext cx="799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am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6000" spc="-1" strike="noStrike" u="sng">
                <a:solidFill>
                  <a:srgbClr val="ffffff"/>
                </a:solidFill>
                <a:uFillTx/>
                <a:latin typeface="Times New Roman"/>
              </a:rPr>
              <a:t>sometimes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at home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2556000" y="1268280"/>
            <a:ext cx="0" cy="57636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4356000" y="1197000"/>
            <a:ext cx="0" cy="64764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1692360" y="4076640"/>
            <a:ext cx="0" cy="64944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4067280" y="4076640"/>
            <a:ext cx="0" cy="64764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047240" y="1892160"/>
            <a:ext cx="2372400" cy="1263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frequency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adver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088280" y="4748040"/>
            <a:ext cx="1512720" cy="1556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ver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To Be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534840" y="4748040"/>
            <a:ext cx="2372400" cy="1263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frequency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adver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328280" y="1916280"/>
            <a:ext cx="1651320" cy="1263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action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ver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492360" y="2133720"/>
            <a:ext cx="10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700360" y="4941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92560" y="1316160"/>
            <a:ext cx="782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 u="sng">
                <a:solidFill>
                  <a:srgbClr val="ffffff"/>
                </a:solidFill>
                <a:uFillTx/>
                <a:latin typeface="Times New Roman"/>
              </a:rPr>
              <a:t>Usually, 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go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 to parties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2556000" y="2397240"/>
            <a:ext cx="0" cy="57600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4356000" y="2325600"/>
            <a:ext cx="0" cy="64764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047240" y="3021120"/>
            <a:ext cx="2372400" cy="1263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frequency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adver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328280" y="3044880"/>
            <a:ext cx="1651320" cy="1263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action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 Narrow"/>
              </a:rPr>
              <a:t>ver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56000" y="476280"/>
            <a:ext cx="65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Time expression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95280" y="1700280"/>
            <a:ext cx="806436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every day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on Sunday, Monday…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in the morning/ afternoon/ evening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50920" y="263700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add –s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to the verbs  in the third person singular             (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he/she/it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3" descr="j0293466"/>
          <p:cNvPicPr/>
          <p:nvPr/>
        </p:nvPicPr>
        <p:blipFill>
          <a:blip r:embed="rId1"/>
          <a:stretch/>
        </p:blipFill>
        <p:spPr>
          <a:xfrm>
            <a:off x="133200" y="44280"/>
            <a:ext cx="2422800" cy="2519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095640" y="333360"/>
            <a:ext cx="65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In the simple present tense 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995640" y="2637000"/>
            <a:ext cx="4608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rsonal information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3" descr="J0182534"/>
          <p:cNvPicPr/>
          <p:nvPr/>
        </p:nvPicPr>
        <p:blipFill>
          <a:blip r:embed="rId1"/>
          <a:stretch/>
        </p:blipFill>
        <p:spPr>
          <a:xfrm>
            <a:off x="250920" y="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J0182585"/>
          <p:cNvPicPr/>
          <p:nvPr/>
        </p:nvPicPr>
        <p:blipFill>
          <a:blip r:embed="rId2"/>
          <a:stretch/>
        </p:blipFill>
        <p:spPr>
          <a:xfrm>
            <a:off x="4932360" y="4221000"/>
            <a:ext cx="3657600" cy="24447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/>
          <p:cNvSpPr/>
          <p:nvPr/>
        </p:nvSpPr>
        <p:spPr>
          <a:xfrm>
            <a:off x="2771640" y="0"/>
            <a:ext cx="5400720" cy="2421000"/>
          </a:xfrm>
          <a:prstGeom prst="cloudCallout">
            <a:avLst>
              <a:gd name="adj1" fmla="val -58967"/>
              <a:gd name="adj2" fmla="val 13148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635280" y="11592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ell me about yourself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AutoShape 7"/>
          <p:cNvSpPr/>
          <p:nvPr/>
        </p:nvSpPr>
        <p:spPr>
          <a:xfrm rot="10800000">
            <a:off x="178920" y="3860640"/>
            <a:ext cx="5040360" cy="2089440"/>
          </a:xfrm>
          <a:prstGeom prst="cloudCallout">
            <a:avLst>
              <a:gd name="adj1" fmla="val -55263"/>
              <a:gd name="adj2" fmla="val 2986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042920" y="4005360"/>
            <a:ext cx="381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ell, my name is…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736720" y="260280"/>
            <a:ext cx="65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o express likes and dislik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95280" y="2205000"/>
            <a:ext cx="87487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ject + like /love…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ject + dislike/hat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on’t/doesn’t lik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.g. I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novels. But I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don’t lik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comedi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476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736720" y="260280"/>
            <a:ext cx="65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66"/>
                </a:solidFill>
                <a:latin typeface="Times New Roman"/>
              </a:rPr>
              <a:t>To express likes and dislik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95280" y="2276640"/>
            <a:ext cx="87487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lov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to read novel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likes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to dance. But she </a:t>
            </a: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does not like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to sing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ates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o be late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j0293466"/>
          <p:cNvPicPr/>
          <p:nvPr/>
        </p:nvPicPr>
        <p:blipFill>
          <a:blip r:embed="rId1"/>
          <a:stretch/>
        </p:blipFill>
        <p:spPr>
          <a:xfrm>
            <a:off x="133200" y="44280"/>
            <a:ext cx="2135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484360" y="189000"/>
            <a:ext cx="66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he  Present Continuous Tense is used to: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95280" y="1628640"/>
            <a:ext cx="87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1. a)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express actions  happening at the moment of speaking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68360" y="306864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1.b)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refer to actions that are happening about the moment of speaking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39640" y="5157720"/>
            <a:ext cx="842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Refer to actions that are going to take place in the near future.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9"/>
          <p:cNvGrpSpPr/>
          <p:nvPr/>
        </p:nvGrpSpPr>
        <p:grpSpPr>
          <a:xfrm>
            <a:off x="202680" y="189000"/>
            <a:ext cx="9049320" cy="3945960"/>
            <a:chOff x="202680" y="189000"/>
            <a:chExt cx="9049320" cy="3945960"/>
          </a:xfrm>
        </p:grpSpPr>
        <p:sp>
          <p:nvSpPr>
            <p:cNvPr id="177" name="Text Box 6"/>
            <p:cNvSpPr/>
            <p:nvPr/>
          </p:nvSpPr>
          <p:spPr>
            <a:xfrm>
              <a:off x="611280" y="190440"/>
              <a:ext cx="8064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6600" spc="-1" strike="noStrike">
                  <a:solidFill>
                    <a:srgbClr val="ffffff"/>
                  </a:solidFill>
                  <a:latin typeface="Times New Roman"/>
                </a:rPr>
                <a:t>I’m    </a:t>
              </a:r>
              <a:r>
                <a:rPr b="1" i="1" lang="es-ES_tradnl" sz="6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teach </a:t>
              </a:r>
              <a:r>
                <a:rPr b="1" i="1" lang="es-ES_tradnl" sz="6600" spc="-1" strike="noStrike">
                  <a:solidFill>
                    <a:srgbClr val="ffffff"/>
                  </a:solidFill>
                  <a:latin typeface="Times New Roman"/>
                </a:rPr>
                <a:t>ing  now .</a:t>
              </a:r>
              <a:endParaRPr b="1" i="1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202680" y="2359080"/>
              <a:ext cx="1837440" cy="764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ff00"/>
                  </a:solidFill>
                  <a:latin typeface="Arial Narrow"/>
                </a:rPr>
                <a:t>Subject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>
              <a:off x="755640" y="982800"/>
              <a:ext cx="504720" cy="12934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9"/>
            <p:cNvSpPr/>
            <p:nvPr/>
          </p:nvSpPr>
          <p:spPr>
            <a:xfrm>
              <a:off x="1042920" y="189000"/>
              <a:ext cx="1297080" cy="1152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Text Box 10"/>
            <p:cNvSpPr/>
            <p:nvPr/>
          </p:nvSpPr>
          <p:spPr>
            <a:xfrm>
              <a:off x="2330640" y="2700360"/>
              <a:ext cx="1454760" cy="1434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ff00"/>
                  </a:solidFill>
                  <a:latin typeface="Arial Narrow"/>
                </a:rPr>
                <a:t>Verb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ff00"/>
                  </a:solidFill>
                  <a:latin typeface="Arial Narrow"/>
                </a:rPr>
                <a:t>To Be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>
              <a:off x="2268360" y="1125360"/>
              <a:ext cx="719280" cy="1441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12"/>
            <p:cNvSpPr/>
            <p:nvPr/>
          </p:nvSpPr>
          <p:spPr>
            <a:xfrm>
              <a:off x="4788000" y="333360"/>
              <a:ext cx="1368360" cy="10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3924360" y="2349360"/>
              <a:ext cx="2376360" cy="1191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00"/>
                  </a:solidFill>
                  <a:latin typeface="Arial Narrow"/>
                </a:rPr>
                <a:t>Action Verb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00"/>
                  </a:solidFill>
                  <a:latin typeface="Arial Narrow"/>
                </a:rPr>
                <a:t>+  (-ing)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14"/>
            <p:cNvSpPr/>
            <p:nvPr/>
          </p:nvSpPr>
          <p:spPr>
            <a:xfrm>
              <a:off x="3924360" y="1181160"/>
              <a:ext cx="477720" cy="10969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6300720" y="190440"/>
              <a:ext cx="1656000" cy="1150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6372360" y="2638440"/>
              <a:ext cx="2879640" cy="1434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ff00"/>
                  </a:solidFill>
                  <a:latin typeface="Arial Narrow"/>
                </a:rPr>
                <a:t>Time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ff00"/>
                  </a:solidFill>
                  <a:latin typeface="Arial Narrow"/>
                </a:rPr>
                <a:t>Expression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7343640" y="1270080"/>
              <a:ext cx="757440" cy="13683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Text Box 20"/>
          <p:cNvSpPr/>
          <p:nvPr/>
        </p:nvSpPr>
        <p:spPr>
          <a:xfrm>
            <a:off x="971640" y="4724280"/>
            <a:ext cx="720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1258920" y="494172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’m flying home next Satur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332000" y="404640"/>
            <a:ext cx="78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556000" y="260280"/>
            <a:ext cx="65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Expressions of tim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24000" y="1413000"/>
            <a:ext cx="96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w    at the moment   at present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547640" y="215424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pell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50920" y="300024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wi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m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g      trave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ll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392040" y="407664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e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g            driv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-driv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79280" y="2616120"/>
            <a:ext cx="88203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o speak about future plans and intention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en there’s evidence that something will definitely happen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2196000" y="692280"/>
            <a:ext cx="61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Be+going to is used 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404640"/>
            <a:ext cx="860436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33"/>
                </a:solidFill>
                <a:latin typeface="Times New Roman"/>
              </a:rPr>
              <a:t>             </a:t>
            </a: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Structur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+          +            +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2843280" y="2013120"/>
            <a:ext cx="187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verb to b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003640" y="198900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going to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7380360" y="1989000"/>
            <a:ext cx="180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main ver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0" y="39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e.g. Peter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i="1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going to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study chemistry this afternoon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7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468360" y="2436840"/>
            <a:ext cx="8424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make predictions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make on-the-spot decisions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2195640" y="40464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Will is used  to: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404640"/>
            <a:ext cx="860436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33"/>
                </a:solidFill>
                <a:latin typeface="Times New Roman"/>
              </a:rPr>
              <a:t>             </a:t>
            </a: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Structur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+             +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419640" y="20131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will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5724360" y="186696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main verb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19280" y="3573360"/>
            <a:ext cx="79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e.g. Amy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will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visit her grandmother tomorrow afternoon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840320" y="82440"/>
            <a:ext cx="57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Time Expression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3"/>
          <p:cNvSpPr/>
          <p:nvPr/>
        </p:nvSpPr>
        <p:spPr>
          <a:xfrm flipV="1">
            <a:off x="3851280" y="2464920"/>
            <a:ext cx="2160720" cy="784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31720" y="1449360"/>
            <a:ext cx="344052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tomorrow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018120" y="1628640"/>
            <a:ext cx="161928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year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20720" y="2773440"/>
            <a:ext cx="157824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next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973840" y="2984400"/>
            <a:ext cx="183132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week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5624640" y="4361040"/>
            <a:ext cx="235260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month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158080" y="5653080"/>
            <a:ext cx="318744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Saturday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851280" y="3313080"/>
            <a:ext cx="2116080" cy="476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3851280" y="3313080"/>
            <a:ext cx="1773360" cy="1736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3851280" y="3313080"/>
            <a:ext cx="1300320" cy="23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502720" y="24912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9400" y="2492280"/>
            <a:ext cx="781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Good morning.     </a:t>
            </a:r>
            <a:r>
              <a:rPr b="0" lang="es-ES_tradnl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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am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Good afternoon.   </a:t>
            </a:r>
            <a:r>
              <a:rPr b="0" lang="es-ES_tradnl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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pm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Good evening.      </a:t>
            </a: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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pm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6" descr="j0251062"/>
          <p:cNvPicPr/>
          <p:nvPr/>
        </p:nvPicPr>
        <p:blipFill>
          <a:blip r:embed="rId1"/>
          <a:stretch/>
        </p:blipFill>
        <p:spPr>
          <a:xfrm rot="19849200">
            <a:off x="34560" y="549000"/>
            <a:ext cx="25909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324000" y="1844640"/>
            <a:ext cx="3384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sking fo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nd giving advice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4140360" y="1413000"/>
            <a:ext cx="4752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should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must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ave to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3635280" y="260280"/>
            <a:ext cx="649440" cy="6386760"/>
          </a:xfrm>
          <a:custGeom>
            <a:avLst/>
            <a:gdLst>
              <a:gd name="textAreaLeft" fmla="*/ 415080 w 649440"/>
              <a:gd name="textAreaRight" fmla="*/ 649800 w 649440"/>
              <a:gd name="textAreaTop" fmla="*/ 166320 h 6386760"/>
              <a:gd name="textAreaBottom" fmla="*/ 6220440 h 638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468360" y="2492280"/>
            <a:ext cx="83534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ust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s only used in the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resent tens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Have to /has to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ecomes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had to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 the past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987640" y="40464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have to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4987800" y="692280"/>
            <a:ext cx="325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08000" y="2781360"/>
            <a:ext cx="903600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ffffff"/>
                </a:solidFill>
                <a:latin typeface="Times New Roman"/>
              </a:rPr>
              <a:t>Brian has a terrible pain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ffffff"/>
                </a:solidFill>
                <a:latin typeface="Times New Roman"/>
              </a:rPr>
              <a:t>in his right arm. He </a:t>
            </a: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0" i="1" lang="es-MX" sz="5400" spc="-1" strike="noStrike">
                <a:solidFill>
                  <a:srgbClr val="ffffff"/>
                </a:solidFill>
                <a:latin typeface="Times New Roman"/>
              </a:rPr>
              <a:t> see a docto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4" descr="j0287167"/>
          <p:cNvPicPr/>
          <p:nvPr/>
        </p:nvPicPr>
        <p:blipFill>
          <a:blip r:embed="rId1"/>
          <a:stretch/>
        </p:blipFill>
        <p:spPr>
          <a:xfrm>
            <a:off x="1116000" y="476280"/>
            <a:ext cx="1954080" cy="25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4916160" y="692280"/>
            <a:ext cx="325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08000" y="3103560"/>
            <a:ext cx="903600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ffffff"/>
                </a:solidFill>
                <a:latin typeface="Times New Roman"/>
              </a:rPr>
              <a:t>The doctor said: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ffffff"/>
                </a:solidFill>
                <a:latin typeface="Times New Roman"/>
              </a:rPr>
              <a:t>¨You </a:t>
            </a: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must 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stop smoking</a:t>
            </a:r>
            <a:r>
              <a:rPr b="0" i="1" lang="es-MX" sz="5400" spc="-1" strike="noStrike">
                <a:solidFill>
                  <a:srgbClr val="ffffff"/>
                </a:solidFill>
                <a:latin typeface="Times New Roman"/>
              </a:rPr>
              <a:t> .¨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j0289289"/>
          <p:cNvPicPr/>
          <p:nvPr/>
        </p:nvPicPr>
        <p:blipFill>
          <a:blip r:embed="rId1"/>
          <a:stretch/>
        </p:blipFill>
        <p:spPr>
          <a:xfrm>
            <a:off x="395280" y="476280"/>
            <a:ext cx="309708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4916160" y="765000"/>
            <a:ext cx="325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50920" y="3348000"/>
            <a:ext cx="86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have to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 lose weight. So, you</a:t>
            </a:r>
            <a:r>
              <a:rPr b="0" i="1" lang="es-MX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should  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eat  vegetabl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4" descr="j0198031"/>
          <p:cNvPicPr/>
          <p:nvPr/>
        </p:nvPicPr>
        <p:blipFill>
          <a:blip r:embed="rId1"/>
          <a:stretch/>
        </p:blipFill>
        <p:spPr>
          <a:xfrm>
            <a:off x="395280" y="260280"/>
            <a:ext cx="284940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908000" y="1069920"/>
            <a:ext cx="6912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e use  the simple  past to speak about actions that finished  at a stated time in the past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800280" y="2168640"/>
            <a:ext cx="297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134240" y="242244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5046840" y="1868400"/>
            <a:ext cx="384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action verb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(past form)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285000" y="260280"/>
            <a:ext cx="23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Times New Roman"/>
              </a:rPr>
              <a:t>Form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827080" y="5229360"/>
            <a:ext cx="47808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4250160" y="5229360"/>
            <a:ext cx="278352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work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2921040" y="298440"/>
            <a:ext cx="2911320" cy="2050920"/>
          </a:xfrm>
          <a:prstGeom prst="downArrowCallout">
            <a:avLst>
              <a:gd name="adj1" fmla="val 35452"/>
              <a:gd name="adj2" fmla="val 42026"/>
              <a:gd name="adj3" fmla="val 21440"/>
              <a:gd name="adj4" fmla="val 65713"/>
            </a:avLst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9"/>
          <p:cNvSpPr/>
          <p:nvPr/>
        </p:nvSpPr>
        <p:spPr>
          <a:xfrm rot="3891600">
            <a:off x="1634760" y="3907800"/>
            <a:ext cx="1589040" cy="741600"/>
          </a:xfrm>
          <a:prstGeom prst="pie">
            <a:avLst/>
          </a:prstGeom>
          <a:gradFill rotWithShape="0">
            <a:gsLst>
              <a:gs pos="0">
                <a:srgbClr val="ffff00">
                  <a:alpha val="32156"/>
                </a:srgbClr>
              </a:gs>
              <a:gs pos="100000">
                <a:srgbClr val="767600">
                  <a:alpha val="52156"/>
                </a:srgbClr>
              </a:gs>
            </a:gsLst>
            <a:lin ang="15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10"/>
          <p:cNvSpPr/>
          <p:nvPr/>
        </p:nvSpPr>
        <p:spPr>
          <a:xfrm rot="6826200">
            <a:off x="5905440" y="4125600"/>
            <a:ext cx="1589040" cy="668160"/>
          </a:xfrm>
          <a:prstGeom prst="pie">
            <a:avLst/>
          </a:prstGeom>
          <a:gradFill rotWithShape="0">
            <a:gsLst>
              <a:gs pos="0">
                <a:srgbClr val="ffff00">
                  <a:alpha val="32156"/>
                </a:srgbClr>
              </a:gs>
              <a:gs pos="100000">
                <a:srgbClr val="767600">
                  <a:alpha val="52156"/>
                </a:srgbClr>
              </a:gs>
            </a:gsLst>
            <a:lin ang="201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840320" y="82440"/>
            <a:ext cx="57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Time Expression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3"/>
          <p:cNvSpPr/>
          <p:nvPr/>
        </p:nvSpPr>
        <p:spPr>
          <a:xfrm flipV="1">
            <a:off x="3851280" y="2464920"/>
            <a:ext cx="2160720" cy="784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31360" y="1449360"/>
            <a:ext cx="331416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yesterday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018120" y="1628640"/>
            <a:ext cx="161928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year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520360" y="2773440"/>
            <a:ext cx="132516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last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973840" y="2984400"/>
            <a:ext cx="183132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week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5624640" y="4361040"/>
            <a:ext cx="235260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month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5158080" y="5653080"/>
            <a:ext cx="318744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Saturday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3851280" y="3313080"/>
            <a:ext cx="2116080" cy="476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3851280" y="3313080"/>
            <a:ext cx="1773360" cy="1736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3851280" y="3313080"/>
            <a:ext cx="1300320" cy="23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50920" y="1989000"/>
            <a:ext cx="8893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refers  to past  habits or things that do not happen anymor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used  to sleep for long hours. (I do not do it anymore)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2050920" cy="2133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3419640" y="2602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Used  to…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684360" y="26028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o ask Yes/No questions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50920" y="112536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Aux. + subject + verb+timeexpr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50920" y="2060640"/>
            <a:ext cx="8893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Do you  study  every day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Does she study every day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ill you play tennis tomorrow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Did she dance last night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502720" y="24912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6000" y="3500280"/>
            <a:ext cx="19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Hello !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9080" y="4292640"/>
            <a:ext cx="117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Hi !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6" descr="j0251062"/>
          <p:cNvPicPr/>
          <p:nvPr/>
        </p:nvPicPr>
        <p:blipFill>
          <a:blip r:embed="rId1"/>
          <a:stretch/>
        </p:blipFill>
        <p:spPr>
          <a:xfrm rot="19849200">
            <a:off x="34560" y="549000"/>
            <a:ext cx="2590920" cy="1218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250920" y="256536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ow  are you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4140360" y="1341360"/>
            <a:ext cx="865080" cy="5256360"/>
          </a:xfrm>
          <a:custGeom>
            <a:avLst/>
            <a:gdLst>
              <a:gd name="textAreaLeft" fmla="*/ 552600 w 865080"/>
              <a:gd name="textAreaRight" fmla="*/ 865440 w 86508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643280" y="1844640"/>
            <a:ext cx="4500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’m fine, thanks. And you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Very well, thank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68360" y="2602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o ask Yes/No questions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285840" y="1143000"/>
            <a:ext cx="88581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s she at home in the morning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Are they playing now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s she going to study tomorrow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ere you at the ballgame last night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as she at the ballgame  last night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37960" y="1125360"/>
            <a:ext cx="872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 question + aux. +subject + main verb +  expression of time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684360" y="26028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o ask information questions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50920" y="2781360"/>
            <a:ext cx="8640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hat do you do every day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here did you go yesterday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hen will you visit your friend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37960" y="1125360"/>
            <a:ext cx="872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 question + verbBE +subject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84360" y="26028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o ask information questions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50920" y="2781360"/>
            <a:ext cx="8640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o is he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j0283609"/>
          <p:cNvPicPr/>
          <p:nvPr/>
        </p:nvPicPr>
        <p:blipFill>
          <a:blip r:embed="rId1"/>
          <a:stretch/>
        </p:blipFill>
        <p:spPr>
          <a:xfrm rot="20635800">
            <a:off x="6237000" y="259920"/>
            <a:ext cx="2651040" cy="1986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j0283592"/>
          <p:cNvPicPr/>
          <p:nvPr/>
        </p:nvPicPr>
        <p:blipFill>
          <a:blip r:embed="rId2"/>
          <a:stretch/>
        </p:blipFill>
        <p:spPr>
          <a:xfrm>
            <a:off x="0" y="4246560"/>
            <a:ext cx="2916360" cy="23511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042920" y="2133720"/>
            <a:ext cx="6985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Viewing task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1042920" y="1197000"/>
            <a:ext cx="7201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bservetheclipandtickthecorrectanswer.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324000" y="115920"/>
            <a:ext cx="867564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hey are talking about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ctivities: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.______happening at the moment of speaking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b._____that happened sometime in the past___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.In the future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24000" y="260280"/>
            <a:ext cx="8675640" cy="62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ick the correct tense that is used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___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imple present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___ simple past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___ future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____present continuous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730680" y="692280"/>
            <a:ext cx="487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Farewells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81360" y="2565360"/>
            <a:ext cx="7264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Good night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Good bye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See you soon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See you tomorrow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4" descr="j0282574"/>
          <p:cNvPicPr/>
          <p:nvPr/>
        </p:nvPicPr>
        <p:blipFill>
          <a:blip r:embed="rId1"/>
          <a:stretch/>
        </p:blipFill>
        <p:spPr>
          <a:xfrm>
            <a:off x="577800" y="216000"/>
            <a:ext cx="22654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50920" y="260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neself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95280" y="1484280"/>
            <a:ext cx="4968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ow do you do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y name is Priscilla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’m Priscilla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450072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227640" y="1773360"/>
            <a:ext cx="251964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0920" y="260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ther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98560" y="177336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is is my  friend, Su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4643280" y="1700280"/>
            <a:ext cx="1295640" cy="1873080"/>
          </a:xfrm>
          <a:custGeom>
            <a:avLst/>
            <a:gdLst>
              <a:gd name="textAreaLeft" fmla="*/ 0 w 1295640"/>
              <a:gd name="textAreaRight" fmla="*/ 468000 w 12956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227640" y="1547640"/>
            <a:ext cx="29163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476360" y="4425840"/>
            <a:ext cx="60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Nice to meet you, too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24000" y="1844640"/>
            <a:ext cx="8497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Giving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ersonal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nformatio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067280" y="0"/>
            <a:ext cx="4752720" cy="78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ersonal  detail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escribing family members &amp; friend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resent activities &amp; lik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ast activities &amp;  memori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future activiti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3635280" y="260280"/>
            <a:ext cx="649440" cy="6386760"/>
          </a:xfrm>
          <a:custGeom>
            <a:avLst/>
            <a:gdLst>
              <a:gd name="textAreaLeft" fmla="*/ 415080 w 649440"/>
              <a:gd name="textAreaRight" fmla="*/ 649800 w 649440"/>
              <a:gd name="textAreaTop" fmla="*/ 166320 h 6386760"/>
              <a:gd name="textAreaBottom" fmla="*/ 6220440 h 638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405080" y="2060640"/>
            <a:ext cx="648000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547640" y="2492280"/>
            <a:ext cx="633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333399"/>
                </a:solidFill>
                <a:latin typeface="Comic Sans MS"/>
              </a:rPr>
              <a:t>Personal detail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4"/>
          <p:cNvSpPr/>
          <p:nvPr/>
        </p:nvSpPr>
        <p:spPr>
          <a:xfrm flipH="1">
            <a:off x="2050920" y="3789360"/>
            <a:ext cx="144720" cy="71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5"/>
          <p:cNvSpPr/>
          <p:nvPr/>
        </p:nvSpPr>
        <p:spPr>
          <a:xfrm flipH="1">
            <a:off x="3274560" y="3789360"/>
            <a:ext cx="79236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6"/>
          <p:cNvSpPr/>
          <p:nvPr/>
        </p:nvSpPr>
        <p:spPr>
          <a:xfrm>
            <a:off x="5651640" y="3789360"/>
            <a:ext cx="576000" cy="194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7"/>
          <p:cNvSpPr/>
          <p:nvPr/>
        </p:nvSpPr>
        <p:spPr>
          <a:xfrm>
            <a:off x="7308720" y="3789360"/>
            <a:ext cx="28764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 flipH="1" flipV="1">
            <a:off x="1619280" y="836640"/>
            <a:ext cx="43344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3995640" y="1341360"/>
            <a:ext cx="0" cy="935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0"/>
          <p:cNvSpPr/>
          <p:nvPr/>
        </p:nvSpPr>
        <p:spPr>
          <a:xfrm flipV="1">
            <a:off x="6156360" y="691920"/>
            <a:ext cx="647640" cy="15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7885080" y="1483920"/>
            <a:ext cx="358920" cy="792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9840" y="-10008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319120" y="5467320"/>
            <a:ext cx="11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g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7164360" y="620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rigi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5365800" y="-10008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tionalit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109800" y="429264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ccupatio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5294160" y="5661000"/>
            <a:ext cx="23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ddres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2845080" y="-34920"/>
            <a:ext cx="239040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hone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umb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6589800" y="4221000"/>
            <a:ext cx="2238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arital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tatu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4859280" y="3789360"/>
            <a:ext cx="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3926160" y="431496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6:04:22Z</dcterms:created>
  <dc:creator>LTEL</dc:creator>
  <dc:description/>
  <dc:language>en-US</dc:language>
  <cp:lastModifiedBy>Maria de los Angeles</cp:lastModifiedBy>
  <dcterms:modified xsi:type="dcterms:W3CDTF">2013-10-30T09:24:37Z</dcterms:modified>
  <cp:revision>113</cp:revision>
  <dc:subject/>
  <dc:title>Diapositiva 1</dc:title>
</cp:coreProperties>
</file>