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6.wmf" ContentType="image/x-wmf"/>
  <Override PartName="/ppt/media/image4.jpeg" ContentType="image/jpeg"/>
  <Override PartName="/ppt/media/image5.gif" ContentType="image/gif"/>
  <Override PartName="/ppt/media/image8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06C-1B4F-4A08-BB73-A20C7548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902-BE5C-44BF-B032-ACF0AFC8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823-8456-4963-B316-38A7BE24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754-4E83-4E2B-BF40-11021E3B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746-C04F-4DDC-9CE3-0EBC9D6A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634-EC65-4099-A740-48D17A67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308-5539-4C09-AD29-711AE611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3B8-2184-4ABE-8553-226B854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5C8-14A2-4256-9ACB-7C088986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F9C-AE25-40FC-B044-CB928F2C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415-98B5-4B40-9075-39A178B3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1C5-E812-45A1-8732-EEA71C21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B227-2125-4CCA-A430-04632DB12E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283609"/>
          <p:cNvPicPr/>
          <p:nvPr/>
        </p:nvPicPr>
        <p:blipFill>
          <a:blip r:embed="rId1"/>
          <a:stretch/>
        </p:blipFill>
        <p:spPr>
          <a:xfrm rot="20635800">
            <a:off x="6237000" y="259920"/>
            <a:ext cx="2651040" cy="1986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j0283592"/>
          <p:cNvPicPr/>
          <p:nvPr/>
        </p:nvPicPr>
        <p:blipFill>
          <a:blip r:embed="rId2"/>
          <a:stretch/>
        </p:blipFill>
        <p:spPr>
          <a:xfrm>
            <a:off x="0" y="4246560"/>
            <a:ext cx="2916360" cy="2351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042920" y="2133720"/>
            <a:ext cx="6985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Viewing task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76040"/>
            <a:ext cx="87631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scan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Move your eyes quickly over the text, paying attention to key word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Find and write the answer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72880" y="209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ake a minute to look at the information. Then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scan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the text to answer the question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241280"/>
            <a:ext cx="820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is Soothe good  for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ow should  you take it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ow many tablets should   a  7–year-old child take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260280"/>
            <a:ext cx="3457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OOTHE: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hewable tablet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743280" y="189000"/>
            <a:ext cx="540072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Use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Controls diarrhea within 24 hr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oothes heartburn and indigestion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Relieves nausea and upset stomach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50920" y="2205000"/>
            <a:ext cx="3168720" cy="33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Warning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o not use if you are allergic to aspirin.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3708360" y="260280"/>
            <a:ext cx="5435640" cy="6193080"/>
            <a:chOff x="3708360" y="260280"/>
            <a:chExt cx="5435640" cy="6193080"/>
          </a:xfrm>
        </p:grpSpPr>
        <p:sp>
          <p:nvSpPr>
            <p:cNvPr id="67" name="Rectangle 6"/>
            <p:cNvSpPr/>
            <p:nvPr/>
          </p:nvSpPr>
          <p:spPr>
            <a:xfrm>
              <a:off x="3708360" y="260280"/>
              <a:ext cx="5184720" cy="6193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3743280" y="549360"/>
              <a:ext cx="5400720" cy="56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ff"/>
                  </a:solidFill>
                  <a:latin typeface="Times New Roman"/>
                </a:rPr>
                <a:t>Uses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Controls diarrhea within 24 hrs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Soothes heartburn and indigestion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Relieves nausea and upset stomach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179280" y="2349360"/>
            <a:ext cx="3313080" cy="4104000"/>
            <a:chOff x="179280" y="2349360"/>
            <a:chExt cx="3313080" cy="4104000"/>
          </a:xfrm>
        </p:grpSpPr>
        <p:sp>
          <p:nvSpPr>
            <p:cNvPr id="70" name="Rectangle 9"/>
            <p:cNvSpPr/>
            <p:nvPr/>
          </p:nvSpPr>
          <p:spPr>
            <a:xfrm>
              <a:off x="179280" y="2349360"/>
              <a:ext cx="3313080" cy="4104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250920" y="2708280"/>
              <a:ext cx="316872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ff"/>
                  </a:solidFill>
                  <a:latin typeface="Times New Roman"/>
                </a:rPr>
                <a:t>Warning</a:t>
              </a:r>
              <a:endParaRPr b="1" i="1" lang="en-US" sz="4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Do not use if you are allergic to aspirin.</a:t>
              </a:r>
              <a:endParaRPr b="1" i="1" lang="en-US" sz="4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0920" y="260280"/>
            <a:ext cx="3457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OOTHE: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hewable tablet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3959280" y="260280"/>
            <a:ext cx="5184720" cy="6193080"/>
            <a:chOff x="3959280" y="260280"/>
            <a:chExt cx="5184720" cy="6193080"/>
          </a:xfrm>
        </p:grpSpPr>
        <p:sp>
          <p:nvSpPr>
            <p:cNvPr id="74" name="Rectangle 4"/>
            <p:cNvSpPr/>
            <p:nvPr/>
          </p:nvSpPr>
          <p:spPr>
            <a:xfrm>
              <a:off x="3959280" y="260280"/>
              <a:ext cx="5184720" cy="6193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4030920" y="260280"/>
              <a:ext cx="4825800" cy="61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0000ff"/>
                  </a:solidFill>
                  <a:latin typeface="Times New Roman"/>
                </a:rPr>
                <a:t>Directions</a:t>
              </a: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Chew  or dissolve tablets in mouth.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Repeat every  ½ hr. to 1 hr., as needed.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Do not take more than 8 doses in 24 hours.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" name="Group 6"/>
          <p:cNvGrpSpPr/>
          <p:nvPr/>
        </p:nvGrpSpPr>
        <p:grpSpPr>
          <a:xfrm>
            <a:off x="144360" y="1989000"/>
            <a:ext cx="3670560" cy="4517280"/>
            <a:chOff x="144360" y="1989000"/>
            <a:chExt cx="3670560" cy="4517280"/>
          </a:xfrm>
        </p:grpSpPr>
        <p:sp>
          <p:nvSpPr>
            <p:cNvPr id="77" name="Rectangle 7"/>
            <p:cNvSpPr/>
            <p:nvPr/>
          </p:nvSpPr>
          <p:spPr>
            <a:xfrm>
              <a:off x="144360" y="1989000"/>
              <a:ext cx="3635640" cy="4464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250920" y="2133720"/>
              <a:ext cx="3564000" cy="43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Adults &amp; children 12 years and over: 2 tablets</a:t>
              </a:r>
              <a:endParaRPr b="1" i="1" lang="en-US" sz="4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9-12 years:1 </a:t>
              </a:r>
              <a:r>
                <a:rPr b="1" i="1" lang="es-ES_tradnl" sz="4000" spc="-1" strike="noStrike">
                  <a:solidFill>
                    <a:srgbClr val="000000"/>
                  </a:solidFill>
                  <a:latin typeface="Times New Roman"/>
                </a:rPr>
                <a:t>tab.</a:t>
              </a:r>
              <a:endParaRPr b="1" i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9640" y="476280"/>
            <a:ext cx="860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ractice with your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Picture 3" descr="j0285466"/>
          <p:cNvPicPr/>
          <p:nvPr/>
        </p:nvPicPr>
        <p:blipFill>
          <a:blip r:embed="rId1"/>
          <a:stretch/>
        </p:blipFill>
        <p:spPr>
          <a:xfrm>
            <a:off x="5796000" y="4797360"/>
            <a:ext cx="3097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611280" y="1268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Scan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the following text to complete the chart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95280" y="333360"/>
          <a:ext cx="8424720" cy="6480360"/>
        </p:xfrm>
        <a:graphic>
          <a:graphicData uri="http://schemas.openxmlformats.org/drawingml/2006/table">
            <a:tbl>
              <a:tblPr/>
              <a:tblGrid>
                <a:gridCol w="2736720"/>
                <a:gridCol w="2808360"/>
                <a:gridCol w="2879640"/>
              </a:tblGrid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31"/>
          <p:cNvSpPr/>
          <p:nvPr/>
        </p:nvSpPr>
        <p:spPr>
          <a:xfrm>
            <a:off x="3203640" y="836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4859280" y="1052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348000" y="76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867280" y="83664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Text Box 35"/>
          <p:cNvSpPr/>
          <p:nvPr/>
        </p:nvSpPr>
        <p:spPr>
          <a:xfrm>
            <a:off x="5796000" y="8366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haract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Text Box 36"/>
          <p:cNvSpPr/>
          <p:nvPr/>
        </p:nvSpPr>
        <p:spPr>
          <a:xfrm>
            <a:off x="468360" y="1844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Province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395280" y="31100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apital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324000" y="4437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Attraction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2987640" y="31100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enfuego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Text Box 51"/>
          <p:cNvSpPr/>
          <p:nvPr/>
        </p:nvSpPr>
        <p:spPr>
          <a:xfrm>
            <a:off x="6156360" y="1844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mall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Text Box 53"/>
          <p:cNvSpPr/>
          <p:nvPr/>
        </p:nvSpPr>
        <p:spPr>
          <a:xfrm>
            <a:off x="5867280" y="4581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nteresting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Text Box 55"/>
          <p:cNvSpPr/>
          <p:nvPr/>
        </p:nvSpPr>
        <p:spPr>
          <a:xfrm>
            <a:off x="6084720" y="458136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0"/>
          <a:ext cx="91440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Freeform 3"/>
          <p:cNvSpPr/>
          <p:nvPr/>
        </p:nvSpPr>
        <p:spPr>
          <a:xfrm>
            <a:off x="3448080" y="907920"/>
            <a:ext cx="735120" cy="76536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95280" y="43657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Cienfuegos: The Pearl of the South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00000" y="549360"/>
            <a:ext cx="7272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bserve what the man does at the end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o  you agree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iscuss it with your teacher and classmates afterwards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68360" y="230040"/>
            <a:ext cx="817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ienfuegos is a small province. Its capital city is on the lovely Bay of Cienfuegos. Visitors must not miss a walk along the boulevard. They should begin their explorations on the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Jose Mart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Park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C-CIENFU"/>
          <p:cNvPicPr/>
          <p:nvPr/>
        </p:nvPicPr>
        <p:blipFill>
          <a:blip r:embed="rId1"/>
          <a:stretch/>
        </p:blipFill>
        <p:spPr>
          <a:xfrm>
            <a:off x="6084720" y="4724280"/>
            <a:ext cx="3095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79280" y="1760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y should also visit the Tomás Terry Theater, the City Hall and  the interesting Botanic Garden.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C-CIENFU"/>
          <p:cNvPicPr/>
          <p:nvPr/>
        </p:nvPicPr>
        <p:blipFill>
          <a:blip r:embed="rId1"/>
          <a:stretch/>
        </p:blipFill>
        <p:spPr>
          <a:xfrm>
            <a:off x="6659640" y="4930920"/>
            <a:ext cx="2520720" cy="1954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50920" y="35002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Visitors admire the beauty of its architecture and the tidiness of the streets.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95280" y="333360"/>
          <a:ext cx="8424720" cy="6524640"/>
        </p:xfrm>
        <a:graphic>
          <a:graphicData uri="http://schemas.openxmlformats.org/drawingml/2006/table">
            <a:tbl>
              <a:tblPr/>
              <a:tblGrid>
                <a:gridCol w="2736720"/>
                <a:gridCol w="2808360"/>
                <a:gridCol w="2879640"/>
              </a:tblGrid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28"/>
          <p:cNvSpPr/>
          <p:nvPr/>
        </p:nvSpPr>
        <p:spPr>
          <a:xfrm>
            <a:off x="3203640" y="836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4859280" y="1052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3348000" y="76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Text Box 31"/>
          <p:cNvSpPr/>
          <p:nvPr/>
        </p:nvSpPr>
        <p:spPr>
          <a:xfrm>
            <a:off x="5867280" y="83664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5796000" y="8366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haract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468360" y="1844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Province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395280" y="31100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apital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324000" y="4437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Attraction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2987640" y="18842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enfuego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2987640" y="31100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enfuego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3276720" y="414036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erry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ty Hall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3059280" y="5734080"/>
            <a:ext cx="30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Botanic G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156360" y="1844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mall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6156360" y="321300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lovely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867280" y="4581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nteresting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6084720" y="458136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4000" y="1773360"/>
            <a:ext cx="88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00"/>
                </a:solidFill>
                <a:latin typeface="Times New Roman"/>
              </a:rPr>
              <a:t>Writing Strategies     to describe places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4920" y="86688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1.Write the name of the place and its location.</a:t>
            </a:r>
            <a:endParaRPr b="1" i="1" lang="en-US" sz="9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549360"/>
            <a:ext cx="91440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00"/>
                </a:solidFill>
                <a:latin typeface="Times New Roman"/>
              </a:rPr>
              <a:t>2. Use adjectives and other phrases to describe it.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549360"/>
            <a:ext cx="9144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00"/>
                </a:solidFill>
                <a:latin typeface="Times New Roman"/>
              </a:rPr>
              <a:t>3. Suggest places to visit.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95280" y="476280"/>
            <a:ext cx="87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4. Write a closing sentence  (about importance, visitors, etc).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250920" y="-79920"/>
            <a:ext cx="2939040" cy="1995840"/>
            <a:chOff x="250920" y="-79920"/>
            <a:chExt cx="2939040" cy="1995840"/>
          </a:xfrm>
        </p:grpSpPr>
        <p:pic>
          <p:nvPicPr>
            <p:cNvPr id="130" name="Picture 5" descr="j0199371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 rot="20385000">
              <a:off x="612360" y="33156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earning </a:t>
              </a:r>
              <a:endParaRPr b="1" i="1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iary</a:t>
              </a:r>
              <a:endParaRPr b="1" i="1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2" name="Text Box 7"/>
          <p:cNvSpPr/>
          <p:nvPr/>
        </p:nvSpPr>
        <p:spPr>
          <a:xfrm>
            <a:off x="2627280" y="476280"/>
            <a:ext cx="6227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Reading and writing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trategie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2781360"/>
            <a:ext cx="860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canning: locating specific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riting  descriptive text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195640" y="3141720"/>
            <a:ext cx="734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Watch</a:t>
            </a:r>
            <a:endParaRPr b="1" i="1" lang="en-US" sz="12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Picture 3" descr="j028324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68360" y="404640"/>
            <a:ext cx="324000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9640" y="527400"/>
            <a:ext cx="7993080" cy="58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iving advice and recommending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must wear...because of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must visit...because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must see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-153360"/>
            <a:ext cx="849636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iving advice and recommending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 definitely visit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 never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 avoid.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n’t miss…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-108000" y="189000"/>
            <a:ext cx="67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People should not take medicines on their own.</a:t>
            </a:r>
            <a:endParaRPr b="1" i="1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Picture 3" descr="J0178842"/>
          <p:cNvPicPr/>
          <p:nvPr/>
        </p:nvPicPr>
        <p:blipFill>
          <a:blip r:embed="rId1"/>
          <a:stretch/>
        </p:blipFill>
        <p:spPr>
          <a:xfrm>
            <a:off x="5486400" y="4406760"/>
            <a:ext cx="36576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360" y="0"/>
            <a:ext cx="761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Developing Reading   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Picture 3" descr="BD19590_"/>
          <p:cNvPicPr/>
          <p:nvPr/>
        </p:nvPicPr>
        <p:blipFill>
          <a:blip r:embed="rId1"/>
          <a:stretch/>
        </p:blipFill>
        <p:spPr>
          <a:xfrm>
            <a:off x="4932360" y="3886200"/>
            <a:ext cx="2492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765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Scann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Picture 3" descr="BD19590_"/>
          <p:cNvPicPr/>
          <p:nvPr/>
        </p:nvPicPr>
        <p:blipFill>
          <a:blip r:embed="rId1"/>
          <a:stretch/>
        </p:blipFill>
        <p:spPr>
          <a:xfrm>
            <a:off x="4932360" y="3886200"/>
            <a:ext cx="2492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01600" y="209520"/>
            <a:ext cx="876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To scan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is to read quickly to locate specific information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80316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scan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Observe the organization of the information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Read each question carefully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59:35Z</dcterms:modified>
  <cp:revision>59</cp:revision>
  <dc:subject/>
  <dc:title>PowerPoint Presentation</dc:title>
</cp:coreProperties>
</file>