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779-9CFF-4923-B629-BC483C06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61D-6B26-419B-BA4C-0EBE565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9E7-5471-4CBC-B6E6-FC8C444D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43C-7B9B-4652-864C-AEACC92D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DC8-1A3F-4659-957B-AF6E7752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384-FF3D-422E-AB5D-ECEC336C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8B7-8E0E-49AF-A2A3-DD06490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194-014E-4188-8D5E-AC00E6D5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477-4564-4CEE-8F8F-E567CAB2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B94-F7F3-4603-89FD-DCD5C3D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845-9437-418E-A43D-E0189B2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8D8-4CD9-4239-9B76-BFADF7C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06E0-9B80-4CF2-9426-B0B6BCFBE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03640" y="836640"/>
            <a:ext cx="5364000" cy="38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lking abou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s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mories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3" descr="J0202096"/>
          <p:cNvPicPr/>
          <p:nvPr/>
        </p:nvPicPr>
        <p:blipFill>
          <a:blip r:embed="rId1"/>
          <a:stretch/>
        </p:blipFill>
        <p:spPr>
          <a:xfrm>
            <a:off x="0" y="213372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00000" y="1052640"/>
            <a:ext cx="7272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Read  the following passage and  select the  ideas that can be related  to your  own experience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71640" y="220500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Memories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55640" y="2205000"/>
            <a:ext cx="813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11280" y="620640"/>
            <a:ext cx="828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have good memories of  the celebrations  with my family. We used  to get together every Sunday morning for a special lunch. We really enjoyed it. It was great!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50920" y="179280"/>
            <a:ext cx="8893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also remember my days as a high school student. I  used  to play tennis in the school team. Because we used to play against  other teams on weekends , we   practiced  twice a week  in the afternoon.  We usually won. We all had  fun together.  I  love  the old days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476280"/>
            <a:ext cx="860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the conversation  with your  partner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3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9640" y="265212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600" spc="-1" strike="noStrike">
                <a:solidFill>
                  <a:srgbClr val="ffff00"/>
                </a:solidFill>
                <a:latin typeface="Times New Roman"/>
              </a:rPr>
              <a:t>Writing Tips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4920" y="0"/>
          <a:ext cx="9074160" cy="6918480"/>
        </p:xfrm>
        <a:graphic>
          <a:graphicData uri="http://schemas.openxmlformats.org/drawingml/2006/table">
            <a:tbl>
              <a:tblPr/>
              <a:tblGrid>
                <a:gridCol w="3024360"/>
                <a:gridCol w="2773080"/>
                <a:gridCol w="3276720"/>
              </a:tblGrid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1"/>
          <p:cNvSpPr/>
          <p:nvPr/>
        </p:nvSpPr>
        <p:spPr>
          <a:xfrm>
            <a:off x="0" y="260280"/>
            <a:ext cx="31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3456000" y="290520"/>
            <a:ext cx="31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Bod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5832360" y="333360"/>
            <a:ext cx="31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79280" y="1484280"/>
            <a:ext cx="2592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General statemen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ime &amp; plac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059280" y="1484280"/>
            <a:ext cx="287964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happened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eople’s rol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5940360" y="1268280"/>
            <a:ext cx="320364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happened  at  the end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ow people fel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ow it’s remembere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908000" y="184464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600" spc="-1" strike="noStrike">
                <a:solidFill>
                  <a:srgbClr val="ffff00"/>
                </a:solidFill>
                <a:latin typeface="Times New Roman"/>
              </a:rPr>
              <a:t>Complete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50920" y="692280"/>
            <a:ext cx="88930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ecilia is  from ______.  She  is  married. She has  children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en  she  lived  in _____, she  _____ horses, so she  _____ ride and ____ to pretend she was a cowbo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85880" y="1285920"/>
            <a:ext cx="7345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24000" y="260280"/>
            <a:ext cx="84960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ecilia is  from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weden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  She  is  married. She has  children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en  she  lived  in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weden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, she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liked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horses, so she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used to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ride and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used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o pretend she was a cowbo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-73080" y="18900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Developing Reading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and writing             Strategie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3" descr="BD19590_"/>
          <p:cNvPicPr/>
          <p:nvPr/>
        </p:nvPicPr>
        <p:blipFill>
          <a:blip r:embed="rId1"/>
          <a:stretch/>
        </p:blipFill>
        <p:spPr>
          <a:xfrm>
            <a:off x="7020000" y="260280"/>
            <a:ext cx="212400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237627"/>
          <p:cNvPicPr/>
          <p:nvPr/>
        </p:nvPicPr>
        <p:blipFill>
          <a:blip r:embed="rId2"/>
          <a:stretch/>
        </p:blipFill>
        <p:spPr>
          <a:xfrm>
            <a:off x="250920" y="4724280"/>
            <a:ext cx="2050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109080"/>
            <a:ext cx="8425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Times New Roman"/>
              </a:rPr>
              <a:t>Making connection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To make connections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- Relate the information  in the text to your ow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experienc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_ Relate the information in the text to what you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know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6:04:22Z</dcterms:created>
  <dc:creator>LTEL</dc:creator>
  <dc:description/>
  <dc:language>en-US</dc:language>
  <cp:lastModifiedBy>Maria de los Angeles</cp:lastModifiedBy>
  <dcterms:modified xsi:type="dcterms:W3CDTF">2013-10-30T08:27:17Z</dcterms:modified>
  <cp:revision>74</cp:revision>
  <dc:subject/>
  <dc:title>Diapositiva 1</dc:title>
</cp:coreProperties>
</file>