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FB6-9A1A-439E-AB9A-7CBFA8E6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66A-0D72-49AF-9B7F-974802D3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D61-DACC-4B78-881B-7679D580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87E-E2E4-4C0D-8005-57D4C00F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B83-CC86-4915-B373-777ECE8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17F-0EBB-43F8-AC8B-8B09D31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36C-4177-4D3C-AB39-1FD52AE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E8E-D8BC-48FD-96BA-2DC6C72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895-3A8F-43E9-9D3A-36CC9877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959-48A6-48B5-8EDC-855F699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868-C708-4CA3-BA29-C565A65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1AC-D729-4E86-B518-5663558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0ACA-8700-45DE-9094-11B42DDF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03640" y="836640"/>
            <a:ext cx="5364000" cy="38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lking abou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t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mories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3" descr="J0202096"/>
          <p:cNvPicPr/>
          <p:nvPr/>
        </p:nvPicPr>
        <p:blipFill>
          <a:blip r:embed="rId1"/>
          <a:stretch/>
        </p:blipFill>
        <p:spPr>
          <a:xfrm>
            <a:off x="0" y="213372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00000" y="105264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Read  the following passage and  select the  ideas that can be related  to your  own experienc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71640" y="220500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Memorie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55640" y="2205000"/>
            <a:ext cx="813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11280" y="620640"/>
            <a:ext cx="828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have good memories of  the celebrations  with my family. We used  to get together every Sunday morning for a special lunch. We really enjoyed it. It was great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50920" y="179280"/>
            <a:ext cx="8893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also remember my days as a high school student. I  used  to play tennis in the school team. Because we used to play against  other teams on weekends , we   practiced  twice a week  in the afternoon.  We usually won. We all had  fun together.  I  love  the old days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476280"/>
            <a:ext cx="86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the conversation  with your  partne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9640" y="26521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600" spc="-1" strike="noStrike">
                <a:solidFill>
                  <a:srgbClr val="ffff00"/>
                </a:solidFill>
                <a:latin typeface="Times New Roman"/>
              </a:rPr>
              <a:t>Writing Tips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920" y="0"/>
          <a:ext cx="9074160" cy="6918480"/>
        </p:xfrm>
        <a:graphic>
          <a:graphicData uri="http://schemas.openxmlformats.org/drawingml/2006/table">
            <a:tbl>
              <a:tblPr/>
              <a:tblGrid>
                <a:gridCol w="3024360"/>
                <a:gridCol w="2773080"/>
                <a:gridCol w="3276720"/>
              </a:tblGrid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1"/>
          <p:cNvSpPr/>
          <p:nvPr/>
        </p:nvSpPr>
        <p:spPr>
          <a:xfrm>
            <a:off x="0" y="260280"/>
            <a:ext cx="31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456000" y="290520"/>
            <a:ext cx="31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Bod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832360" y="333360"/>
            <a:ext cx="31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79280" y="1484280"/>
            <a:ext cx="2592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eneral statemen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ime &amp; plac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059280" y="1484280"/>
            <a:ext cx="287964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happene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eople’s rol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940360" y="1268280"/>
            <a:ext cx="320364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happened  at  the en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 people fel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ow it’s remembere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908000" y="18446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Complete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50920" y="692280"/>
            <a:ext cx="88930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ecilia is  from ______.  She  is  married. She has  children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en  she  lived  in _____, she  _____ horses, so she  _____ ride and ____ to pretend she was a cowbo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85880" y="1285920"/>
            <a:ext cx="7345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24000" y="260280"/>
            <a:ext cx="84960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ecilia is  from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weden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  She  is  married. She has  children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en  she  lived  in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weden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she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liked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horses, so she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ed to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ride and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used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pretend she was a cowbo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-73080" y="189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Developing Reading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and writing             Strategie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3" descr="BD19590_"/>
          <p:cNvPicPr/>
          <p:nvPr/>
        </p:nvPicPr>
        <p:blipFill>
          <a:blip r:embed="rId1"/>
          <a:stretch/>
        </p:blipFill>
        <p:spPr>
          <a:xfrm>
            <a:off x="7020000" y="260280"/>
            <a:ext cx="212400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237627"/>
          <p:cNvPicPr/>
          <p:nvPr/>
        </p:nvPicPr>
        <p:blipFill>
          <a:blip r:embed="rId2"/>
          <a:stretch/>
        </p:blipFill>
        <p:spPr>
          <a:xfrm>
            <a:off x="250920" y="472428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109080"/>
            <a:ext cx="8425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Making connectio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To make connections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- Relate the information  in the text to your ow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experien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_ Relate the information in the text to what you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know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30T08:27:17Z</dcterms:modified>
  <cp:revision>74</cp:revision>
  <dc:subject/>
  <dc:title>Diapositiva 1</dc:title>
</cp:coreProperties>
</file>