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B4E6-0DE5-4378-B940-15871FEC7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2671-82EA-4807-A95B-34C8B745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1EC9-6534-4FCB-8B87-9A76DF510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FFAA-84B9-4D8F-B0D2-506A2B603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CF92-B0F0-4877-9DED-1218E919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A677-720A-47BA-812A-62C67576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607B-ABFD-449A-9E84-58BD05E7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9565-6122-4278-B183-9AF63C22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508D-9377-4C7E-B4F5-50EEA02C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5B1E-8EAD-4033-9D18-0856E411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EB9F-5C74-4B80-B510-0FF97AC4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AF26-BB61-48A6-B222-0301F7A0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1CC8-034B-4D32-B577-AC55ADBFB14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116000" y="476280"/>
            <a:ext cx="6985080" cy="41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at did you do</a:t>
            </a:r>
            <a:endParaRPr b="1" i="1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1" i="1" lang="en-US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yesterday?</a:t>
            </a:r>
            <a:endParaRPr b="1" i="1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620360" y="5456160"/>
            <a:ext cx="632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</a:rPr>
              <a:t>The Past Tense  (I)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2124000" y="2205000"/>
            <a:ext cx="4464000" cy="1079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767600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Times New Roman"/>
              </a:rPr>
              <a:t>kissed</a:t>
            </a:r>
            <a:endParaRPr b="1" i="1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2124000" y="5394240"/>
            <a:ext cx="4608720" cy="1130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767600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Times New Roman"/>
              </a:rPr>
              <a:t>danced</a:t>
            </a:r>
            <a:endParaRPr b="1" i="1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WordArt 5"/>
          <p:cNvSpPr txBox="1"/>
          <p:nvPr/>
        </p:nvSpPr>
        <p:spPr>
          <a:xfrm>
            <a:off x="1619280" y="404640"/>
            <a:ext cx="6048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amples</a:t>
            </a:r>
            <a:endParaRPr b="1" i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693080" y="476280"/>
            <a:ext cx="5621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00"/>
                </a:solidFill>
                <a:latin typeface="Times New Roman"/>
              </a:rPr>
              <a:t>The ending -</a:t>
            </a:r>
            <a:r>
              <a:rPr b="1" i="1" lang="es-ES" sz="6000" spc="-1" strike="noStrike" u="sng">
                <a:solidFill>
                  <a:srgbClr val="ffff00"/>
                </a:solidFill>
                <a:uFillTx/>
                <a:latin typeface="Times New Roman"/>
              </a:rPr>
              <a:t>ed</a:t>
            </a:r>
            <a:r>
              <a:rPr b="1" i="1" lang="es-ES" sz="6000" spc="-1" strike="noStrike">
                <a:solidFill>
                  <a:srgbClr val="ffff00"/>
                </a:solidFill>
                <a:latin typeface="Times New Roman"/>
              </a:rPr>
              <a:t> is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" sz="6000" spc="-1" strike="noStrike">
                <a:solidFill>
                  <a:srgbClr val="ffff00"/>
                </a:solidFill>
                <a:latin typeface="Times New Roman"/>
              </a:rPr>
              <a:t>pronounced: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900000" y="3341520"/>
            <a:ext cx="70232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00"/>
                </a:solidFill>
                <a:latin typeface="Times New Roman"/>
              </a:rPr>
              <a:t>/id/</a:t>
            </a:r>
            <a:r>
              <a:rPr b="1" lang="es-ES" sz="6600" spc="-1" strike="noStrike">
                <a:solidFill>
                  <a:srgbClr val="ffffff"/>
                </a:solidFill>
                <a:latin typeface="Times New Roman"/>
              </a:rPr>
              <a:t> después de</a:t>
            </a:r>
            <a:endParaRPr b="1" i="1" lang="en-US" sz="6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6600" spc="-1" strike="noStrike">
                <a:solidFill>
                  <a:srgbClr val="ffffff"/>
                </a:solidFill>
                <a:latin typeface="Times New Roman"/>
              </a:rPr>
              <a:t>/d/  y  /t/</a:t>
            </a:r>
            <a:endParaRPr b="1" i="1" lang="en-US" sz="6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124000" y="2205000"/>
            <a:ext cx="4464000" cy="1079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767600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endParaRPr b="1" i="1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2124000" y="3738600"/>
            <a:ext cx="4608720" cy="1203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767600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Times New Roman"/>
              </a:rPr>
              <a:t>intended</a:t>
            </a:r>
            <a:endParaRPr b="1" i="1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124000" y="5394240"/>
            <a:ext cx="4608720" cy="1130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767600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Times New Roman"/>
              </a:rPr>
              <a:t>accepted</a:t>
            </a:r>
            <a:endParaRPr b="1" i="1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WordArt 5"/>
          <p:cNvSpPr txBox="1"/>
          <p:nvPr/>
        </p:nvSpPr>
        <p:spPr>
          <a:xfrm>
            <a:off x="1619280" y="404640"/>
            <a:ext cx="6048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amples</a:t>
            </a:r>
            <a:endParaRPr b="1" i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j0297265"/>
          <p:cNvPicPr/>
          <p:nvPr/>
        </p:nvPicPr>
        <p:blipFill>
          <a:blip r:embed="rId1"/>
          <a:stretch/>
        </p:blipFill>
        <p:spPr>
          <a:xfrm>
            <a:off x="2843280" y="2205000"/>
            <a:ext cx="2952720" cy="24764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395280" y="333360"/>
            <a:ext cx="7632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1" i="1" lang="en-US" sz="117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425520" y="357120"/>
            <a:ext cx="862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00"/>
                </a:solidFill>
                <a:latin typeface="Times New Roman"/>
              </a:rPr>
              <a:t>Tick the most appropriate  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00"/>
                </a:solidFill>
                <a:latin typeface="Times New Roman"/>
              </a:rPr>
              <a:t>pronunciation 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6"/>
          <p:cNvSpPr/>
          <p:nvPr/>
        </p:nvSpPr>
        <p:spPr>
          <a:xfrm>
            <a:off x="541440" y="1386000"/>
            <a:ext cx="27716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Times New Roman"/>
              </a:rPr>
              <a:t>returned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Times New Roman"/>
              </a:rPr>
              <a:t>accepted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Times New Roman"/>
              </a:rPr>
              <a:t>arrived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Times New Roman"/>
              </a:rPr>
              <a:t>danced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428360" y="260280"/>
            <a:ext cx="123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imes New Roman"/>
              </a:rPr>
              <a:t>/id/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6279480" y="26028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imes New Roman"/>
              </a:rPr>
              <a:t>/d/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7889040" y="262080"/>
            <a:ext cx="85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imes New Roman"/>
              </a:rPr>
              <a:t>/t/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6400440" y="1131840"/>
            <a:ext cx="58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>
                <a:solidFill>
                  <a:srgbClr val="ffff00"/>
                </a:solidFill>
                <a:latin typeface="Wingdings"/>
                <a:ea typeface="Wingdings"/>
              </a:rPr>
              <a:t></a:t>
            </a:r>
            <a:endParaRPr b="1" i="1" lang="en-US" sz="8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4601880" y="2427120"/>
            <a:ext cx="58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>
                <a:solidFill>
                  <a:srgbClr val="ffff00"/>
                </a:solidFill>
                <a:latin typeface="Wingdings"/>
                <a:ea typeface="Wingdings"/>
              </a:rPr>
              <a:t></a:t>
            </a:r>
            <a:endParaRPr b="1" i="1" lang="en-US" sz="8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6400440" y="3651120"/>
            <a:ext cx="58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>
                <a:solidFill>
                  <a:srgbClr val="ffff00"/>
                </a:solidFill>
                <a:latin typeface="Wingdings"/>
                <a:ea typeface="Wingdings"/>
              </a:rPr>
              <a:t></a:t>
            </a:r>
            <a:endParaRPr b="1" i="1" lang="en-US" sz="8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7986240" y="4941720"/>
            <a:ext cx="58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>
                <a:solidFill>
                  <a:srgbClr val="ffff00"/>
                </a:solidFill>
                <a:latin typeface="Wingdings"/>
                <a:ea typeface="Wingdings"/>
              </a:rPr>
              <a:t></a:t>
            </a:r>
            <a:endParaRPr b="1" i="1" lang="en-US" sz="8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499680" y="1643040"/>
            <a:ext cx="778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00"/>
                </a:solidFill>
                <a:latin typeface="Times New Roman"/>
              </a:rPr>
              <a:t>Select the verb that best 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00"/>
                </a:solidFill>
                <a:latin typeface="Times New Roman"/>
              </a:rPr>
              <a:t>suits what you did.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468360" y="40464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What did you do yesterday?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24000" y="184464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95280" y="1700280"/>
            <a:ext cx="849780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worked – cleaned – painted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washed – cooked – studied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played – danced – watched  TV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611280" y="620640"/>
            <a:ext cx="813744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Are they referring to: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spcBef>
                <a:spcPts val="3750"/>
              </a:spcBef>
              <a:buClr>
                <a:srgbClr val="ffff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present  activities.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spcBef>
                <a:spcPts val="3750"/>
              </a:spcBef>
              <a:buClr>
                <a:srgbClr val="ffff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future activities.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spcBef>
                <a:spcPts val="3750"/>
              </a:spcBef>
              <a:buClr>
                <a:srgbClr val="ffff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past  activities.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1403280" y="4869000"/>
            <a:ext cx="4586400" cy="9144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785880" y="785880"/>
            <a:ext cx="792936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Complete the rap by providing a verb according to the situation described.   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826920" y="907920"/>
            <a:ext cx="7632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Reflecting</a:t>
            </a: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on</a:t>
            </a: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Language</a:t>
            </a:r>
            <a:endParaRPr b="1" i="1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4" name="Picture 3" descr="j0293466"/>
          <p:cNvPicPr/>
          <p:nvPr/>
        </p:nvPicPr>
        <p:blipFill>
          <a:blip r:embed="rId1"/>
          <a:stretch/>
        </p:blipFill>
        <p:spPr>
          <a:xfrm>
            <a:off x="250920" y="260280"/>
            <a:ext cx="1800000" cy="2305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j0299125"/>
          <p:cNvPicPr/>
          <p:nvPr/>
        </p:nvPicPr>
        <p:blipFill>
          <a:blip r:embed="rId2"/>
          <a:stretch/>
        </p:blipFill>
        <p:spPr>
          <a:xfrm>
            <a:off x="7524720" y="4292640"/>
            <a:ext cx="1619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900000" y="404640"/>
            <a:ext cx="770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Finish the rap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468360" y="1341360"/>
            <a:ext cx="828036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What did you do today?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I _____my floors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Your ______?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Yes! I _____ my floors all day!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468360" y="765000"/>
            <a:ext cx="828036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What did you do today?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I _____my house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Your ______?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Yes! I _____ my house all day!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468360" y="765000"/>
            <a:ext cx="828036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What did you do today?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I _____my porch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Your ______?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Yes! I _____ my porch all day!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468360" y="765000"/>
            <a:ext cx="828036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What did you do today?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I _____my  sink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Your ______?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Yes! I _____ my sink all day!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971640" y="476280"/>
            <a:ext cx="727236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I ______ my floors.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I ______ my house.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I _____my porch.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I ____ my sink.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We worked  at home all  day!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500040" y="1285920"/>
            <a:ext cx="821520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9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s-ES_tradnl" sz="7200" spc="-1" strike="noStrike">
                <a:solidFill>
                  <a:srgbClr val="ffff00"/>
                </a:solidFill>
                <a:latin typeface="Times New Roman"/>
              </a:rPr>
              <a:t>Possible answers </a:t>
            </a:r>
            <a:endParaRPr b="1" i="1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468360" y="765000"/>
            <a:ext cx="828036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What did you do today?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I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washed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my floors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Your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floors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Yes! I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cleaned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my floors all day!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468360" y="765000"/>
            <a:ext cx="828036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What did you do today?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I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cleaned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my house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Your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house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Yes! I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cleaned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my house all day!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68360" y="765000"/>
            <a:ext cx="828036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What did you do today?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I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painted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my porch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Your 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porch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Yes! I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painted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my porch all day!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468360" y="765000"/>
            <a:ext cx="828036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What did you do today?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I  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fixed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my  sink.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Your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sink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Yes! I 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fixed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my sink all day!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1908000" y="1069920"/>
            <a:ext cx="6912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We use  the simple  past to speak about actions that finished  at a stated time in the past.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7" name="Picture 5" descr="j0293466"/>
          <p:cNvPicPr/>
          <p:nvPr/>
        </p:nvPicPr>
        <p:blipFill>
          <a:blip r:embed="rId1"/>
          <a:stretch/>
        </p:blipFill>
        <p:spPr>
          <a:xfrm>
            <a:off x="250920" y="260280"/>
            <a:ext cx="1800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971640" y="476280"/>
            <a:ext cx="727236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I washed my floors.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I cleaned my house.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I painted my porch.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I fixed my sink.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We worked  at home all  day!</a:t>
            </a:r>
            <a:endParaRPr b="1" i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800280" y="2168640"/>
            <a:ext cx="297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ffff"/>
                </a:solidFill>
                <a:latin typeface="Times New Roman"/>
              </a:rPr>
              <a:t>subject</a:t>
            </a:r>
            <a:endParaRPr b="1" i="1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4134240" y="2422440"/>
            <a:ext cx="61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046840" y="1868400"/>
            <a:ext cx="384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imes New Roman"/>
              </a:rPr>
              <a:t>action verb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imes New Roman"/>
              </a:rPr>
              <a:t>(past form)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285000" y="260280"/>
            <a:ext cx="236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ff00"/>
                </a:solidFill>
                <a:latin typeface="Times New Roman"/>
              </a:rPr>
              <a:t>Form</a:t>
            </a:r>
            <a:endParaRPr b="1" i="1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827080" y="5229360"/>
            <a:ext cx="478080" cy="1008360"/>
          </a:xfrm>
          <a:prstGeom prst="rect">
            <a:avLst/>
          </a:prstGeom>
          <a:gradFill rotWithShape="0">
            <a:gsLst>
              <a:gs pos="0">
                <a:srgbClr val="00ffff">
                  <a:alpha val="50196"/>
                </a:srgbClr>
              </a:gs>
              <a:gs pos="100000">
                <a:srgbClr val="007676">
                  <a:alpha val="50196"/>
                </a:srgbClr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4250160" y="5229360"/>
            <a:ext cx="2783520" cy="1008360"/>
          </a:xfrm>
          <a:prstGeom prst="rect">
            <a:avLst/>
          </a:prstGeom>
          <a:gradFill rotWithShape="0">
            <a:gsLst>
              <a:gs pos="0">
                <a:srgbClr val="00ffff">
                  <a:alpha val="50196"/>
                </a:srgbClr>
              </a:gs>
              <a:gs pos="100000">
                <a:srgbClr val="007676">
                  <a:alpha val="50196"/>
                </a:srgbClr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</a:rPr>
              <a:t>work</a:t>
            </a:r>
            <a:r>
              <a:rPr b="1" i="1" lang="es-ES" sz="6000" spc="-1" strike="noStrike">
                <a:solidFill>
                  <a:srgbClr val="ffff00"/>
                </a:solidFill>
                <a:latin typeface="Times New Roman"/>
              </a:rPr>
              <a:t>ed</a:t>
            </a:r>
            <a:r>
              <a:rPr b="1" lang="es-ES" sz="6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2921040" y="298440"/>
            <a:ext cx="2911320" cy="2050920"/>
          </a:xfrm>
          <a:prstGeom prst="downArrowCallout">
            <a:avLst>
              <a:gd name="adj1" fmla="val 35452"/>
              <a:gd name="adj2" fmla="val 42026"/>
              <a:gd name="adj3" fmla="val 21440"/>
              <a:gd name="adj4" fmla="val 65713"/>
            </a:avLst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AutoShape 9"/>
          <p:cNvSpPr/>
          <p:nvPr/>
        </p:nvSpPr>
        <p:spPr>
          <a:xfrm rot="3891600">
            <a:off x="1634760" y="3907800"/>
            <a:ext cx="1589040" cy="741600"/>
          </a:xfrm>
          <a:prstGeom prst="pie">
            <a:avLst/>
          </a:prstGeom>
          <a:gradFill rotWithShape="0">
            <a:gsLst>
              <a:gs pos="0">
                <a:srgbClr val="ffff00">
                  <a:alpha val="32156"/>
                </a:srgbClr>
              </a:gs>
              <a:gs pos="100000">
                <a:srgbClr val="767600">
                  <a:alpha val="52156"/>
                </a:srgbClr>
              </a:gs>
            </a:gsLst>
            <a:lin ang="15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AutoShape 10"/>
          <p:cNvSpPr/>
          <p:nvPr/>
        </p:nvSpPr>
        <p:spPr>
          <a:xfrm rot="6826200">
            <a:off x="5905440" y="4125600"/>
            <a:ext cx="1589040" cy="668160"/>
          </a:xfrm>
          <a:prstGeom prst="pie">
            <a:avLst/>
          </a:prstGeom>
          <a:gradFill rotWithShape="0">
            <a:gsLst>
              <a:gs pos="0">
                <a:srgbClr val="ffff00">
                  <a:alpha val="32156"/>
                </a:srgbClr>
              </a:gs>
              <a:gs pos="100000">
                <a:srgbClr val="767600">
                  <a:alpha val="52156"/>
                </a:srgbClr>
              </a:gs>
            </a:gsLst>
            <a:lin ang="2017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840320" y="82440"/>
            <a:ext cx="579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ff"/>
                </a:solidFill>
                <a:latin typeface="Times New Roman"/>
              </a:rPr>
              <a:t>Time Expressions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Line 3"/>
          <p:cNvSpPr/>
          <p:nvPr/>
        </p:nvSpPr>
        <p:spPr>
          <a:xfrm flipV="1">
            <a:off x="3851280" y="2464920"/>
            <a:ext cx="2160720" cy="784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531360" y="1449360"/>
            <a:ext cx="3314160" cy="1008360"/>
          </a:xfrm>
          <a:prstGeom prst="rect">
            <a:avLst/>
          </a:prstGeom>
          <a:gradFill rotWithShape="0">
            <a:gsLst>
              <a:gs pos="0">
                <a:srgbClr val="00ffff">
                  <a:alpha val="50196"/>
                </a:srgbClr>
              </a:gs>
              <a:gs pos="100000">
                <a:srgbClr val="007676">
                  <a:alpha val="50196"/>
                </a:srgbClr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</a:rPr>
              <a:t>yesterday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6018120" y="1628640"/>
            <a:ext cx="1619280" cy="1008360"/>
          </a:xfrm>
          <a:prstGeom prst="rect">
            <a:avLst/>
          </a:prstGeom>
          <a:gradFill rotWithShape="0">
            <a:gsLst>
              <a:gs pos="0">
                <a:srgbClr val="00ffff">
                  <a:alpha val="50196"/>
                </a:srgbClr>
              </a:gs>
              <a:gs pos="100000">
                <a:srgbClr val="007676">
                  <a:alpha val="50196"/>
                </a:srgbClr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</a:rPr>
              <a:t>year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2520360" y="2773440"/>
            <a:ext cx="1325160" cy="1008360"/>
          </a:xfrm>
          <a:prstGeom prst="rect">
            <a:avLst/>
          </a:prstGeom>
          <a:gradFill rotWithShape="0">
            <a:gsLst>
              <a:gs pos="0">
                <a:srgbClr val="00ffff">
                  <a:alpha val="50196"/>
                </a:srgbClr>
              </a:gs>
              <a:gs pos="100000">
                <a:srgbClr val="007676">
                  <a:alpha val="50196"/>
                </a:srgbClr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</a:rPr>
              <a:t>last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5973840" y="2984400"/>
            <a:ext cx="1831320" cy="1008360"/>
          </a:xfrm>
          <a:prstGeom prst="rect">
            <a:avLst/>
          </a:prstGeom>
          <a:gradFill rotWithShape="0">
            <a:gsLst>
              <a:gs pos="0">
                <a:srgbClr val="00ffff">
                  <a:alpha val="50196"/>
                </a:srgbClr>
              </a:gs>
              <a:gs pos="100000">
                <a:srgbClr val="007676">
                  <a:alpha val="50196"/>
                </a:srgbClr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</a:rPr>
              <a:t>week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5624640" y="4361040"/>
            <a:ext cx="2352600" cy="1008360"/>
          </a:xfrm>
          <a:prstGeom prst="rect">
            <a:avLst/>
          </a:prstGeom>
          <a:gradFill rotWithShape="0">
            <a:gsLst>
              <a:gs pos="0">
                <a:srgbClr val="00ffff">
                  <a:alpha val="50196"/>
                </a:srgbClr>
              </a:gs>
              <a:gs pos="100000">
                <a:srgbClr val="007676">
                  <a:alpha val="50196"/>
                </a:srgbClr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</a:rPr>
              <a:t>month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5158080" y="5653080"/>
            <a:ext cx="3187440" cy="1008360"/>
          </a:xfrm>
          <a:prstGeom prst="rect">
            <a:avLst/>
          </a:prstGeom>
          <a:gradFill rotWithShape="0">
            <a:gsLst>
              <a:gs pos="0">
                <a:srgbClr val="00ffff">
                  <a:alpha val="50196"/>
                </a:srgbClr>
              </a:gs>
              <a:gs pos="100000">
                <a:srgbClr val="007676">
                  <a:alpha val="50196"/>
                </a:srgbClr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00"/>
                </a:solidFill>
                <a:latin typeface="Times New Roman"/>
              </a:rPr>
              <a:t>Saturday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Line 10"/>
          <p:cNvSpPr/>
          <p:nvPr/>
        </p:nvSpPr>
        <p:spPr>
          <a:xfrm>
            <a:off x="3851280" y="3313080"/>
            <a:ext cx="2116080" cy="476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Line 11"/>
          <p:cNvSpPr/>
          <p:nvPr/>
        </p:nvSpPr>
        <p:spPr>
          <a:xfrm>
            <a:off x="3851280" y="3313080"/>
            <a:ext cx="1773360" cy="1736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Line 12"/>
          <p:cNvSpPr/>
          <p:nvPr/>
        </p:nvSpPr>
        <p:spPr>
          <a:xfrm>
            <a:off x="3851280" y="3313080"/>
            <a:ext cx="1300320" cy="2340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265040" y="1197000"/>
            <a:ext cx="2297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imes New Roman"/>
              </a:rPr>
              <a:t>arrive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imes New Roman"/>
              </a:rPr>
              <a:t>wait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imes New Roman"/>
              </a:rPr>
              <a:t>accept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imes New Roman"/>
              </a:rPr>
              <a:t>enjoy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imes New Roman"/>
              </a:rPr>
              <a:t>return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imes New Roman"/>
              </a:rPr>
              <a:t>dance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5078160" y="1197000"/>
            <a:ext cx="2297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imes New Roman"/>
              </a:rPr>
              <a:t>arrive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imes New Roman"/>
              </a:rPr>
              <a:t>wait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imes New Roman"/>
              </a:rPr>
              <a:t>accept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imes New Roman"/>
              </a:rPr>
              <a:t>enjoy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imes New Roman"/>
              </a:rPr>
              <a:t>return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imes New Roman"/>
              </a:rPr>
              <a:t>dance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6792840" y="119700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 u="sng">
                <a:solidFill>
                  <a:srgbClr val="ffff00"/>
                </a:solidFill>
                <a:uFillTx/>
                <a:latin typeface="Times New Roman"/>
              </a:rPr>
              <a:t>ed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6865920" y="2060640"/>
            <a:ext cx="94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 u="sng">
                <a:solidFill>
                  <a:srgbClr val="ffff00"/>
                </a:solidFill>
                <a:uFillTx/>
                <a:latin typeface="Times New Roman"/>
              </a:rPr>
              <a:t>ed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7223040" y="2998800"/>
            <a:ext cx="94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 u="sng">
                <a:solidFill>
                  <a:srgbClr val="ffff00"/>
                </a:solidFill>
                <a:uFillTx/>
                <a:latin typeface="Times New Roman"/>
              </a:rPr>
              <a:t>ed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7008840" y="393372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 u="sng">
                <a:solidFill>
                  <a:srgbClr val="ffff00"/>
                </a:solidFill>
                <a:uFillTx/>
                <a:latin typeface="Times New Roman"/>
              </a:rPr>
              <a:t>ed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162560" y="486900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 u="sng">
                <a:solidFill>
                  <a:srgbClr val="ffff00"/>
                </a:solidFill>
                <a:uFillTx/>
                <a:latin typeface="Times New Roman"/>
              </a:rPr>
              <a:t>ed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6732720" y="5734080"/>
            <a:ext cx="94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 u="sng">
                <a:solidFill>
                  <a:srgbClr val="ffff00"/>
                </a:solidFill>
                <a:uFillTx/>
                <a:latin typeface="Times New Roman"/>
              </a:rPr>
              <a:t>ed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2172960" y="252360"/>
            <a:ext cx="4732920" cy="1008360"/>
          </a:xfrm>
          <a:prstGeom prst="rect">
            <a:avLst/>
          </a:prstGeom>
          <a:gradFill rotWithShape="0">
            <a:gsLst>
              <a:gs pos="0">
                <a:srgbClr val="00ffff">
                  <a:alpha val="50196"/>
                </a:srgbClr>
              </a:gs>
              <a:gs pos="100000">
                <a:srgbClr val="007676">
                  <a:alpha val="50196"/>
                </a:srgbClr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00"/>
                </a:solidFill>
                <a:latin typeface="Times New Roman"/>
              </a:rPr>
              <a:t>Regular Verbs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838880" y="-27000"/>
            <a:ext cx="5621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00"/>
                </a:solidFill>
                <a:latin typeface="Times New Roman"/>
              </a:rPr>
              <a:t>The ending -</a:t>
            </a:r>
            <a:r>
              <a:rPr b="1" i="1" lang="es-ES" sz="6000" spc="-1" strike="noStrike" u="sng">
                <a:solidFill>
                  <a:srgbClr val="ffff00"/>
                </a:solidFill>
                <a:uFillTx/>
                <a:latin typeface="Times New Roman"/>
              </a:rPr>
              <a:t>ed</a:t>
            </a:r>
            <a:r>
              <a:rPr b="1" i="1" lang="es-ES" sz="6000" spc="-1" strike="noStrike">
                <a:solidFill>
                  <a:srgbClr val="ffff00"/>
                </a:solidFill>
                <a:latin typeface="Times New Roman"/>
              </a:rPr>
              <a:t> is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" sz="6000" spc="-1" strike="noStrike">
                <a:solidFill>
                  <a:srgbClr val="ffff00"/>
                </a:solidFill>
                <a:latin typeface="Times New Roman"/>
              </a:rPr>
              <a:t>pronounced: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669240" y="1916280"/>
            <a:ext cx="7840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00"/>
                </a:solidFill>
                <a:latin typeface="Times New Roman"/>
              </a:rPr>
              <a:t>/d/</a:t>
            </a:r>
            <a:r>
              <a:rPr b="1" lang="es-ES" sz="5400" spc="-1" strike="noStrike">
                <a:solidFill>
                  <a:srgbClr val="ffffff"/>
                </a:solidFill>
                <a:latin typeface="Times New Roman"/>
              </a:rPr>
              <a:t> después de todos los 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Times New Roman"/>
              </a:rPr>
              <a:t>sonidos vocálicos y de los 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Times New Roman"/>
              </a:rPr>
              <a:t>sonidos consonánticos que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5400" spc="-1" strike="noStrike">
                <a:solidFill>
                  <a:srgbClr val="ffffff"/>
                </a:solidFill>
                <a:latin typeface="Times New Roman"/>
              </a:rPr>
              <a:t>vibran (voiced sounds)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54200" y="5589720"/>
            <a:ext cx="770544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ff"/>
                </a:solidFill>
                <a:latin typeface="Times New Roman"/>
              </a:rPr>
              <a:t>Excepto después de /d/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5"/>
          <p:cNvSpPr/>
          <p:nvPr/>
        </p:nvSpPr>
        <p:spPr>
          <a:xfrm>
            <a:off x="2124000" y="2205000"/>
            <a:ext cx="4464000" cy="1079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767600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Times New Roman"/>
              </a:rPr>
              <a:t>planned</a:t>
            </a:r>
            <a:endParaRPr b="1" i="1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2124000" y="3738600"/>
            <a:ext cx="4608720" cy="1203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767600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Times New Roman"/>
              </a:rPr>
              <a:t>played</a:t>
            </a:r>
            <a:endParaRPr b="1" i="1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2124000" y="5394240"/>
            <a:ext cx="4608720" cy="1130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767600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Times New Roman"/>
              </a:rPr>
              <a:t>returned</a:t>
            </a:r>
            <a:endParaRPr b="1" i="1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WordArt 8"/>
          <p:cNvSpPr txBox="1"/>
          <p:nvPr/>
        </p:nvSpPr>
        <p:spPr>
          <a:xfrm>
            <a:off x="1619280" y="404640"/>
            <a:ext cx="6048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amples</a:t>
            </a:r>
            <a:endParaRPr b="1" i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838880" y="139680"/>
            <a:ext cx="5621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00"/>
                </a:solidFill>
                <a:latin typeface="Times New Roman"/>
              </a:rPr>
              <a:t>The ending -</a:t>
            </a:r>
            <a:r>
              <a:rPr b="1" i="1" lang="es-ES" sz="6000" spc="-1" strike="noStrike" u="sng">
                <a:solidFill>
                  <a:srgbClr val="ffff00"/>
                </a:solidFill>
                <a:uFillTx/>
                <a:latin typeface="Times New Roman"/>
              </a:rPr>
              <a:t>ed</a:t>
            </a:r>
            <a:r>
              <a:rPr b="1" i="1" lang="es-ES" sz="6000" spc="-1" strike="noStrike">
                <a:solidFill>
                  <a:srgbClr val="ffff00"/>
                </a:solidFill>
                <a:latin typeface="Times New Roman"/>
              </a:rPr>
              <a:t> is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" sz="6000" spc="-1" strike="noStrike">
                <a:solidFill>
                  <a:srgbClr val="ffff00"/>
                </a:solidFill>
                <a:latin typeface="Times New Roman"/>
              </a:rPr>
              <a:t>pronounced: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411480" y="2382840"/>
            <a:ext cx="8355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00"/>
                </a:solidFill>
                <a:latin typeface="Times New Roman"/>
              </a:rPr>
              <a:t>/t/</a:t>
            </a:r>
            <a:r>
              <a:rPr b="1" lang="es-ES" sz="5400" spc="-1" strike="noStrike">
                <a:solidFill>
                  <a:srgbClr val="ffffff"/>
                </a:solidFill>
                <a:latin typeface="Times New Roman"/>
              </a:rPr>
              <a:t> después de todos los 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Times New Roman"/>
              </a:rPr>
              <a:t>sonidos consonantes que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Times New Roman"/>
              </a:rPr>
              <a:t>no vibran (voiceless sounds)</a:t>
            </a:r>
            <a:endParaRPr b="1" i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754200" y="5516640"/>
            <a:ext cx="770544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ff"/>
                </a:solidFill>
                <a:latin typeface="Times New Roman"/>
              </a:rPr>
              <a:t>Excepto después de /t/</a:t>
            </a:r>
            <a:endParaRPr b="1" i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 de los Angeles</cp:lastModifiedBy>
  <dcterms:modified xsi:type="dcterms:W3CDTF">2013-10-30T09:30:10Z</dcterms:modified>
  <cp:revision>29</cp:revision>
  <dc:subject/>
  <dc:title>PowerPoint Presentation</dc:title>
</cp:coreProperties>
</file>