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BCB-94E3-4073-A0D4-5A2F0DF2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913-29C1-4482-930E-6D2CBB20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723-7DE0-45C1-9AB8-EC7A8EE5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A3F-4250-437E-BAD6-D92C3199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B10-92D9-47C8-BD89-3D4BA7CA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328-17AC-4392-AC16-780EB569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BFB-F95B-499D-87F2-5FDAB197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47E-C120-4CC1-A89A-C35A1620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F06-3ECA-45AF-813B-2C12652E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BD0-5220-4158-8819-28863415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913-179A-4F89-80EC-9A8467DA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452-82AF-4022-9A89-6D07CADE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45B1-AC83-470D-884A-2208A39642D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16000" y="476280"/>
            <a:ext cx="69850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did you do</a:t>
            </a:r>
            <a:endParaRPr b="1" i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i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esterday?</a:t>
            </a:r>
            <a:endParaRPr b="1" i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620360" y="5456160"/>
            <a:ext cx="632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The Past Tense  (I)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124000" y="2205000"/>
            <a:ext cx="4464000" cy="1079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kissed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124000" y="5394240"/>
            <a:ext cx="4608720" cy="1130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danced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1619280" y="404640"/>
            <a:ext cx="6048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s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693080" y="476280"/>
            <a:ext cx="562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The ending -</a:t>
            </a:r>
            <a:r>
              <a:rPr b="1" i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 is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pronounced: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900000" y="3341520"/>
            <a:ext cx="7023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Times New Roman"/>
              </a:rPr>
              <a:t>/id/</a:t>
            </a:r>
            <a:r>
              <a:rPr b="1" lang="es-ES" sz="6600" spc="-1" strike="noStrike">
                <a:solidFill>
                  <a:srgbClr val="ffffff"/>
                </a:solidFill>
                <a:latin typeface="Times New Roman"/>
              </a:rPr>
              <a:t> después de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6600" spc="-1" strike="noStrike">
                <a:solidFill>
                  <a:srgbClr val="ffffff"/>
                </a:solidFill>
                <a:latin typeface="Times New Roman"/>
              </a:rPr>
              <a:t>/d/  y  /t/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124000" y="2205000"/>
            <a:ext cx="4464000" cy="1079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124000" y="3738600"/>
            <a:ext cx="4608720" cy="1203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intended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124000" y="5394240"/>
            <a:ext cx="4608720" cy="1130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accepted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1619280" y="404640"/>
            <a:ext cx="6048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s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425520" y="357120"/>
            <a:ext cx="862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Tick the most appropriate  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pronunciation 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541440" y="1386000"/>
            <a:ext cx="27716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returned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accepted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arrived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danced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428360" y="260280"/>
            <a:ext cx="12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/id/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279480" y="2602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/d/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889040" y="26208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/t/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400440" y="1131840"/>
            <a:ext cx="5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ffff00"/>
                </a:solidFill>
                <a:latin typeface="Wingdings"/>
                <a:ea typeface="Wingdings"/>
              </a:rPr>
              <a:t>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4601880" y="2427120"/>
            <a:ext cx="5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ffff00"/>
                </a:solidFill>
                <a:latin typeface="Wingdings"/>
                <a:ea typeface="Wingdings"/>
              </a:rPr>
              <a:t>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6400440" y="3651120"/>
            <a:ext cx="5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ffff00"/>
                </a:solidFill>
                <a:latin typeface="Wingdings"/>
                <a:ea typeface="Wingdings"/>
              </a:rPr>
              <a:t>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7986240" y="4941720"/>
            <a:ext cx="5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ffff00"/>
                </a:solidFill>
                <a:latin typeface="Wingdings"/>
                <a:ea typeface="Wingdings"/>
              </a:rPr>
              <a:t>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99680" y="1643040"/>
            <a:ext cx="778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Select the verb that best 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suits what you did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68360" y="40464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yester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24000" y="184464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95280" y="1700280"/>
            <a:ext cx="84978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worked – cleaned – painted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washed – cooked – studied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played – danced – watched  TV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11280" y="620640"/>
            <a:ext cx="813744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Are they referring to: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buClr>
                <a:srgbClr val="ffff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present  activities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buClr>
                <a:srgbClr val="ffff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future activities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buClr>
                <a:srgbClr val="ffff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past  activities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403280" y="4869000"/>
            <a:ext cx="4586400" cy="9144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785880" y="785880"/>
            <a:ext cx="792936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omplete the rap by providing a verb according to the situation described.   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j0299125"/>
          <p:cNvPicPr/>
          <p:nvPr/>
        </p:nvPicPr>
        <p:blipFill>
          <a:blip r:embed="rId2"/>
          <a:stretch/>
        </p:blipFill>
        <p:spPr>
          <a:xfrm>
            <a:off x="7524720" y="4292640"/>
            <a:ext cx="16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00000" y="404640"/>
            <a:ext cx="77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Finish the rap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68360" y="1341360"/>
            <a:ext cx="8280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to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_____my floors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our ______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es! I _____ my floors all day!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468360" y="765000"/>
            <a:ext cx="8280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to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_____my house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our ______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es! I _____ my house all day!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68360" y="765000"/>
            <a:ext cx="8280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to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_____my porch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our ______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es! I _____ my porch all day!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468360" y="765000"/>
            <a:ext cx="8280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to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_____my  sink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our ______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es! I _____ my sink all day!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971640" y="476280"/>
            <a:ext cx="72723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______ my floors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______ my house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_____my porch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____ my sink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We worked  at home all  day!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00040" y="1285920"/>
            <a:ext cx="82152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Possible answers </a:t>
            </a:r>
            <a:endParaRPr b="1" i="1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468360" y="765000"/>
            <a:ext cx="8280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to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washe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my floors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our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floors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es! I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cleane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my floors all day!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68360" y="765000"/>
            <a:ext cx="8280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to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cleane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my house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our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house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es! I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cleane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my house all day!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765000"/>
            <a:ext cx="8280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to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painted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y porch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our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porch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es! I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painted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y porch all day!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68360" y="765000"/>
            <a:ext cx="8280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to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fixe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my  sink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our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sink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es! I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fixe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my sink all day!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908000" y="1069920"/>
            <a:ext cx="6912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We use  the simple  past to speak about actions that finished  at a stated time in the past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7" name="Picture 5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971640" y="476280"/>
            <a:ext cx="72723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washed my floors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cleaned my house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painted my porch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fixed my sink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We worked  at home all  day!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00280" y="2168640"/>
            <a:ext cx="297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endParaRPr b="1" i="1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134240" y="242244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046840" y="1868400"/>
            <a:ext cx="384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action verb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(past form)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285000" y="260280"/>
            <a:ext cx="23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00"/>
                </a:solidFill>
                <a:latin typeface="Times New Roman"/>
              </a:rPr>
              <a:t>Form</a:t>
            </a:r>
            <a:endParaRPr b="1" i="1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827080" y="5229360"/>
            <a:ext cx="47808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250160" y="5229360"/>
            <a:ext cx="278352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work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2921040" y="298440"/>
            <a:ext cx="2911320" cy="2050920"/>
          </a:xfrm>
          <a:prstGeom prst="downArrowCallout">
            <a:avLst>
              <a:gd name="adj1" fmla="val 35452"/>
              <a:gd name="adj2" fmla="val 42026"/>
              <a:gd name="adj3" fmla="val 21440"/>
              <a:gd name="adj4" fmla="val 65713"/>
            </a:avLst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AutoShape 9"/>
          <p:cNvSpPr/>
          <p:nvPr/>
        </p:nvSpPr>
        <p:spPr>
          <a:xfrm rot="3891600">
            <a:off x="1634760" y="3907800"/>
            <a:ext cx="1589040" cy="741600"/>
          </a:xfrm>
          <a:prstGeom prst="pie">
            <a:avLst/>
          </a:prstGeom>
          <a:gradFill rotWithShape="0">
            <a:gsLst>
              <a:gs pos="0">
                <a:srgbClr val="ffff00">
                  <a:alpha val="32156"/>
                </a:srgbClr>
              </a:gs>
              <a:gs pos="100000">
                <a:srgbClr val="767600">
                  <a:alpha val="52156"/>
                </a:srgbClr>
              </a:gs>
            </a:gsLst>
            <a:lin ang="15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AutoShape 10"/>
          <p:cNvSpPr/>
          <p:nvPr/>
        </p:nvSpPr>
        <p:spPr>
          <a:xfrm rot="6826200">
            <a:off x="5905440" y="4125600"/>
            <a:ext cx="1589040" cy="668160"/>
          </a:xfrm>
          <a:prstGeom prst="pie">
            <a:avLst/>
          </a:prstGeom>
          <a:gradFill rotWithShape="0">
            <a:gsLst>
              <a:gs pos="0">
                <a:srgbClr val="ffff00">
                  <a:alpha val="32156"/>
                </a:srgbClr>
              </a:gs>
              <a:gs pos="100000">
                <a:srgbClr val="767600">
                  <a:alpha val="52156"/>
                </a:srgbClr>
              </a:gs>
            </a:gsLst>
            <a:lin ang="201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840320" y="82440"/>
            <a:ext cx="579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Time Expressions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Line 3"/>
          <p:cNvSpPr/>
          <p:nvPr/>
        </p:nvSpPr>
        <p:spPr>
          <a:xfrm flipV="1">
            <a:off x="3851280" y="2464920"/>
            <a:ext cx="2160720" cy="784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31360" y="1449360"/>
            <a:ext cx="331416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yesterday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018120" y="1628640"/>
            <a:ext cx="161928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year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520360" y="2773440"/>
            <a:ext cx="132516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last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973840" y="2984400"/>
            <a:ext cx="183132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week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624640" y="4361040"/>
            <a:ext cx="235260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month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5158080" y="5653080"/>
            <a:ext cx="318744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Saturday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851280" y="3313080"/>
            <a:ext cx="2116080" cy="476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3851280" y="3313080"/>
            <a:ext cx="1773360" cy="1736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851280" y="3313080"/>
            <a:ext cx="1300320" cy="23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265040" y="1197000"/>
            <a:ext cx="2297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arrive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wait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accept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enjoy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return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dance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078160" y="1197000"/>
            <a:ext cx="2297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arrive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wait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accept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enjoy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return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dance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792840" y="11970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865920" y="2060640"/>
            <a:ext cx="94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223040" y="2998800"/>
            <a:ext cx="94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7008840" y="3933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162560" y="48690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732720" y="5734080"/>
            <a:ext cx="94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172960" y="252360"/>
            <a:ext cx="473292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Regular Verbs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838880" y="-27000"/>
            <a:ext cx="562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The ending -</a:t>
            </a:r>
            <a:r>
              <a:rPr b="1" i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 is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pronounced: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69240" y="1916280"/>
            <a:ext cx="784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</a:rPr>
              <a:t>/d/</a:t>
            </a: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 después de todos los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sonidos vocálicos y de los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sonidos consonánticos que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vibran (voiced sounds)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54200" y="5589720"/>
            <a:ext cx="7705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ff"/>
                </a:solidFill>
                <a:latin typeface="Times New Roman"/>
              </a:rPr>
              <a:t>Excepto después de /d/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2124000" y="2205000"/>
            <a:ext cx="4464000" cy="1079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planned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124000" y="3738600"/>
            <a:ext cx="4608720" cy="1203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played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124000" y="5394240"/>
            <a:ext cx="4608720" cy="1130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returned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1619280" y="404640"/>
            <a:ext cx="6048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s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838880" y="139680"/>
            <a:ext cx="562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The ending -</a:t>
            </a:r>
            <a:r>
              <a:rPr b="1" i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 is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pronounced: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11480" y="2382840"/>
            <a:ext cx="8355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</a:rPr>
              <a:t>/t/</a:t>
            </a: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 después de todos los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sonidos consonantes que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no vibran (voiceless sounds)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54200" y="5516640"/>
            <a:ext cx="7705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ff"/>
                </a:solidFill>
                <a:latin typeface="Times New Roman"/>
              </a:rPr>
              <a:t>Excepto después de /t/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9:30:10Z</dcterms:modified>
  <cp:revision>29</cp:revision>
  <dc:subject/>
  <dc:title>PowerPoint Presentation</dc:title>
</cp:coreProperties>
</file>