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6FE4-8837-4604-A5BC-19AD1220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CE2B-D596-4F2C-85E0-9694CA9C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D225-0EBC-46BB-83E3-C86FB3B43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2D11-5C41-49BE-A311-2E3B6A6E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586A-3066-4978-8E84-81F21A62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6719-22AC-4B3C-BE83-54815DE8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7E56-2263-4683-B1B5-B977D47B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5A85-920A-41EA-A93C-63209B6F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3AAD-EA5C-4F59-A478-194A05AF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F41B-D819-460C-A7AF-711F8C88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910E-AC2B-4A03-9642-80DDB5A1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2ED4-C6D8-47B0-8C27-69F28F81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6633-4890-434A-8EB6-4799827BEF0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j0237627"/>
          <p:cNvPicPr/>
          <p:nvPr/>
        </p:nvPicPr>
        <p:blipFill>
          <a:blip r:embed="rId1"/>
          <a:stretch/>
        </p:blipFill>
        <p:spPr>
          <a:xfrm>
            <a:off x="0" y="4941720"/>
            <a:ext cx="2050920" cy="1916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4" descr="j0215356"/>
          <p:cNvPicPr/>
          <p:nvPr/>
        </p:nvPicPr>
        <p:blipFill>
          <a:blip r:embed="rId2"/>
          <a:stretch/>
        </p:blipFill>
        <p:spPr>
          <a:xfrm>
            <a:off x="5580000" y="371520"/>
            <a:ext cx="3384720" cy="23367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5"/>
          <p:cNvSpPr/>
          <p:nvPr/>
        </p:nvSpPr>
        <p:spPr>
          <a:xfrm>
            <a:off x="468360" y="1557360"/>
            <a:ext cx="676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200" spc="-1" strike="noStrike">
                <a:solidFill>
                  <a:srgbClr val="ffff00"/>
                </a:solidFill>
                <a:latin typeface="Times New Roman"/>
              </a:rPr>
              <a:t>Developing writing strategies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1" descr="j0293466"/>
          <p:cNvPicPr/>
          <p:nvPr/>
        </p:nvPicPr>
        <p:blipFill>
          <a:blip r:embed="rId1"/>
          <a:stretch/>
        </p:blipFill>
        <p:spPr>
          <a:xfrm>
            <a:off x="0" y="0"/>
            <a:ext cx="1619280" cy="1987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j0215356"/>
          <p:cNvPicPr/>
          <p:nvPr/>
        </p:nvPicPr>
        <p:blipFill>
          <a:blip r:embed="rId2"/>
          <a:stretch/>
        </p:blipFill>
        <p:spPr>
          <a:xfrm>
            <a:off x="1619280" y="476280"/>
            <a:ext cx="2016000" cy="1403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3"/>
          <p:cNvSpPr/>
          <p:nvPr/>
        </p:nvSpPr>
        <p:spPr>
          <a:xfrm>
            <a:off x="3780000" y="333360"/>
            <a:ext cx="48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Writing about daily routine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324000" y="2492280"/>
            <a:ext cx="882000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Give information in chronological order: morning, afternoon, evening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End  by saying how you feel about your daily routine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Use the simple present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8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7"/>
          <p:cNvGrpSpPr/>
          <p:nvPr/>
        </p:nvGrpSpPr>
        <p:grpSpPr>
          <a:xfrm>
            <a:off x="1979640" y="-71280"/>
            <a:ext cx="7164000" cy="7551720"/>
            <a:chOff x="1979640" y="-71280"/>
            <a:chExt cx="7164000" cy="7551720"/>
          </a:xfrm>
        </p:grpSpPr>
        <p:sp>
          <p:nvSpPr>
            <p:cNvPr id="86" name="AutoShape 5"/>
            <p:cNvSpPr/>
            <p:nvPr/>
          </p:nvSpPr>
          <p:spPr>
            <a:xfrm>
              <a:off x="2055600" y="-71280"/>
              <a:ext cx="7011720" cy="68576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33ccff"/>
                </a:gs>
                <a:gs pos="100000">
                  <a:srgbClr val="18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Text Box 6"/>
            <p:cNvSpPr/>
            <p:nvPr/>
          </p:nvSpPr>
          <p:spPr>
            <a:xfrm>
              <a:off x="1979640" y="-71280"/>
              <a:ext cx="7164000" cy="75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1" i="1" lang="es-ES_tradnl" sz="4400" spc="-1" strike="noStrike">
                  <a:solidFill>
                    <a:srgbClr val="000000"/>
                  </a:solidFill>
                  <a:latin typeface="Times New Roman"/>
                </a:rPr>
                <a:t>PLAN</a:t>
              </a:r>
              <a:endParaRPr b="1" i="1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000000"/>
                  </a:solidFill>
                  <a:latin typeface="Times New Roman"/>
                </a:rPr>
                <a:t>Par. 1 Introduce yourself… </a:t>
              </a:r>
              <a:endParaRPr b="1" i="1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000000"/>
                  </a:solidFill>
                  <a:latin typeface="Times New Roman"/>
                </a:rPr>
                <a:t>Par. 2 In the morning…</a:t>
              </a:r>
              <a:endParaRPr b="1" i="1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000000"/>
                  </a:solidFill>
                  <a:latin typeface="Times New Roman"/>
                </a:rPr>
                <a:t>Par. 3 In the afternoon…</a:t>
              </a:r>
              <a:endParaRPr b="1" i="1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000000"/>
                  </a:solidFill>
                  <a:latin typeface="Times New Roman"/>
                </a:rPr>
                <a:t>Par. 4 In the evening… </a:t>
              </a:r>
              <a:endParaRPr b="1" i="1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000000"/>
                  </a:solidFill>
                  <a:latin typeface="Times New Roman"/>
                </a:rPr>
                <a:t>Par. 5 How you feel at the end of the day…</a:t>
              </a:r>
              <a:endParaRPr b="1" i="1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8" name="Picture 8" descr="j0293466"/>
          <p:cNvPicPr/>
          <p:nvPr/>
        </p:nvPicPr>
        <p:blipFill>
          <a:blip r:embed="rId1"/>
          <a:stretch/>
        </p:blipFill>
        <p:spPr>
          <a:xfrm>
            <a:off x="0" y="0"/>
            <a:ext cx="1116000" cy="1987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j0215356"/>
          <p:cNvPicPr/>
          <p:nvPr/>
        </p:nvPicPr>
        <p:blipFill>
          <a:blip r:embed="rId2"/>
          <a:stretch/>
        </p:blipFill>
        <p:spPr>
          <a:xfrm>
            <a:off x="0" y="1989000"/>
            <a:ext cx="1389240" cy="14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24000" y="476280"/>
            <a:ext cx="90741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95280" y="213372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rite an article  about your daily routine for the  school or local newspape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3276720" y="0"/>
            <a:ext cx="5867280" cy="68580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33ccff"/>
              </a:gs>
              <a:gs pos="100000">
                <a:srgbClr val="18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3" descr="050717-002"/>
          <p:cNvPicPr/>
          <p:nvPr/>
        </p:nvPicPr>
        <p:blipFill>
          <a:blip r:embed="rId1"/>
          <a:stretch/>
        </p:blipFill>
        <p:spPr>
          <a:xfrm rot="21193200">
            <a:off x="3419640" y="4382640"/>
            <a:ext cx="2000160" cy="247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Tesis 014"/>
          <p:cNvPicPr/>
          <p:nvPr/>
        </p:nvPicPr>
        <p:blipFill>
          <a:blip r:embed="rId2"/>
          <a:stretch/>
        </p:blipFill>
        <p:spPr>
          <a:xfrm>
            <a:off x="5219640" y="4049640"/>
            <a:ext cx="1876320" cy="2808360"/>
          </a:xfrm>
          <a:prstGeom prst="rect">
            <a:avLst/>
          </a:prstGeom>
          <a:ln w="0">
            <a:noFill/>
          </a:ln>
        </p:spPr>
      </p:pic>
      <p:sp>
        <p:nvSpPr>
          <p:cNvPr id="47" name="WordArt 5"/>
          <p:cNvSpPr txBox="1"/>
          <p:nvPr/>
        </p:nvSpPr>
        <p:spPr>
          <a:xfrm>
            <a:off x="5811840" y="325440"/>
            <a:ext cx="10684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HINE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4896000" y="873000"/>
            <a:ext cx="41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a  magazine for the youth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7101000" y="1617840"/>
            <a:ext cx="32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5050"/>
                </a:solidFill>
                <a:latin typeface="Times New Roman"/>
              </a:rPr>
              <a:t>This week…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8" descr="Graduacion 007"/>
          <p:cNvPicPr/>
          <p:nvPr/>
        </p:nvPicPr>
        <p:blipFill>
          <a:blip r:embed="rId3"/>
          <a:stretch/>
        </p:blipFill>
        <p:spPr>
          <a:xfrm>
            <a:off x="5148360" y="1689120"/>
            <a:ext cx="1947600" cy="2736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9"/>
          <p:cNvSpPr/>
          <p:nvPr/>
        </p:nvSpPr>
        <p:spPr>
          <a:xfrm>
            <a:off x="3740040" y="1689120"/>
            <a:ext cx="20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5050"/>
                </a:solidFill>
                <a:latin typeface="Times New Roman"/>
              </a:rPr>
              <a:t>INSIDE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Picture 10" descr="Tesis 075"/>
          <p:cNvPicPr/>
          <p:nvPr/>
        </p:nvPicPr>
        <p:blipFill>
          <a:blip r:embed="rId4"/>
          <a:stretch/>
        </p:blipFill>
        <p:spPr>
          <a:xfrm>
            <a:off x="7093080" y="4005360"/>
            <a:ext cx="2050920" cy="1944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1"/>
          <p:cNvSpPr/>
          <p:nvPr/>
        </p:nvSpPr>
        <p:spPr>
          <a:xfrm>
            <a:off x="3193920" y="2193840"/>
            <a:ext cx="20908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A university student’s typical day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Group 12"/>
          <p:cNvGrpSpPr/>
          <p:nvPr/>
        </p:nvGrpSpPr>
        <p:grpSpPr>
          <a:xfrm>
            <a:off x="6939000" y="1905120"/>
            <a:ext cx="4257360" cy="975240"/>
            <a:chOff x="6939000" y="1905120"/>
            <a:chExt cx="4257360" cy="975240"/>
          </a:xfrm>
        </p:grpSpPr>
        <p:sp>
          <p:nvSpPr>
            <p:cNvPr id="55" name="Text Box 13"/>
            <p:cNvSpPr/>
            <p:nvPr/>
          </p:nvSpPr>
          <p:spPr>
            <a:xfrm>
              <a:off x="6975720" y="2120760"/>
              <a:ext cx="4220640" cy="75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5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What do you </a:t>
              </a:r>
              <a:endParaRPr b="1" i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do every day?</a:t>
              </a:r>
              <a:endParaRPr b="1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Text Box 14"/>
            <p:cNvSpPr/>
            <p:nvPr/>
          </p:nvSpPr>
          <p:spPr>
            <a:xfrm>
              <a:off x="6939000" y="1905120"/>
              <a:ext cx="1732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ff505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ff5050"/>
                  </a:solidFill>
                  <a:latin typeface="Times New Roman"/>
                </a:rPr>
                <a:t> </a:t>
              </a:r>
              <a:endParaRPr b="1" i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948360" y="2913120"/>
            <a:ext cx="5805360" cy="938880"/>
            <a:chOff x="6948360" y="2913120"/>
            <a:chExt cx="5805360" cy="938880"/>
          </a:xfrm>
        </p:grpSpPr>
        <p:sp>
          <p:nvSpPr>
            <p:cNvPr id="58" name="Text Box 16"/>
            <p:cNvSpPr/>
            <p:nvPr/>
          </p:nvSpPr>
          <p:spPr>
            <a:xfrm>
              <a:off x="6983280" y="3129120"/>
              <a:ext cx="577044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5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What’s your</a:t>
              </a:r>
              <a:endParaRPr b="1" i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favorite day?</a:t>
              </a:r>
              <a:endParaRPr b="1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Text Box 17"/>
            <p:cNvSpPr/>
            <p:nvPr/>
          </p:nvSpPr>
          <p:spPr>
            <a:xfrm>
              <a:off x="6948360" y="2913120"/>
              <a:ext cx="1731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ff505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ff5050"/>
                  </a:solidFill>
                  <a:latin typeface="Times New Roman"/>
                </a:rPr>
                <a:t> </a:t>
              </a:r>
              <a:endParaRPr b="1" i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Text Box 18"/>
          <p:cNvSpPr/>
          <p:nvPr/>
        </p:nvSpPr>
        <p:spPr>
          <a:xfrm>
            <a:off x="179280" y="476280"/>
            <a:ext cx="30243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Look at the cover of the magazine and answer the question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16000" y="333360"/>
            <a:ext cx="8928000" cy="66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What’s the name of the magazine?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Who is it for?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What is the article inside the magazine about?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Can you say the names of the days in English?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What is the day today? Is it your favorite day? Why? Why not?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71640" y="907920"/>
            <a:ext cx="7632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Reflecting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on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Writing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3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j0299125"/>
          <p:cNvPicPr/>
          <p:nvPr/>
        </p:nvPicPr>
        <p:blipFill>
          <a:blip r:embed="rId2"/>
          <a:stretch/>
        </p:blipFill>
        <p:spPr>
          <a:xfrm>
            <a:off x="7093080" y="4292640"/>
            <a:ext cx="172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179280" y="2060640"/>
            <a:ext cx="828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Read the article which Ed wrote about his daily  activities at the university and say what each paragraph tells us about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5" descr="j0293466"/>
          <p:cNvPicPr/>
          <p:nvPr/>
        </p:nvPicPr>
        <p:blipFill>
          <a:blip r:embed="rId1"/>
          <a:stretch/>
        </p:blipFill>
        <p:spPr>
          <a:xfrm>
            <a:off x="0" y="0"/>
            <a:ext cx="1619280" cy="1987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j0215356"/>
          <p:cNvPicPr/>
          <p:nvPr/>
        </p:nvPicPr>
        <p:blipFill>
          <a:blip r:embed="rId2"/>
          <a:stretch/>
        </p:blipFill>
        <p:spPr>
          <a:xfrm>
            <a:off x="1619280" y="476280"/>
            <a:ext cx="201600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611280" y="260280"/>
            <a:ext cx="7921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763640" y="18900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A university student’s typical day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6" descr="Graduacion 007"/>
          <p:cNvPicPr/>
          <p:nvPr/>
        </p:nvPicPr>
        <p:blipFill>
          <a:blip r:embed="rId1"/>
          <a:stretch/>
        </p:blipFill>
        <p:spPr>
          <a:xfrm>
            <a:off x="0" y="0"/>
            <a:ext cx="1763640" cy="23493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3276720" y="907920"/>
            <a:ext cx="36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My Day!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611280" y="2651040"/>
            <a:ext cx="8137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My name is Ed. I’m 23 years old and I live in Havana, Cuba. From Monday to Friday my daily routine  at the university is always the same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611280" y="260280"/>
            <a:ext cx="7921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324000" y="189000"/>
            <a:ext cx="842472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I always get to school on time. I’m usually  there by 7.45 because classes start at 8 and I’m never late.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In the afternoon, I often  go to the library or to the computer lab to study. Sometimes,  I practice sports. I rarely stay after 5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611280" y="260280"/>
            <a:ext cx="7921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324000" y="189000"/>
            <a:ext cx="842472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After college, I go home. I  usually  talk to my friends and play soccer. Then, take a shower and have dinner with my family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In the evening, I often watch sports on TV. I like soccer but baseball is my favorite. I also love to listen to  music, especially to relax  when I go to bed after a busy day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511280" y="1197000"/>
            <a:ext cx="7632720" cy="44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Writing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Tips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Picture 3" descr="j0293466"/>
          <p:cNvPicPr/>
          <p:nvPr/>
        </p:nvPicPr>
        <p:blipFill>
          <a:blip r:embed="rId1"/>
          <a:stretch/>
        </p:blipFill>
        <p:spPr>
          <a:xfrm>
            <a:off x="0" y="0"/>
            <a:ext cx="1547640" cy="1700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j0299125"/>
          <p:cNvPicPr/>
          <p:nvPr/>
        </p:nvPicPr>
        <p:blipFill>
          <a:blip r:embed="rId2"/>
          <a:stretch/>
        </p:blipFill>
        <p:spPr>
          <a:xfrm>
            <a:off x="7415280" y="5157720"/>
            <a:ext cx="1728720" cy="1700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j0215356"/>
          <p:cNvPicPr/>
          <p:nvPr/>
        </p:nvPicPr>
        <p:blipFill>
          <a:blip r:embed="rId3"/>
          <a:stretch/>
        </p:blipFill>
        <p:spPr>
          <a:xfrm>
            <a:off x="3635280" y="2708280"/>
            <a:ext cx="201636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de los Angeles</cp:lastModifiedBy>
  <dcterms:modified xsi:type="dcterms:W3CDTF">2013-10-30T09:05:04Z</dcterms:modified>
  <cp:revision>35</cp:revision>
  <dc:subject/>
  <dc:title>PowerPoint Presentation</dc:title>
</cp:coreProperties>
</file>