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3B6-C499-41EB-8481-92782245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47C-226E-4373-A20B-A88EB54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58E-FE16-4B67-8A85-220111B4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844-E136-4C29-895A-ED4C0B4E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B1A-BBB1-451E-8ACB-4C9A1E0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946-CA6C-4675-8452-302C0C6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5FC-79B4-4B99-B592-32C06CC4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877-C2AD-47BB-883B-3F9569F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7CF-C900-4D52-89AA-54254026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64D-D961-4587-838E-5710B64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224-54BA-483B-9119-FC755A9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4F1-1C5D-4359-AB96-0CE6A74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93CD-AFDE-49FD-AF60-9E7536767E1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j0237627"/>
          <p:cNvPicPr/>
          <p:nvPr/>
        </p:nvPicPr>
        <p:blipFill>
          <a:blip r:embed="rId1"/>
          <a:stretch/>
        </p:blipFill>
        <p:spPr>
          <a:xfrm>
            <a:off x="0" y="4941720"/>
            <a:ext cx="2050920" cy="19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" descr="j0215356"/>
          <p:cNvPicPr/>
          <p:nvPr/>
        </p:nvPicPr>
        <p:blipFill>
          <a:blip r:embed="rId2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468360" y="1557360"/>
            <a:ext cx="67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Developing writing strategies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3"/>
          <p:cNvSpPr/>
          <p:nvPr/>
        </p:nvSpPr>
        <p:spPr>
          <a:xfrm>
            <a:off x="3780000" y="33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ing about daily routine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24000" y="249228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Give information in chronological order: morning, afternoon, evening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End  by saying how you feel about your daily routin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Use the simple present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1979640" y="-71280"/>
            <a:ext cx="7164000" cy="7551720"/>
            <a:chOff x="1979640" y="-71280"/>
            <a:chExt cx="7164000" cy="7551720"/>
          </a:xfrm>
        </p:grpSpPr>
        <p:sp>
          <p:nvSpPr>
            <p:cNvPr id="86" name="AutoShape 5"/>
            <p:cNvSpPr/>
            <p:nvPr/>
          </p:nvSpPr>
          <p:spPr>
            <a:xfrm>
              <a:off x="2055600" y="-71280"/>
              <a:ext cx="7011720" cy="6857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1979640" y="-71280"/>
              <a:ext cx="7164000" cy="75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1 Introduce yourself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2 In the morning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3 In the afternoon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4 In the evening… 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000000"/>
                  </a:solidFill>
                  <a:latin typeface="Times New Roman"/>
                </a:rPr>
                <a:t>Par. 5 How you feel at the end of the day…</a:t>
              </a: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Picture 8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116000" cy="198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j0215356"/>
          <p:cNvPicPr/>
          <p:nvPr/>
        </p:nvPicPr>
        <p:blipFill>
          <a:blip r:embed="rId2"/>
          <a:stretch/>
        </p:blipFill>
        <p:spPr>
          <a:xfrm>
            <a:off x="0" y="1989000"/>
            <a:ext cx="138924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4000" y="476280"/>
            <a:ext cx="9074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21337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rite an article  about your daily routine for the  school or local newspap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3276720" y="0"/>
            <a:ext cx="586728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3" descr="050717-002"/>
          <p:cNvPicPr/>
          <p:nvPr/>
        </p:nvPicPr>
        <p:blipFill>
          <a:blip r:embed="rId1"/>
          <a:stretch/>
        </p:blipFill>
        <p:spPr>
          <a:xfrm rot="21193200">
            <a:off x="3419640" y="4382640"/>
            <a:ext cx="2000160" cy="247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esis 014"/>
          <p:cNvPicPr/>
          <p:nvPr/>
        </p:nvPicPr>
        <p:blipFill>
          <a:blip r:embed="rId2"/>
          <a:stretch/>
        </p:blipFill>
        <p:spPr>
          <a:xfrm>
            <a:off x="5219640" y="4049640"/>
            <a:ext cx="18763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5811840" y="325440"/>
            <a:ext cx="106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INE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896000" y="873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 magazine for the youth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101000" y="16178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This week…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8" descr="Graduacion 007"/>
          <p:cNvPicPr/>
          <p:nvPr/>
        </p:nvPicPr>
        <p:blipFill>
          <a:blip r:embed="rId3"/>
          <a:stretch/>
        </p:blipFill>
        <p:spPr>
          <a:xfrm>
            <a:off x="5148360" y="1689120"/>
            <a:ext cx="1947600" cy="273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3740040" y="16891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INSID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0" descr="Tesis 075"/>
          <p:cNvPicPr/>
          <p:nvPr/>
        </p:nvPicPr>
        <p:blipFill>
          <a:blip r:embed="rId4"/>
          <a:stretch/>
        </p:blipFill>
        <p:spPr>
          <a:xfrm>
            <a:off x="7093080" y="4005360"/>
            <a:ext cx="2050920" cy="1944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3193920" y="2193840"/>
            <a:ext cx="2090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939000" y="1905120"/>
            <a:ext cx="4257360" cy="975240"/>
            <a:chOff x="6939000" y="1905120"/>
            <a:chExt cx="4257360" cy="975240"/>
          </a:xfrm>
        </p:grpSpPr>
        <p:sp>
          <p:nvSpPr>
            <p:cNvPr id="55" name="Text Box 13"/>
            <p:cNvSpPr/>
            <p:nvPr/>
          </p:nvSpPr>
          <p:spPr>
            <a:xfrm>
              <a:off x="6975720" y="2120760"/>
              <a:ext cx="422064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 do you 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o every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14"/>
            <p:cNvSpPr/>
            <p:nvPr/>
          </p:nvSpPr>
          <p:spPr>
            <a:xfrm>
              <a:off x="6939000" y="1905120"/>
              <a:ext cx="173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948360" y="2913120"/>
            <a:ext cx="5805360" cy="938880"/>
            <a:chOff x="6948360" y="2913120"/>
            <a:chExt cx="5805360" cy="938880"/>
          </a:xfrm>
        </p:grpSpPr>
        <p:sp>
          <p:nvSpPr>
            <p:cNvPr id="58" name="Text Box 16"/>
            <p:cNvSpPr/>
            <p:nvPr/>
          </p:nvSpPr>
          <p:spPr>
            <a:xfrm>
              <a:off x="6983280" y="3129120"/>
              <a:ext cx="5770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’s your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favorite day?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7"/>
            <p:cNvSpPr/>
            <p:nvPr/>
          </p:nvSpPr>
          <p:spPr>
            <a:xfrm>
              <a:off x="6948360" y="2913120"/>
              <a:ext cx="173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18"/>
          <p:cNvSpPr/>
          <p:nvPr/>
        </p:nvSpPr>
        <p:spPr>
          <a:xfrm>
            <a:off x="179280" y="476280"/>
            <a:ext cx="302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Look at the cover of the magazine and answer the ques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16000" y="333360"/>
            <a:ext cx="8928000" cy="66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’s the name of the magazine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o is it for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article inside the magazine abou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an you say the names of the days in English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the day today? Is it your favorite day? Why? Why not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79280" y="2060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Read the article which Ed wrote about his daily  activities at the university and say what each paragraph tells us abou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 university student’s typical da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Graduacion 007"/>
          <p:cNvPicPr/>
          <p:nvPr/>
        </p:nvPicPr>
        <p:blipFill>
          <a:blip r:embed="rId1"/>
          <a:stretch/>
        </p:blipFill>
        <p:spPr>
          <a:xfrm>
            <a:off x="0" y="0"/>
            <a:ext cx="1763640" cy="2349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276720" y="90792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My Day!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11280" y="265104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Ed. I’m 23 years old and I live in Havana, Cuba. From Monday to Friday my daily routine  at the university is always the same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89000"/>
            <a:ext cx="8424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 always get to school on time. I’m usually  there by 7.45 because classes start at 8 and I’m never late.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afternoon, I often  go to the library or to the computer lab to study. Sometimes,  I practice sports. I rarely stay after 5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24000" y="189000"/>
            <a:ext cx="8424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After college, I go home. I  usually  talk to my friends and play soccer. Then, take a shower and have dinner with my famil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 the evening, I often watch sports on TV. I like soccer but baseball is my favorite. I also love to listen to  music, especially to relax  when I go to bed after a busy day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11280" y="1197000"/>
            <a:ext cx="7632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Wri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Tips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299125"/>
          <p:cNvPicPr/>
          <p:nvPr/>
        </p:nvPicPr>
        <p:blipFill>
          <a:blip r:embed="rId2"/>
          <a:stretch/>
        </p:blipFill>
        <p:spPr>
          <a:xfrm>
            <a:off x="7415280" y="5157720"/>
            <a:ext cx="1728720" cy="170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215356"/>
          <p:cNvPicPr/>
          <p:nvPr/>
        </p:nvPicPr>
        <p:blipFill>
          <a:blip r:embed="rId3"/>
          <a:stretch/>
        </p:blipFill>
        <p:spPr>
          <a:xfrm>
            <a:off x="3635280" y="2708280"/>
            <a:ext cx="2016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9:05:04Z</dcterms:modified>
  <cp:revision>35</cp:revision>
  <dc:subject/>
  <dc:title>PowerPoint Presentation</dc:title>
</cp:coreProperties>
</file>