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F99-4E34-4A5D-95D2-60128FBD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B6CA-A49E-4BE2-9EB8-E3705D93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89D-BE29-4939-BAB3-DA59AFE1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BA91-B14E-47DA-A0E5-B2FA1DA9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961-3803-4CB8-AE34-F0E3E854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9BD-9190-4CB2-8C63-2F2E7417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28F-8402-4C5A-A60B-F997815E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500-1BFC-4EF3-8D21-7F81F96F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D58-DAF0-44F8-B4E1-9E01FBF5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CB9-7446-4893-9C16-02FDE77C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93E-EB49-4CE4-A83D-1DE1B7D7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05A-B565-4D52-9C87-C3673AA0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72F8-6723-4C93-8C18-F6D92C30500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dreads.com/author/show/1069006.C_S_Lewis" TargetMode="External"/><Relationship Id="rId2" Type="http://schemas.openxmlformats.org/officeDocument/2006/relationships/hyperlink" Target="http://www.goodreads.com/author/show/1069006.C_S_Lewis" TargetMode="External"/><Relationship Id="rId3" Type="http://schemas.openxmlformats.org/officeDocument/2006/relationships/hyperlink" Target="http://www.goodreads.com/author/show/1069006.C_S_Lewis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dreads.com/author/show/1069006.C_S_Lewis" TargetMode="External"/><Relationship Id="rId2" Type="http://schemas.openxmlformats.org/officeDocument/2006/relationships/hyperlink" Target="http://www.goodreads.com/author/show/1069006.C_S_Lewis" TargetMode="External"/><Relationship Id="rId3" Type="http://schemas.openxmlformats.org/officeDocument/2006/relationships/hyperlink" Target="http://www.goodreads.com/author/show/1069006.C_S_Lewis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684360" y="836640"/>
            <a:ext cx="7632720" cy="3744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Arial Black"/>
                <a:ea typeface="Arial"/>
              </a:rPr>
              <a:t>Topic: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Arial Black"/>
                <a:ea typeface="Arial"/>
              </a:rPr>
              <a:t>EDUCATION 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95280" y="333000"/>
            <a:ext cx="8353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- “The task of the modern educator is not to cut down jungles, but to irrigate deserts.”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.S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. 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Lew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- “Educating the mind without educating the heart is no education at all.”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ristotl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.- “ Teaching … is above all a job of  endless  love.”                         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rtí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50920" y="5157720"/>
            <a:ext cx="8713800" cy="1068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Life-long learning  </a:t>
            </a:r>
            <a:r>
              <a:rPr b="1" i="1" lang="es-ES" sz="3200" spc="-1" strike="noStrike" u="sng">
                <a:solidFill>
                  <a:srgbClr val="ffc000"/>
                </a:solidFill>
                <a:uFillTx/>
                <a:latin typeface="Times New Roman"/>
              </a:rPr>
              <a:t>4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  - Instruct and educate  </a:t>
            </a:r>
            <a:r>
              <a:rPr b="1" i="1" lang="es-ES" sz="3200" spc="-1" strike="noStrike" u="sng">
                <a:solidFill>
                  <a:srgbClr val="ffc000"/>
                </a:solidFill>
                <a:uFillTx/>
                <a:latin typeface="Times New Roman"/>
              </a:rPr>
              <a:t>5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Learn and transform__  - Teacher´s qualities   </a:t>
            </a:r>
            <a:r>
              <a:rPr b="1" i="1" lang="es-ES" sz="3200" spc="-1" strike="noStrike" u="sng">
                <a:solidFill>
                  <a:srgbClr val="ffc000"/>
                </a:solidFill>
                <a:uFillTx/>
                <a:latin typeface="Times New Roman"/>
              </a:rPr>
              <a:t>6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7280" y="333000"/>
            <a:ext cx="894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.- A teacher affects eternity; he can never tell where his influence stop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nry B Ad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8.- Tell me and I’ll forget; show me and I may remember; involve me and I’ll understand.</a:t>
            </a:r>
            <a:br>
              <a:rPr sz="36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Chinese prover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9. “Anyone can instruct, only a true living gospel (evangelio) can educate.     Luz y Caball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24000" y="5157720"/>
            <a:ext cx="8712000" cy="1068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Life-long learning __   - Instruct and educate ___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Learn and transform__  - Teacher´s qualities ___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280" y="333000"/>
            <a:ext cx="894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.- A teacher affects eternity; he can never tell where his influence stops. Henry B. Adam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8.- Tell me and I’ll forget; show me and I may remember; involve me and I’ll understand.</a:t>
            </a:r>
            <a:br>
              <a:rPr sz="36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Chinese prover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9. “Anyone can instruct, only a true living gospel (evangelio) can educate. ”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uz y Caball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95200" y="5373720"/>
            <a:ext cx="8712360" cy="1556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Life-long learning  </a:t>
            </a:r>
            <a:r>
              <a:rPr b="1" i="1" lang="es-ES" sz="3200" spc="-1" strike="noStrike" u="sng">
                <a:solidFill>
                  <a:srgbClr val="ffc000"/>
                </a:solidFill>
                <a:uFillTx/>
                <a:latin typeface="Times New Roman"/>
              </a:rPr>
              <a:t>8 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  - Instruct and educate </a:t>
            </a:r>
            <a:r>
              <a:rPr b="1" i="1" lang="es-ES" sz="3200" spc="-1" strike="noStrike" u="sng">
                <a:solidFill>
                  <a:srgbClr val="ffc000"/>
                </a:solidFill>
                <a:uFillTx/>
                <a:latin typeface="Times New Roman"/>
              </a:rPr>
              <a:t>9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Learn and transform__  - Teacher´s qualities  </a:t>
            </a:r>
            <a:r>
              <a:rPr b="1" i="1" lang="es-ES" sz="3200" spc="-1" strike="noStrike" u="sng">
                <a:solidFill>
                  <a:srgbClr val="ffc000"/>
                </a:solidFill>
                <a:uFillTx/>
                <a:latin typeface="Times New Roman"/>
              </a:rPr>
              <a:t>7, 9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95280" y="259920"/>
            <a:ext cx="842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0.- “ Teach and you will have someone who knows; educate and you will have someone who does 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Simón Rodríguez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1.- Educating means eliminating  the obstacles that hinder thin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F. Vare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93760" y="4851360"/>
            <a:ext cx="8847000" cy="1068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Life-long learning __   - Instruct and educate ___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Learn and transform__  - Teacher´s qualities ___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259920"/>
            <a:ext cx="842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0.- “ Teach and you will have someone who knows; educate and you will have someone who does 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Simón Rodríguez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1.- Educating means eliminating  the obstacles that hinder thin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F. Vare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79280" y="4869000"/>
            <a:ext cx="8964720" cy="1068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Life-long learning  </a:t>
            </a:r>
            <a:r>
              <a:rPr b="1" i="1" lang="es-ES" sz="3200" spc="-1" strike="noStrike" u="sng">
                <a:solidFill>
                  <a:srgbClr val="ffc000"/>
                </a:solidFill>
                <a:uFillTx/>
                <a:latin typeface="Times New Roman"/>
              </a:rPr>
              <a:t>10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- Instruct and educate  </a:t>
            </a:r>
            <a:r>
              <a:rPr b="1" i="1" lang="es-ES" sz="3200" spc="-1" strike="noStrike" u="sng">
                <a:solidFill>
                  <a:srgbClr val="ffc000"/>
                </a:solidFill>
                <a:uFillTx/>
                <a:latin typeface="Times New Roman"/>
              </a:rPr>
              <a:t>10, 11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Learn and transform__  - Teacher´s qualities ___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259920"/>
            <a:ext cx="867600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Task 3 : Match the two parts of the quot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560" y="1628280"/>
            <a:ext cx="3809880" cy="504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teacher affects etern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ind is not a vessel to be fil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ell me and I’ll forg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932000" y="1484280"/>
            <a:ext cx="4032360" cy="5183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how me and I may remember; involve me and I’ll understand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can never tell where his influence stops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a fire to be kindled.”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792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Match the two parts of the quot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560" y="1267920"/>
            <a:ext cx="4033800" cy="5185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ve as if you were to die tomorr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lligence plus charac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ducation is the most powerful weap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0" y="1341360"/>
            <a:ext cx="4392720" cy="5183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you can use to change the world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t is the goal of true education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arn as if you were to live forever.”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792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Match the two parts of the quot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920" y="1267920"/>
            <a:ext cx="3960720" cy="5256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ducating the m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ask of the modern educ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788000" y="1341360"/>
            <a:ext cx="4032000" cy="5183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thout educating the heart is no education at all.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not to cut down jungles, but to irrigate deserts.” 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1"/>
          <p:cNvSpPr/>
          <p:nvPr/>
        </p:nvSpPr>
        <p:spPr>
          <a:xfrm>
            <a:off x="324000" y="2565360"/>
            <a:ext cx="8351640" cy="1943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Task 4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Match the quotation and its author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0560" y="333000"/>
            <a:ext cx="4392360" cy="6264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ve as if you were to die tomorrow. Learn as if you were to live forever.”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ducation is the most powerful weapon which you can use to change the world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lligence plus character-that is the goal of true education.” 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32000" y="404640"/>
            <a:ext cx="4032360" cy="6120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elson Man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hatma Gand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rtin Luther King J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H:\1  A  CLASES UPT 5 NOV 2015\figuras\Gandhi.jpg"/>
          <p:cNvPicPr/>
          <p:nvPr/>
        </p:nvPicPr>
        <p:blipFill>
          <a:blip r:embed="rId1"/>
          <a:stretch/>
        </p:blipFill>
        <p:spPr>
          <a:xfrm>
            <a:off x="7308720" y="2852640"/>
            <a:ext cx="1220760" cy="898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:\1  A  CLASES UPT 5 NOV 2015\figuras\M L King .jpg"/>
          <p:cNvPicPr/>
          <p:nvPr/>
        </p:nvPicPr>
        <p:blipFill>
          <a:blip r:embed="rId2"/>
          <a:stretch/>
        </p:blipFill>
        <p:spPr>
          <a:xfrm>
            <a:off x="6443640" y="5229360"/>
            <a:ext cx="1268280" cy="1033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:\1  A  CLASES UPT 5 NOV 2015\figuras\mandela .jpg"/>
          <p:cNvPicPr/>
          <p:nvPr/>
        </p:nvPicPr>
        <p:blipFill>
          <a:blip r:embed="rId3"/>
          <a:stretch/>
        </p:blipFill>
        <p:spPr>
          <a:xfrm>
            <a:off x="6081840" y="1052640"/>
            <a:ext cx="9968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TARGE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07640" y="333000"/>
            <a:ext cx="4319640" cy="6335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ell me and I’ll forget; show me and I may remember; involve me and I’ll understand.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Educating the mind without educating the heart is no education at all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16000" y="476280"/>
            <a:ext cx="4032360" cy="6192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Aristo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inese prover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Ghand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79280" y="333360"/>
            <a:ext cx="4321440" cy="5975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Anyone can instruct, only a true living gospel can educ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Educating means eliminating  the obstacles that hinder thi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932000" y="476280"/>
            <a:ext cx="4032360" cy="59054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F. Vare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J. Mart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Luz y Caball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H:\1  A  CLASES UPT 5 NOV 2015\figuras\F Varela .jpg"/>
          <p:cNvPicPr/>
          <p:nvPr/>
        </p:nvPicPr>
        <p:blipFill>
          <a:blip r:embed="rId1"/>
          <a:stretch/>
        </p:blipFill>
        <p:spPr>
          <a:xfrm>
            <a:off x="7380360" y="907920"/>
            <a:ext cx="1287360" cy="1168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F:\UPT CLASES EDUCACION\luz-caballero.jpg"/>
          <p:cNvPicPr/>
          <p:nvPr/>
        </p:nvPicPr>
        <p:blipFill>
          <a:blip r:embed="rId2"/>
          <a:stretch/>
        </p:blipFill>
        <p:spPr>
          <a:xfrm>
            <a:off x="6357960" y="4857840"/>
            <a:ext cx="23176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79280" y="333360"/>
            <a:ext cx="4321440" cy="5975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Educating means eliminating  the obstacles that hinder thin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aching … is above all a job of  endless  love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H:\1  A  CLASES UPT 5 NOV 2015\figuras\Marti.jpg"/>
          <p:cNvPicPr/>
          <p:nvPr/>
        </p:nvPicPr>
        <p:blipFill>
          <a:blip r:embed="rId1"/>
          <a:stretch/>
        </p:blipFill>
        <p:spPr>
          <a:xfrm>
            <a:off x="7000920" y="785880"/>
            <a:ext cx="898560" cy="1120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785840" y="356760"/>
            <a:ext cx="4071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. Mar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. Var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H:\1  A  CLASES UPT 5 NOV 2015\figuras\F Varela .jpg"/>
          <p:cNvPicPr/>
          <p:nvPr/>
        </p:nvPicPr>
        <p:blipFill>
          <a:blip r:embed="rId2"/>
          <a:stretch/>
        </p:blipFill>
        <p:spPr>
          <a:xfrm>
            <a:off x="6500880" y="4143240"/>
            <a:ext cx="142884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90880" y="404640"/>
            <a:ext cx="4352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Writing an acrosti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19280" y="214200"/>
            <a:ext cx="842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o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nga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reativity</a:t>
            </a: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ardworkin</a:t>
            </a: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mag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atu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eneros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11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Read the quot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55640" y="256536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Select words that may be new  or interesting for you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258920" y="2556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On your own 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In this lesson you wil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Read inspirational educational quo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xpress your own  understanding of educational quot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75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Task 1 preparing for understanding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9280" y="1341000"/>
            <a:ext cx="3745080" cy="504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ut down ju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rrigate dese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iving gos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kindl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dless 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werful weap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vol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4716360" y="1376280"/>
            <a:ext cx="4132440" cy="511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s if you were to di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forever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oal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ind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ear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haracter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bstacles that hinder think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Food for though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Task 2: Read the quot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What do they mean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Write the number of the quotation next to the possible meaning expressed by the key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8000" y="11556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- “Live as if you were to die tomorrow. Learn as if you were to live forever.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. Ghandi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- “Education is the most powerful weapon which you can use to change the world.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ndel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- “Intelligence plus character-that is the goal of true education.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. Luther King J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24000" y="5084640"/>
            <a:ext cx="8712000" cy="1068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Life-long learning __   - Instruct and educate ___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Learn and transform__  - Teacher´s qualities ___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8000" y="11556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- “Live as if you were to die tomorrow. Learn as if you were to live forever.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. Ghandi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- “Education is the most powerful weapon which you can use to change the world.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ndel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- “Intelligence plus character-that is the goal of true education.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.Luther King J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324000" y="5084640"/>
            <a:ext cx="8712000" cy="1068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Life-long learning  </a:t>
            </a:r>
            <a:r>
              <a:rPr b="1" i="1" lang="es-ES" sz="3200" spc="-1" strike="noStrike" u="sng">
                <a:solidFill>
                  <a:srgbClr val="ffc000"/>
                </a:solidFill>
                <a:uFillTx/>
                <a:latin typeface="Times New Roman"/>
              </a:rPr>
              <a:t>1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  - Instruct and educate  </a:t>
            </a:r>
            <a:r>
              <a:rPr b="1" i="1" lang="es-ES" sz="3200" spc="-1" strike="noStrike" u="sng">
                <a:solidFill>
                  <a:srgbClr val="ffc000"/>
                </a:solidFill>
                <a:uFillTx/>
                <a:latin typeface="Times New Roman"/>
              </a:rPr>
              <a:t>3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Learn and transform  </a:t>
            </a:r>
            <a:r>
              <a:rPr b="1" i="1" lang="es-ES" sz="3200" spc="-1" strike="noStrike" u="sng">
                <a:solidFill>
                  <a:srgbClr val="ffc000"/>
                </a:solidFill>
                <a:uFillTx/>
                <a:latin typeface="Times New Roman"/>
              </a:rPr>
              <a:t>2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 - Teacher´s qualities ___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333000"/>
            <a:ext cx="8353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- “The task of the modern educator is not to cut down jungles, but to irrigate deserts.”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.S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. 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Lew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- “Educating the mind without educating the heart is no education at all.”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ristotl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.- “ Teaching … is above all a job of  endless  love.”                         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rtí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50920" y="5157720"/>
            <a:ext cx="8713800" cy="1068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Life-long learning __   - Instruct and educate ___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Learn and transform__  - Teacher´s qualities ___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ora &amp; Garbey</dc:creator>
  <dc:description/>
  <dc:language>en-US</dc:language>
  <cp:lastModifiedBy>Och</cp:lastModifiedBy>
  <dcterms:modified xsi:type="dcterms:W3CDTF">2016-02-29T04:49:34Z</dcterms:modified>
  <cp:revision>149</cp:revision>
  <dc:subject/>
  <dc:title>PowerPoint Presentation</dc:title>
</cp:coreProperties>
</file>