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CC2-D9B1-467F-A1C0-40BA55EE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67A4-1EBF-48B2-B3F9-A7FA6FA1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42B3-6CE7-4038-8E4F-9B1028D9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0D1-62AD-47A1-A380-5AAF5D3A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62B-2F03-41B0-8EF1-0040D70C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9E5-452C-4588-8E70-0E61EE64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C89-A1B4-4D08-B09F-73710B2C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F58-4AF9-40C0-848F-A2B51749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64C-EA00-489D-AE36-838FA7BA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CE1-A1B9-439D-99F2-B5AF6C41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8AD-EB35-4920-A74E-94E04A58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7DEF-C3E6-4FA3-86E3-07C89789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3496-50A7-4958-8C5E-9E952D039D1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684360" y="836640"/>
            <a:ext cx="7632720" cy="3744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Arial Black"/>
                <a:ea typeface="Arial"/>
              </a:rPr>
              <a:t>Topic: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Arial Black"/>
                <a:ea typeface="Arial"/>
              </a:rPr>
              <a:t>Integrated Practice 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Arial Black"/>
                <a:ea typeface="Arial"/>
              </a:rPr>
              <a:t>and 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Arial Black"/>
                <a:ea typeface="Arial"/>
              </a:rPr>
              <a:t>Self - evaluation 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Answer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560" y="1484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conomy class: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eap and usually less comfortab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business class: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tter but more expensive travel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avel agency: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company that arranges tra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sk: Interview another student and fill in the form bel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uest registration c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m Number: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y Name: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Names: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ome Addr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ree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ity:                    Zip cod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000" y="333000"/>
            <a:ext cx="8675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ationalit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assport numb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any na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any addres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r license numb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ate of Arriva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ate of departur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ffffff"/>
                </a:solidFill>
                <a:uFillTx/>
                <a:latin typeface="Times New Roman"/>
              </a:rPr>
              <a:t>Method of payment</a:t>
            </a:r>
            <a:r>
              <a:rPr b="0" lang="es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436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___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MasterCard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___American Express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___Visa card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___Cash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___Check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___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Signature :                        Da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 the words below to fill in the blank spaces in the dialogu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ke, need, flight, see, time, help, have, airport, direct, check, seats, le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710560" cy="548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t: Blue Sea  Airways. Can I______ you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ía : Yes. I ______ a _____ from Jamaica to Havana 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iday. Do you have any_______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t: Let me ____. Yes. I ______one on the 5: 30 fligh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ía: Five thirty! What’s the check-in _____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t: One-hour economy. Thirty minutes business class. Wil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u ____th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ía: No. I won’t get to the________ in time. When will the next flight ______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t: There won’t be another ______ flight on Friday. Ther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l be one on Saturday at the same tim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62920" cy="38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ía: Fine. I’ll _____ that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t: Just let me ______. Oh, I’m sorry, that flight’s fu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071720" y="0"/>
            <a:ext cx="763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ANSWER 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3" descr="j0297265"/>
          <p:cNvPicPr/>
          <p:nvPr/>
        </p:nvPicPr>
        <p:blipFill>
          <a:blip r:embed="rId1"/>
          <a:stretch/>
        </p:blipFill>
        <p:spPr>
          <a:xfrm>
            <a:off x="2786040" y="392904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84360" y="69228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" descr="j0297265"/>
          <p:cNvPicPr/>
          <p:nvPr/>
        </p:nvPicPr>
        <p:blipFill>
          <a:blip r:embed="rId1"/>
          <a:stretch/>
        </p:blipFill>
        <p:spPr>
          <a:xfrm>
            <a:off x="2843280" y="314172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562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gent: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ue Sea  Airways.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an I help you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ría :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es.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I need a flight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om Jamaica  to Havana on Friday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 you hav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any seat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gent: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t me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se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 Yes. I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hav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one on the 5: 30 flight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ía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ve thirty! What’s the check-in tim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562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ía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ve thirty! What’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e check-in tim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gent: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-hour economy. Thirty minutes business class. Will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0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ake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 that?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ría: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. I won’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get to the airport in tim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When will the next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flight </a:t>
            </a:r>
            <a:r>
              <a:rPr b="0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leave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562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gent: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re won’t be another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direct flight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n Friday. There wil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 one on Saturday at the same time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ría: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ne.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I’ll take tha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gent: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let m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heck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 Oh, I’m sorry, that flight’s full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words and expressions about travelling and accommodation under the correct head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0920" y="3213000"/>
          <a:ext cx="8353440" cy="3382920"/>
        </p:xfrm>
        <a:graphic>
          <a:graphicData uri="http://schemas.openxmlformats.org/drawingml/2006/table">
            <a:tbl>
              <a:tblPr/>
              <a:tblGrid>
                <a:gridCol w="2373120"/>
                <a:gridCol w="2438640"/>
                <a:gridCol w="1906560"/>
                <a:gridCol w="1635120"/>
              </a:tblGrid>
              <a:tr h="338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cuments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ngs &amp; places at the airport, hotel, travel agency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ople/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bs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ngs we do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ractice with partner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Use  the following questions as a guide to speak about travell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Let’s Talk Trave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9640" y="1125000"/>
            <a:ext cx="8353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do when you first arrive at the hot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Who do you usually meet at the recep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What do people do at the reception when they first arrive at the hot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Have you ever checked into a hot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What information do people usually fill into the form at the recep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What things do people usually take along when they trav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8137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 in your English Clubs groups; create dialogues and practic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4000" y="1844280"/>
            <a:ext cx="8135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t the airport coun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Between the receptionist and the guest  to check i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Between th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receptionist and the guest  to make a complaint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hank infom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80" y="1125360"/>
            <a:ext cx="930924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Send your  answers  to</a:t>
            </a:r>
            <a:br>
              <a:rPr sz="4400"/>
            </a:br>
            <a:br>
              <a:rPr sz="5400"/>
            </a:b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inglescubatv@infomed.sld.cu 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Phr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0920" y="148392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n I help yo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 you have any sea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ck-in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ect f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t me 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 in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ord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4000" y="76500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ir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r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-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ir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t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Wor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1484280"/>
            <a:ext cx="4392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dir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in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sea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fl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24240" y="6202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Defini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11280" y="1304640"/>
            <a:ext cx="4608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) better but more expensive travel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) spaces for passengers to s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) company that arranges tra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Vocabulary  expa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000" y="119664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heck-i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heck- in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heck-in counter  (Am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heck.-in desk (Br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heck into sth. : Arrive at a place to st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t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Wor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560" y="1484280"/>
            <a:ext cx="4392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economy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business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ravel ag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4240" y="6202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Defini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4360" y="1125000"/>
            <a:ext cx="4608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) non-st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) confirm or make 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) early or not 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) cheap and usually less comfortable passenger sea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) aircraft making a jour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071720" y="0"/>
            <a:ext cx="763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ANSWER 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3" descr="j0297265"/>
          <p:cNvPicPr/>
          <p:nvPr/>
        </p:nvPicPr>
        <p:blipFill>
          <a:blip r:embed="rId1"/>
          <a:stretch/>
        </p:blipFill>
        <p:spPr>
          <a:xfrm>
            <a:off x="2786040" y="392904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Answer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119664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ffffff"/>
                </a:solidFill>
                <a:uFillTx/>
                <a:latin typeface="Times New Roman"/>
              </a:rPr>
              <a:t>direct: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non-st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heck: 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nfirm or make su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ffffff"/>
                </a:solidFill>
                <a:uFillTx/>
                <a:latin typeface="Times New Roman"/>
              </a:rPr>
              <a:t>in time: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arly or not la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ffffff"/>
                </a:solidFill>
                <a:uFillTx/>
                <a:latin typeface="Times New Roman"/>
              </a:rPr>
              <a:t>seats: </a:t>
            </a:r>
            <a:r>
              <a:rPr b="0" lang="da-DK" sz="4400" spc="-1" strike="noStrike">
                <a:solidFill>
                  <a:srgbClr val="ffffff"/>
                </a:solidFill>
                <a:latin typeface="Times New Roman"/>
              </a:rPr>
              <a:t>spaces for passengers to s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ffffff"/>
                </a:solidFill>
                <a:uFillTx/>
                <a:latin typeface="Times New Roman"/>
              </a:rPr>
              <a:t>flight: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ircraft making a journe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ora &amp; Garbey</dc:creator>
  <dc:description/>
  <dc:language>en-US</dc:language>
  <cp:lastModifiedBy>Och</cp:lastModifiedBy>
  <dcterms:modified xsi:type="dcterms:W3CDTF">2016-02-29T06:18:14Z</dcterms:modified>
  <cp:revision>88</cp:revision>
  <dc:subject/>
  <dc:title>PowerPoint Presentation</dc:title>
</cp:coreProperties>
</file>