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631-D107-4BB3-BAFE-2B0759F1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405-6452-4210-8C81-C0BE5CDA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21D-88CC-4573-8114-19308225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CE3-02A9-4838-A8EC-B7EC0F74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762-A848-40BD-926B-D97D0C3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382-F6E1-44F9-B717-4FB5D78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729-D1B5-4562-A913-B00ED485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EC9-6F3C-4E40-BC22-D4917D0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28C-CFE8-463E-A5C1-CCA1F6C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41E-73B3-46E1-A730-3BCCFBE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F70-E505-49D2-B642-9F55BB9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AA0-750D-4999-81EF-F0FD72D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8359-6C95-4716-AEFA-07D5BAE0BA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1069006.C_S_Lewis" TargetMode="External"/><Relationship Id="rId2" Type="http://schemas.openxmlformats.org/officeDocument/2006/relationships/hyperlink" Target="http://www.goodreads.com/author/show/1069006.C_S_Lewis" TargetMode="External"/><Relationship Id="rId3" Type="http://schemas.openxmlformats.org/officeDocument/2006/relationships/hyperlink" Target="http://www.goodreads.com/author/show/1069006.C_S_Lewis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84360" y="836640"/>
            <a:ext cx="7632720" cy="374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Topic: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EDUCATION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12640"/>
            <a:ext cx="3809880" cy="504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werful weap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t down ju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rigate des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32000" y="1341360"/>
            <a:ext cx="403236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rma pot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alar los bosq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or siempre/ para siemp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educación verdade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rrigar desiert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412640"/>
            <a:ext cx="3809880" cy="504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dless  lo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ove 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invo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hi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32000" y="1341360"/>
            <a:ext cx="403236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involucr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infinito am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obstaculiz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sobre todas las cosas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412640"/>
            <a:ext cx="3809880" cy="504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-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- powerful weap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- true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- cut down ju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- irrigate des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00720" y="1341360"/>
            <a:ext cx="464328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rma potente   </a:t>
            </a:r>
            <a:r>
              <a:rPr b="0" lang="en-GB" sz="3600" spc="-1" strike="noStrike" u="sng">
                <a:solidFill>
                  <a:srgbClr val="ffc000"/>
                </a:solidFill>
                <a:uFillTx/>
                <a:latin typeface="Times New Roman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alar los bosques </a:t>
            </a:r>
            <a:r>
              <a:rPr b="0" lang="en-GB" sz="3600" spc="-1" strike="noStrike" u="sng">
                <a:solidFill>
                  <a:srgbClr val="ffc000"/>
                </a:solidFill>
                <a:uFillTx/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or siempre/ para siempre   </a:t>
            </a:r>
            <a:r>
              <a:rPr b="0" lang="en-GB" sz="3600" spc="-1" strike="noStrike" u="sng">
                <a:solidFill>
                  <a:srgbClr val="ffc000"/>
                </a:solidFill>
                <a:uFillTx/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educación verdadera  </a:t>
            </a:r>
            <a:r>
              <a:rPr b="0" lang="en-GB" sz="3600" spc="-1" strike="noStrike" u="sng">
                <a:solidFill>
                  <a:srgbClr val="ffc000"/>
                </a:solidFill>
                <a:uFillTx/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rrigar desiertos  </a:t>
            </a:r>
            <a:r>
              <a:rPr b="0" lang="en-GB" sz="3600" spc="-1" strike="noStrike" u="sng">
                <a:solidFill>
                  <a:srgbClr val="ffc000"/>
                </a:solidFill>
                <a:uFillTx/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412640"/>
            <a:ext cx="4105080" cy="504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.- endless 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7. above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8.- invol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9.- hi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32000" y="1341360"/>
            <a:ext cx="403236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involucrar   </a:t>
            </a:r>
            <a:r>
              <a:rPr b="0" lang="en-GB" sz="4000" spc="-1" strike="noStrike" u="sng">
                <a:solidFill>
                  <a:srgbClr val="ffc000"/>
                </a:solidFill>
                <a:uFillTx/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infinito amor  </a:t>
            </a:r>
            <a:r>
              <a:rPr b="0" lang="en-GB" sz="4000" spc="-1" strike="noStrike" u="sng">
                <a:solidFill>
                  <a:srgbClr val="ffc000"/>
                </a:solidFill>
                <a:uFillTx/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obstaculizar  </a:t>
            </a:r>
            <a:r>
              <a:rPr b="0" lang="en-GB" sz="4000" spc="-1" strike="noStrike" u="sng">
                <a:solidFill>
                  <a:srgbClr val="ffc000"/>
                </a:solidFill>
                <a:uFillTx/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sobre todas las cosas  </a:t>
            </a:r>
            <a:r>
              <a:rPr b="0" lang="en-GB" sz="4000" spc="-1" strike="noStrike" u="sng">
                <a:solidFill>
                  <a:srgbClr val="ffc000"/>
                </a:solidFill>
                <a:uFillTx/>
                <a:latin typeface="Times New Roman"/>
              </a:rPr>
              <a:t>7</a:t>
            </a:r>
            <a:br>
              <a:rPr sz="4000"/>
            </a:br>
            <a:r>
              <a:rPr b="0" lang="en-GB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lose u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 if you we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ie tomorrow. Learn as if you were to live forev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If  I____ his number I could phon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5600" indent="-70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5600" indent="-70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2.- If I were you I _____ study 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5600" indent="-70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5600" indent="-70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3.- Study as if the test_____ tomorrow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5600" indent="-7056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836640"/>
            <a:ext cx="8712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If  I 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d 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his number I could phon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2.- If I were you I 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would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 study 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3.- Study as if the test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 tomorrow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most powerful weap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you can use to change the worl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ARG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Underline the appropriate form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280" y="134100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.- Enrique J. Varona is one of (the most, more) important Cuban pedagogu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2.-  For me,  teaching is (the most, more) important profession for a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5280" y="134100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.- Enrique J. Varona is one of (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 most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, more) important Cuban pedagogu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2.-  For me,  teaching is (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 most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, more) important profession for a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5280" y="1268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ing the mi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educating the heart is no education at all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ac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… is above all a job of  endless 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971640" y="26028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The use of ing-forms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vide the missing word according to the con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You can find useful information in books. So _________ is very important to  increase culture, although some people prefer ___________ audiovisual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( learning, reading, listening, watch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You can find useful information in books. So 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ading 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is very important to  increase culture, although some people prefer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ing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audiovisual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actic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Provide at least two other examples of your ow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Prepositions  + -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ng the mi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ithout educat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rt is no education at all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ele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acticing is important for ( improve-improving) your language 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y ( listening –listen ) to songs you can develop your listening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´t be afraid of ( talking, talk) to your friends in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48428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Practicing is important for ( improve-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mproving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) your language  ski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.-By (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stening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–listen ) to songs you can develop your listening ski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3. Don´t be afraid of (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alking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, talk) to your friends in Engl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0880" y="404640"/>
            <a:ext cx="4352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riting an acros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o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ng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reativity</a:t>
            </a: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rd-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ag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tu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enerosity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 this lesson you wil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989000"/>
            <a:ext cx="835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xpand your  language hab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xpress your own ideas about education and teach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nglish Clu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1960"/>
            <a:ext cx="7772400" cy="863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o any of the following tasks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1052640"/>
            <a:ext cx="8353440" cy="568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Write  an acrostic poem to send to a teacher ( either your teacher or a relatives’s teach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Select an inspirational quotation and say briefly in English why you lik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Find other inspirational quotations in Engl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Create your own educational phrase(s) in Englis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80" y="1125360"/>
            <a:ext cx="93092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end your  answers  to</a:t>
            </a:r>
            <a:br>
              <a:rPr sz="4400"/>
            </a:br>
            <a:br>
              <a:rPr sz="5400"/>
            </a:b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inglescubatv@infomed.sld.cu 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FLASH BAC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- “Live as if you were to die tomorrow. Learn as if you were to live forever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. Gandhi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- “Education is the most powerful weapon which you can use to change the world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nd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- “Intelligence plus character-that is the goal of true education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.Luther King J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- “The task of the modern educator is not to cut down jungles, but to irrigate deserts.”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.S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w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- “Educating the mind without educating the heart is no education at all.”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Aristo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- “ Teaching … is above all a job of  endless  love.”                           Martí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280" y="333000"/>
            <a:ext cx="8947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- A teacher affects eternity; he can never tell where his influence st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ry B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8.- Tell me and I’ll forget; show me and I may remember; involve me and I’ll understand.</a:t>
            </a:r>
            <a:br>
              <a:rPr sz="36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Chinese pro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0. “Anyone can instruct, only a true living gospel (evangelio) can educate.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Luz y Caball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1.- “ Teach and you will have someone who knows; educate and you will have someone who does.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Simón Rodrígue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2.- Educating means eliminating  the obstacles that hinder thin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F. Var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acti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ora &amp; Garbey</dc:creator>
  <dc:description/>
  <dc:language>en-US</dc:language>
  <cp:lastModifiedBy>Och</cp:lastModifiedBy>
  <dcterms:modified xsi:type="dcterms:W3CDTF">2016-02-29T05:02:14Z</dcterms:modified>
  <cp:revision>140</cp:revision>
  <dc:subject/>
  <dc:title>PowerPoint Presentation</dc:title>
</cp:coreProperties>
</file>